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228600"/>
            <a:ext cx="914400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572280"/>
            <a:ext cx="914400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228600"/>
            <a:ext cx="446220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6640" y="228600"/>
            <a:ext cx="446220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572280"/>
            <a:ext cx="446220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6640" y="3572280"/>
            <a:ext cx="446220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228600"/>
            <a:ext cx="294408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72560" y="228600"/>
            <a:ext cx="294408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64240" y="228600"/>
            <a:ext cx="294408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572280"/>
            <a:ext cx="294408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72560" y="3572280"/>
            <a:ext cx="294408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64240" y="3572280"/>
            <a:ext cx="294408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228600"/>
            <a:ext cx="446220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6640" y="228600"/>
            <a:ext cx="446220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28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228600"/>
            <a:ext cx="446220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6640" y="228600"/>
            <a:ext cx="446220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572280"/>
            <a:ext cx="446220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228600"/>
            <a:ext cx="446220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6640" y="228600"/>
            <a:ext cx="446220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6640" y="3572280"/>
            <a:ext cx="446220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228600"/>
            <a:ext cx="446220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6640" y="228600"/>
            <a:ext cx="446220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572280"/>
            <a:ext cx="914400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274680" y="655956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86E3-C2A9-4E04-82F0-27A7B1D7F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-2160" y="6589800"/>
            <a:ext cx="104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er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635040"/>
                <a:tab algn="ctr" pos="4457880"/>
                <a:tab algn="r" pos="89154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 332: Principles of Databas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635040"/>
                <a:tab algn="ctr" pos="4457880"/>
                <a:tab algn="r" pos="89154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est 2 — Sample Solu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635040"/>
                <a:tab algn="ctr" pos="4457880"/>
                <a:tab algn="r" pos="89154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4, 200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 minute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Valu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 10% of course ma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635040"/>
                <a:tab algn="ctr" pos="4457880"/>
                <a:tab algn="r" pos="89154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635040"/>
                <a:tab algn="ctr" pos="4457880"/>
                <a:tab algn="r" pos="89154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each statement, state whether you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gre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disagre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with it. Also briefly explain, in a few sentenc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with justifica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why you agree or disagree. Each correct answer is worth 6 mark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635040"/>
                <a:tab algn="ctr" pos="4457880"/>
                <a:tab algn="r" pos="89154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635040"/>
                <a:tab algn="ctr" pos="4457880"/>
                <a:tab algn="r" pos="89154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verbs or verb phrases in a problem description represent only relationships of the conceptual sche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635040"/>
                <a:tab algn="ctr" pos="4457880"/>
                <a:tab algn="r" pos="89154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c0128"/>
                </a:solidFill>
                <a:latin typeface="Times New Roman"/>
              </a:rPr>
              <a:t>DISAGRE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he verbs and verb phrases can also represent actions that are required to be performed by people or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y application programs. That is why we need to check that all the potential relationships that we have identified ar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fact relationships that should be present in the conceptual sche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635040"/>
                <a:tab algn="ctr" pos="4457880"/>
                <a:tab algn="r" pos="89154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635040"/>
                <a:tab algn="ctr" pos="4457880"/>
                <a:tab algn="r" pos="89154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en doing conceptual schema design using forms, identifying the areas of a form helps us determine the entitie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at the form represe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635040"/>
                <a:tab algn="ctr" pos="4457880"/>
                <a:tab algn="r" pos="89154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c0128"/>
                </a:solidFill>
                <a:latin typeface="Times New Roman"/>
              </a:rPr>
              <a:t>AGRE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n area of a form represents concepts of the application domain that are closely related to each other. That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 why they are placed together on the form! These concepts are likely to be attributes of one or more entities in th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ceptual sche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635040"/>
                <a:tab algn="ctr" pos="4457880"/>
                <a:tab algn="r" pos="89154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635040"/>
                <a:tab algn="ctr" pos="4457880"/>
                <a:tab algn="r" pos="89154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en doing view integration, it is sometimes necessary to introduce an interschema constraint in order to resolv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ructural conflic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635040"/>
                <a:tab algn="ctr" pos="4457880"/>
                <a:tab algn="r" pos="89154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c0128"/>
                </a:solidFill>
                <a:latin typeface="Times New Roman"/>
              </a:rPr>
              <a:t>DISAGRE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n interschema constraint is introduced to resolve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ame conflict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not structural conflic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535560" y="5568840"/>
            <a:ext cx="28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Schema 2: Focused on special tri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028880" y="3897360"/>
            <a:ext cx="7848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es-consultant(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employee#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name, </a:t>
            </a:r>
            <a:r>
              <a:rPr b="0" lang="en-US" sz="1200" spc="-1" strike="noStrike">
                <a:solidFill>
                  <a:srgbClr val="fc0128"/>
                </a:solidFill>
                <a:latin typeface="Times New Roman"/>
              </a:rPr>
              <a:t>addres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tomer(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customer-i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name, address, phone#, </a:t>
            </a:r>
            <a:r>
              <a:rPr b="0" lang="en-US" sz="1200" spc="-1" strike="noStrike">
                <a:solidFill>
                  <a:srgbClr val="fc0128"/>
                </a:solidFill>
                <a:latin typeface="Times New Roman"/>
              </a:rPr>
              <a:t>fax#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mobile#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-trip(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reference-numb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date-arrang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el(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address, fax-numb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el-booking(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reservation#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first-day, last-day, room-type, room-rate, leg-number, date-made, description, amount, depos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line(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phone#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line-booking(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reservation#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leg-number, date-made, description, amount, deposit, airport, departure-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over(arrival-time, departure-time, airpo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552680" y="287280"/>
            <a:ext cx="6800760" cy="3218040"/>
            <a:chOff x="1552680" y="287280"/>
            <a:chExt cx="6800760" cy="3218040"/>
          </a:xfrm>
        </p:grpSpPr>
        <p:sp>
          <p:nvSpPr>
            <p:cNvPr id="294" name=""/>
            <p:cNvSpPr/>
            <p:nvPr/>
          </p:nvSpPr>
          <p:spPr>
            <a:xfrm flipH="1">
              <a:off x="7509600" y="1276200"/>
              <a:ext cx="8082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Airline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book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3033720" y="1251000"/>
              <a:ext cx="876240" cy="41904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Books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hote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7319880" y="1235160"/>
              <a:ext cx="18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184880" y="138420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1587600" y="1276200"/>
              <a:ext cx="80784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Hote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book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5991120" y="1251000"/>
              <a:ext cx="876240" cy="41904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Books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airlin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0" name=""/>
            <p:cNvCxnSpPr>
              <a:stCxn id="294" idx="1"/>
              <a:endCxn id="299" idx="1"/>
            </p:cNvCxnSpPr>
            <p:nvPr/>
          </p:nvCxnSpPr>
          <p:spPr>
            <a:xfrm flipH="1">
              <a:off x="6866640" y="1458720"/>
              <a:ext cx="6454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301" name=""/>
            <p:cNvCxnSpPr>
              <a:stCxn id="299" idx="3"/>
              <a:endCxn id="302" idx="3"/>
            </p:cNvCxnSpPr>
            <p:nvPr/>
          </p:nvCxnSpPr>
          <p:spPr>
            <a:xfrm flipH="1">
              <a:off x="5346360" y="1458720"/>
              <a:ext cx="6451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303" name=""/>
            <p:cNvCxnSpPr>
              <a:stCxn id="302" idx="1"/>
              <a:endCxn id="295" idx="1"/>
            </p:cNvCxnSpPr>
            <p:nvPr/>
          </p:nvCxnSpPr>
          <p:spPr>
            <a:xfrm flipH="1">
              <a:off x="3909600" y="1458720"/>
              <a:ext cx="6292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304" name=""/>
            <p:cNvCxnSpPr>
              <a:stCxn id="295" idx="3"/>
              <a:endCxn id="298" idx="3"/>
            </p:cNvCxnSpPr>
            <p:nvPr/>
          </p:nvCxnSpPr>
          <p:spPr>
            <a:xfrm flipH="1">
              <a:off x="2396880" y="1458720"/>
              <a:ext cx="63720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305" name=""/>
            <p:cNvSpPr/>
            <p:nvPr/>
          </p:nvSpPr>
          <p:spPr>
            <a:xfrm flipH="1">
              <a:off x="5354640" y="1239840"/>
              <a:ext cx="18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4353840" y="1235160"/>
              <a:ext cx="183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2398680" y="1235160"/>
              <a:ext cx="18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3063960" y="336600"/>
              <a:ext cx="80784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Sales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onsulta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16200" y="138420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4502880" y="2181240"/>
              <a:ext cx="876600" cy="419040"/>
            </a:xfrm>
            <a:prstGeom prst="diamond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c0128"/>
                  </a:solidFill>
                  <a:latin typeface="Times New Roman"/>
                </a:rPr>
                <a:t>Buy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4948200" y="1646280"/>
              <a:ext cx="18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c0128"/>
                  </a:solidFill>
                  <a:latin typeface="Times New Roman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3872880" y="287280"/>
              <a:ext cx="183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c0128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>
              <a:stCxn id="302" idx="2"/>
              <a:endCxn id="310" idx="0"/>
            </p:cNvCxnSpPr>
            <p:nvPr/>
          </p:nvCxnSpPr>
          <p:spPr>
            <a:xfrm>
              <a:off x="4941360" y="1642680"/>
              <a:ext cx="1080" cy="538920"/>
            </a:xfrm>
            <a:prstGeom prst="straightConnector1">
              <a:avLst/>
            </a:prstGeom>
            <a:ln w="12600">
              <a:solidFill>
                <a:srgbClr val="fc0128"/>
              </a:solidFill>
              <a:miter/>
            </a:ln>
          </p:spPr>
        </p:cxnSp>
        <p:sp>
          <p:nvSpPr>
            <p:cNvPr id="314" name=""/>
            <p:cNvSpPr/>
            <p:nvPr/>
          </p:nvSpPr>
          <p:spPr>
            <a:xfrm flipH="1">
              <a:off x="4536360" y="3137040"/>
              <a:ext cx="8082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5" name=""/>
            <p:cNvCxnSpPr>
              <a:stCxn id="310" idx="2"/>
              <a:endCxn id="314" idx="0"/>
            </p:cNvCxnSpPr>
            <p:nvPr/>
          </p:nvCxnSpPr>
          <p:spPr>
            <a:xfrm>
              <a:off x="4941360" y="2598480"/>
              <a:ext cx="1080" cy="538920"/>
            </a:xfrm>
            <a:prstGeom prst="straightConnector1">
              <a:avLst/>
            </a:prstGeom>
            <a:ln w="12600">
              <a:solidFill>
                <a:srgbClr val="fc0128"/>
              </a:solidFill>
              <a:miter/>
            </a:ln>
          </p:spPr>
        </p:cxnSp>
        <p:sp>
          <p:nvSpPr>
            <p:cNvPr id="302" name=""/>
            <p:cNvSpPr/>
            <p:nvPr/>
          </p:nvSpPr>
          <p:spPr>
            <a:xfrm flipH="1">
              <a:off x="4536360" y="1276200"/>
              <a:ext cx="80820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Specia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ri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4938120" y="2911320"/>
              <a:ext cx="183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c0128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7477200" y="2181240"/>
              <a:ext cx="876240" cy="41904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With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airlin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7921080" y="1646280"/>
              <a:ext cx="183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9" name=""/>
            <p:cNvCxnSpPr>
              <a:stCxn id="294" idx="2"/>
              <a:endCxn id="317" idx="0"/>
            </p:cNvCxnSpPr>
            <p:nvPr/>
          </p:nvCxnSpPr>
          <p:spPr>
            <a:xfrm>
              <a:off x="7914960" y="1642680"/>
              <a:ext cx="1080" cy="538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320" name=""/>
            <p:cNvSpPr/>
            <p:nvPr/>
          </p:nvSpPr>
          <p:spPr>
            <a:xfrm flipH="1">
              <a:off x="7509600" y="3137040"/>
              <a:ext cx="8082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Airlin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21" name=""/>
            <p:cNvCxnSpPr>
              <a:stCxn id="317" idx="2"/>
              <a:endCxn id="320" idx="0"/>
            </p:cNvCxnSpPr>
            <p:nvPr/>
          </p:nvCxnSpPr>
          <p:spPr>
            <a:xfrm>
              <a:off x="7914960" y="2598480"/>
              <a:ext cx="1080" cy="538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322" name=""/>
            <p:cNvSpPr/>
            <p:nvPr/>
          </p:nvSpPr>
          <p:spPr>
            <a:xfrm flipH="1">
              <a:off x="7912080" y="2911320"/>
              <a:ext cx="18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7838640" y="286848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1552680" y="2181240"/>
              <a:ext cx="876240" cy="41904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With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hote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1996920" y="1646280"/>
              <a:ext cx="18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26" name=""/>
            <p:cNvCxnSpPr>
              <a:stCxn id="298" idx="2"/>
              <a:endCxn id="324" idx="0"/>
            </p:cNvCxnSpPr>
            <p:nvPr/>
          </p:nvCxnSpPr>
          <p:spPr>
            <a:xfrm flipH="1">
              <a:off x="1990440" y="1642680"/>
              <a:ext cx="2160" cy="538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327" name=""/>
            <p:cNvSpPr/>
            <p:nvPr/>
          </p:nvSpPr>
          <p:spPr>
            <a:xfrm flipH="1">
              <a:off x="1585080" y="3137040"/>
              <a:ext cx="8082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Hote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28" name=""/>
            <p:cNvCxnSpPr>
              <a:stCxn id="324" idx="2"/>
              <a:endCxn id="327" idx="0"/>
            </p:cNvCxnSpPr>
            <p:nvPr/>
          </p:nvCxnSpPr>
          <p:spPr>
            <a:xfrm>
              <a:off x="1990440" y="2598480"/>
              <a:ext cx="1080" cy="538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329" name=""/>
            <p:cNvSpPr/>
            <p:nvPr/>
          </p:nvSpPr>
          <p:spPr>
            <a:xfrm flipH="1">
              <a:off x="1987560" y="2911320"/>
              <a:ext cx="18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1914120" y="286848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7466760" y="316080"/>
              <a:ext cx="876600" cy="41904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Stops-a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2" name=""/>
            <p:cNvCxnSpPr>
              <a:stCxn id="331" idx="3"/>
              <a:endCxn id="333" idx="3"/>
            </p:cNvCxnSpPr>
            <p:nvPr/>
          </p:nvCxnSpPr>
          <p:spPr>
            <a:xfrm flipH="1">
              <a:off x="6842880" y="523440"/>
              <a:ext cx="62460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334" name=""/>
            <p:cNvSpPr/>
            <p:nvPr/>
          </p:nvSpPr>
          <p:spPr>
            <a:xfrm flipH="1">
              <a:off x="6831000" y="304920"/>
              <a:ext cx="18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6014160" y="341280"/>
              <a:ext cx="808200" cy="368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Stopov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7838640" y="100476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6" name=""/>
            <p:cNvCxnSpPr>
              <a:stCxn id="331" idx="2"/>
              <a:endCxn id="294" idx="0"/>
            </p:cNvCxnSpPr>
            <p:nvPr/>
          </p:nvCxnSpPr>
          <p:spPr>
            <a:xfrm>
              <a:off x="7905240" y="733320"/>
              <a:ext cx="10440" cy="5436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337" name=""/>
            <p:cNvSpPr/>
            <p:nvPr/>
          </p:nvSpPr>
          <p:spPr>
            <a:xfrm flipH="1">
              <a:off x="7905600" y="1052640"/>
              <a:ext cx="18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4176720" y="1413000"/>
              <a:ext cx="93600" cy="93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5621400" y="1414440"/>
              <a:ext cx="93600" cy="93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4896000" y="1865160"/>
              <a:ext cx="93600" cy="93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7097760" y="477720"/>
              <a:ext cx="93600" cy="93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1944720" y="1865160"/>
              <a:ext cx="93600" cy="93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7867800" y="1865160"/>
              <a:ext cx="93600" cy="93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502160" y="311040"/>
              <a:ext cx="876240" cy="419040"/>
            </a:xfrm>
            <a:prstGeom prst="diamond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c0128"/>
                  </a:solidFill>
                  <a:latin typeface="Times New Roman"/>
                </a:rPr>
                <a:t>Book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5" name=""/>
            <p:cNvCxnSpPr>
              <a:stCxn id="308" idx="3"/>
              <a:endCxn id="344" idx="3"/>
            </p:cNvCxnSpPr>
            <p:nvPr/>
          </p:nvCxnSpPr>
          <p:spPr>
            <a:xfrm>
              <a:off x="3873600" y="518760"/>
              <a:ext cx="629280" cy="1080"/>
            </a:xfrm>
            <a:prstGeom prst="straightConnector1">
              <a:avLst/>
            </a:prstGeom>
            <a:ln w="12600">
              <a:solidFill>
                <a:srgbClr val="fc0128"/>
              </a:solidFill>
              <a:miter/>
            </a:ln>
          </p:spPr>
        </p:cxnSp>
        <p:cxnSp>
          <p:nvCxnSpPr>
            <p:cNvPr id="346" name=""/>
            <p:cNvCxnSpPr>
              <a:stCxn id="344" idx="2"/>
              <a:endCxn id="302" idx="0"/>
            </p:cNvCxnSpPr>
            <p:nvPr/>
          </p:nvCxnSpPr>
          <p:spPr>
            <a:xfrm>
              <a:off x="4940280" y="728280"/>
              <a:ext cx="2160" cy="548280"/>
            </a:xfrm>
            <a:prstGeom prst="straightConnector1">
              <a:avLst/>
            </a:prstGeom>
            <a:ln w="12600">
              <a:solidFill>
                <a:srgbClr val="fc0128"/>
              </a:solidFill>
              <a:miter/>
            </a:ln>
          </p:spPr>
        </p:cxnSp>
        <p:sp>
          <p:nvSpPr>
            <p:cNvPr id="347" name=""/>
            <p:cNvSpPr/>
            <p:nvPr/>
          </p:nvSpPr>
          <p:spPr>
            <a:xfrm>
              <a:off x="4186080" y="444600"/>
              <a:ext cx="0" cy="1508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4892760" y="955800"/>
              <a:ext cx="93600" cy="93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4854240" y="2805120"/>
              <a:ext cx="15084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4934880" y="1042920"/>
              <a:ext cx="183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c0128"/>
                  </a:solidFill>
                  <a:latin typeface="Times New Roman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8088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635040"/>
                <a:tab algn="l" pos="914400"/>
                <a:tab algn="l" pos="22860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grate the two schem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635040"/>
                <a:tab algn="l" pos="914400"/>
                <a:tab algn="l" pos="22860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e see that Packaged-trip and Special-trip both have two common relationships, namely Books and Buys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refore, in the integrated schema these two relationships should move to their super-entity Trip. As a consequenc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this adjustment in the relationships, we need to change the existence constraint of the Buys relationship on th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ip side to be mandatory, since a customer is only one if they have bought at least one trip. Note that the Book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lationship on the Trip side still remains optional since a sales consultant may not have booked any trips for a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stomer ye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635040"/>
                <a:tab algn="l" pos="914400"/>
                <a:tab algn="l" pos="22860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urthermore, in keeping with the stated requirement of reducing conceptual data redundancy in the integrated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a, we also recognize that Hotel-booking and Airline-booking are a kind of Booking and introduce this entity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o the final schema. In fact, if one considers the attributes of these two entities, one can see that they have many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tributes in common, which need to be expressed only once in the Booking entity in the final sche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635040"/>
                <a:tab algn="l" pos="914400"/>
                <a:tab algn="l" pos="22860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635040"/>
                <a:tab algn="l" pos="914400"/>
                <a:tab algn="l" pos="22860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ttribu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635040"/>
                <a:tab algn="l" pos="914400"/>
                <a:tab algn="l" pos="22860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ales-consultant(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employee#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name, addres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635040"/>
                <a:tab algn="l" pos="914400"/>
                <a:tab algn="l" pos="22860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stomer(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customer-i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name, address, phone#, fax#, mobile#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635040"/>
                <a:tab algn="l" pos="914400"/>
                <a:tab algn="l" pos="22860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ip(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reference-numbe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date-arrang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635040"/>
                <a:tab algn="l" pos="914400"/>
                <a:tab algn="l" pos="22860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ckaged-trip(deposi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635040"/>
                <a:tab algn="l" pos="914400"/>
                <a:tab algn="l" pos="22860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ecial-trip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635040"/>
                <a:tab algn="l" pos="914400"/>
                <a:tab algn="l" pos="22860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ckaged-tour(agency-name, tour-name, start-date, cos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635040"/>
                <a:tab algn="l" pos="914400"/>
                <a:tab algn="l" pos="22860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tra(description, cost, deposi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635040"/>
                <a:tab algn="l" pos="914400"/>
                <a:tab algn="l" pos="22860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oking(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reservation#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leg-number, date-made, description, amount, deposi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635040"/>
                <a:tab algn="l" pos="914400"/>
                <a:tab algn="l" pos="22860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tel-booking(first-day, last-day, room-type, room-ra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635040"/>
                <a:tab algn="l" pos="914400"/>
                <a:tab algn="l" pos="22860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irline-booking(airport, departure-tim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635040"/>
                <a:tab algn="l" pos="914400"/>
                <a:tab algn="l" pos="22860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tel(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address, fax-numb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635040"/>
                <a:tab algn="l" pos="914400"/>
                <a:tab algn="l" pos="22860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irline(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phone#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635040"/>
                <a:tab algn="l" pos="914400"/>
                <a:tab algn="l" pos="22860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opover(arrival-time, departure-time, airpor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635040"/>
                <a:tab algn="l" pos="914400"/>
                <a:tab algn="l" pos="22860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380880" y="2282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ER dia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231920" y="685800"/>
            <a:ext cx="8445240" cy="4927680"/>
            <a:chOff x="1231920" y="685800"/>
            <a:chExt cx="8445240" cy="4927680"/>
          </a:xfrm>
        </p:grpSpPr>
        <p:sp>
          <p:nvSpPr>
            <p:cNvPr id="354" name=""/>
            <p:cNvSpPr/>
            <p:nvPr/>
          </p:nvSpPr>
          <p:spPr>
            <a:xfrm>
              <a:off x="1812960" y="743040"/>
              <a:ext cx="80784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Sales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onsulta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213600" y="717480"/>
              <a:ext cx="876240" cy="41904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Buy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624040" y="685800"/>
              <a:ext cx="18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26320" y="743040"/>
              <a:ext cx="8082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767120" y="743040"/>
              <a:ext cx="8082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ri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255840" y="717480"/>
              <a:ext cx="876600" cy="41904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Book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0" name=""/>
            <p:cNvCxnSpPr>
              <a:stCxn id="354" idx="3"/>
              <a:endCxn id="359" idx="1"/>
            </p:cNvCxnSpPr>
            <p:nvPr/>
          </p:nvCxnSpPr>
          <p:spPr>
            <a:xfrm>
              <a:off x="2620800" y="926640"/>
              <a:ext cx="6357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361" name=""/>
            <p:cNvCxnSpPr>
              <a:stCxn id="359" idx="3"/>
              <a:endCxn id="358" idx="1"/>
            </p:cNvCxnSpPr>
            <p:nvPr/>
          </p:nvCxnSpPr>
          <p:spPr>
            <a:xfrm>
              <a:off x="4132080" y="926640"/>
              <a:ext cx="63540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362" name=""/>
            <p:cNvCxnSpPr>
              <a:stCxn id="358" idx="3"/>
              <a:endCxn id="355" idx="1"/>
            </p:cNvCxnSpPr>
            <p:nvPr/>
          </p:nvCxnSpPr>
          <p:spPr>
            <a:xfrm>
              <a:off x="5574960" y="926640"/>
              <a:ext cx="63900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363" name=""/>
            <p:cNvCxnSpPr>
              <a:stCxn id="355" idx="3"/>
              <a:endCxn id="357" idx="1"/>
            </p:cNvCxnSpPr>
            <p:nvPr/>
          </p:nvCxnSpPr>
          <p:spPr>
            <a:xfrm>
              <a:off x="7089840" y="926640"/>
              <a:ext cx="63720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364" name=""/>
            <p:cNvSpPr/>
            <p:nvPr/>
          </p:nvSpPr>
          <p:spPr>
            <a:xfrm>
              <a:off x="4572000" y="687240"/>
              <a:ext cx="18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580000" y="687240"/>
              <a:ext cx="18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535880" y="695160"/>
              <a:ext cx="183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938320" y="85104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407360" y="85104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402080" y="879480"/>
              <a:ext cx="93600" cy="93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86080" y="1644480"/>
              <a:ext cx="808200" cy="368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Packaged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ri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231920" y="2328840"/>
              <a:ext cx="80784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Package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ou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043000" y="2273400"/>
              <a:ext cx="18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674800" y="2303640"/>
              <a:ext cx="876600" cy="41904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nclud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4" name=""/>
            <p:cNvCxnSpPr>
              <a:stCxn id="371" idx="3"/>
              <a:endCxn id="373" idx="1"/>
            </p:cNvCxnSpPr>
            <p:nvPr/>
          </p:nvCxnSpPr>
          <p:spPr>
            <a:xfrm>
              <a:off x="2039760" y="2512800"/>
              <a:ext cx="6357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375" name=""/>
            <p:cNvSpPr/>
            <p:nvPr/>
          </p:nvSpPr>
          <p:spPr>
            <a:xfrm>
              <a:off x="2674800" y="2933640"/>
              <a:ext cx="876600" cy="41904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Has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extr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231920" y="2959200"/>
              <a:ext cx="807840" cy="368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Extr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7" name=""/>
            <p:cNvCxnSpPr>
              <a:stCxn id="375" idx="1"/>
              <a:endCxn id="376" idx="3"/>
            </p:cNvCxnSpPr>
            <p:nvPr/>
          </p:nvCxnSpPr>
          <p:spPr>
            <a:xfrm flipH="1">
              <a:off x="2058120" y="3142800"/>
              <a:ext cx="6166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378" name=""/>
            <p:cNvSpPr/>
            <p:nvPr/>
          </p:nvSpPr>
          <p:spPr>
            <a:xfrm>
              <a:off x="2044800" y="2917800"/>
              <a:ext cx="183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309760" y="3095640"/>
              <a:ext cx="93600" cy="93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541680" y="2011320"/>
              <a:ext cx="880920" cy="500040"/>
            </a:xfrm>
            <a:custGeom>
              <a:avLst/>
              <a:gdLst/>
              <a:ahLst/>
              <a:rect l="l" t="t" r="r" b="b"/>
              <a:pathLst>
                <a:path w="555" h="315">
                  <a:moveTo>
                    <a:pt x="0" y="315"/>
                  </a:moveTo>
                  <a:lnTo>
                    <a:pt x="555" y="315"/>
                  </a:lnTo>
                  <a:lnTo>
                    <a:pt x="55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524400" y="2014560"/>
              <a:ext cx="1230120" cy="1128600"/>
            </a:xfrm>
            <a:custGeom>
              <a:avLst/>
              <a:gdLst/>
              <a:ahLst/>
              <a:rect l="l" t="t" r="r" b="b"/>
              <a:pathLst>
                <a:path w="555" h="315">
                  <a:moveTo>
                    <a:pt x="0" y="315"/>
                  </a:moveTo>
                  <a:lnTo>
                    <a:pt x="555" y="315"/>
                  </a:lnTo>
                  <a:lnTo>
                    <a:pt x="55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376880" y="2265480"/>
              <a:ext cx="93600" cy="93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357280" y="243684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4679640" y="231300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229280" y="2008080"/>
              <a:ext cx="183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62440" y="2011320"/>
              <a:ext cx="18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099040" y="1252440"/>
              <a:ext cx="144360" cy="144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8" name=""/>
            <p:cNvCxnSpPr>
              <a:stCxn id="387" idx="0"/>
              <a:endCxn id="358" idx="2"/>
            </p:cNvCxnSpPr>
            <p:nvPr/>
          </p:nvCxnSpPr>
          <p:spPr>
            <a:xfrm flipV="1">
              <a:off x="5171760" y="1110960"/>
              <a:ext cx="1080" cy="141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389" name=""/>
            <p:cNvCxnSpPr>
              <a:stCxn id="387" idx="3"/>
              <a:endCxn id="370" idx="0"/>
            </p:cNvCxnSpPr>
            <p:nvPr/>
          </p:nvCxnSpPr>
          <p:spPr>
            <a:xfrm flipH="1">
              <a:off x="4590720" y="1375920"/>
              <a:ext cx="529200" cy="268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390" name=""/>
            <p:cNvCxnSpPr>
              <a:stCxn id="387" idx="5"/>
              <a:endCxn id="391" idx="0"/>
            </p:cNvCxnSpPr>
            <p:nvPr/>
          </p:nvCxnSpPr>
          <p:spPr>
            <a:xfrm>
              <a:off x="5222520" y="1375920"/>
              <a:ext cx="524160" cy="275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392" name=""/>
            <p:cNvSpPr/>
            <p:nvPr/>
          </p:nvSpPr>
          <p:spPr>
            <a:xfrm rot="18019800">
              <a:off x="5320080" y="13590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3506400">
              <a:off x="4695840" y="137016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5917320" y="4394160"/>
              <a:ext cx="8082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Airline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book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4766400" y="4394160"/>
              <a:ext cx="8082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Hote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book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7358040" y="4368960"/>
              <a:ext cx="876240" cy="41904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With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airlin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6716160" y="4343400"/>
              <a:ext cx="183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8" name=""/>
            <p:cNvCxnSpPr>
              <a:stCxn id="394" idx="3"/>
              <a:endCxn id="396" idx="3"/>
            </p:cNvCxnSpPr>
            <p:nvPr/>
          </p:nvCxnSpPr>
          <p:spPr>
            <a:xfrm>
              <a:off x="6727320" y="4576320"/>
              <a:ext cx="6310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399" name=""/>
            <p:cNvSpPr/>
            <p:nvPr/>
          </p:nvSpPr>
          <p:spPr>
            <a:xfrm flipH="1">
              <a:off x="8868600" y="4394160"/>
              <a:ext cx="8082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Airlin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0" name=""/>
            <p:cNvCxnSpPr>
              <a:stCxn id="396" idx="1"/>
              <a:endCxn id="399" idx="1"/>
            </p:cNvCxnSpPr>
            <p:nvPr/>
          </p:nvCxnSpPr>
          <p:spPr>
            <a:xfrm>
              <a:off x="8233920" y="4576320"/>
              <a:ext cx="6375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401" name=""/>
            <p:cNvSpPr/>
            <p:nvPr/>
          </p:nvSpPr>
          <p:spPr>
            <a:xfrm flipH="1">
              <a:off x="8678160" y="4330800"/>
              <a:ext cx="183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551800" y="450216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3255120" y="4368960"/>
              <a:ext cx="876600" cy="41904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With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hote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4576680" y="4343400"/>
              <a:ext cx="18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5" name=""/>
            <p:cNvCxnSpPr>
              <a:stCxn id="395" idx="1"/>
              <a:endCxn id="403" idx="1"/>
            </p:cNvCxnSpPr>
            <p:nvPr/>
          </p:nvCxnSpPr>
          <p:spPr>
            <a:xfrm flipH="1">
              <a:off x="4132080" y="4576320"/>
              <a:ext cx="63720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406" name=""/>
            <p:cNvSpPr/>
            <p:nvPr/>
          </p:nvSpPr>
          <p:spPr>
            <a:xfrm flipH="1">
              <a:off x="1812960" y="4394160"/>
              <a:ext cx="80784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Hote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7" name=""/>
            <p:cNvCxnSpPr>
              <a:stCxn id="403" idx="3"/>
              <a:endCxn id="406" idx="3"/>
            </p:cNvCxnSpPr>
            <p:nvPr/>
          </p:nvCxnSpPr>
          <p:spPr>
            <a:xfrm flipH="1">
              <a:off x="2621880" y="4576320"/>
              <a:ext cx="6339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408" name=""/>
            <p:cNvSpPr/>
            <p:nvPr/>
          </p:nvSpPr>
          <p:spPr>
            <a:xfrm flipH="1">
              <a:off x="2620800" y="4343400"/>
              <a:ext cx="18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938320" y="448308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5884920" y="5194440"/>
              <a:ext cx="876240" cy="41904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Stops-a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11" name=""/>
            <p:cNvCxnSpPr>
              <a:stCxn id="410" idx="1"/>
              <a:endCxn id="412" idx="1"/>
            </p:cNvCxnSpPr>
            <p:nvPr/>
          </p:nvCxnSpPr>
          <p:spPr>
            <a:xfrm>
              <a:off x="6761160" y="5401800"/>
              <a:ext cx="6055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413" name=""/>
            <p:cNvSpPr/>
            <p:nvPr/>
          </p:nvSpPr>
          <p:spPr>
            <a:xfrm flipH="1">
              <a:off x="7200360" y="5173560"/>
              <a:ext cx="183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7383600" y="5219640"/>
              <a:ext cx="807840" cy="368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Stopov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6246360" y="497844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15" name=""/>
            <p:cNvCxnSpPr>
              <a:stCxn id="410" idx="0"/>
              <a:endCxn id="394" idx="2"/>
            </p:cNvCxnSpPr>
            <p:nvPr/>
          </p:nvCxnSpPr>
          <p:spPr>
            <a:xfrm flipV="1">
              <a:off x="6322680" y="4760640"/>
              <a:ext cx="1080" cy="434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416" name=""/>
            <p:cNvSpPr/>
            <p:nvPr/>
          </p:nvSpPr>
          <p:spPr>
            <a:xfrm flipH="1">
              <a:off x="6328800" y="4762440"/>
              <a:ext cx="183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6900840" y="5346720"/>
              <a:ext cx="93600" cy="93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4402080" y="4530600"/>
              <a:ext cx="93600" cy="93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6988320" y="4530600"/>
              <a:ext cx="93600" cy="93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5308560" y="2556000"/>
              <a:ext cx="876240" cy="41904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Has-book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5752440" y="2021040"/>
              <a:ext cx="183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22" name=""/>
            <p:cNvCxnSpPr>
              <a:stCxn id="391" idx="2"/>
              <a:endCxn id="420" idx="0"/>
            </p:cNvCxnSpPr>
            <p:nvPr/>
          </p:nvCxnSpPr>
          <p:spPr>
            <a:xfrm>
              <a:off x="5746320" y="2017440"/>
              <a:ext cx="1080" cy="538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423" name=""/>
            <p:cNvSpPr/>
            <p:nvPr/>
          </p:nvSpPr>
          <p:spPr>
            <a:xfrm flipH="1">
              <a:off x="5342040" y="3511440"/>
              <a:ext cx="80784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Book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24" name=""/>
            <p:cNvCxnSpPr>
              <a:stCxn id="420" idx="2"/>
              <a:endCxn id="423" idx="0"/>
            </p:cNvCxnSpPr>
            <p:nvPr/>
          </p:nvCxnSpPr>
          <p:spPr>
            <a:xfrm>
              <a:off x="5746320" y="2972880"/>
              <a:ext cx="1080" cy="538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391" name=""/>
            <p:cNvSpPr/>
            <p:nvPr/>
          </p:nvSpPr>
          <p:spPr>
            <a:xfrm flipH="1">
              <a:off x="5342040" y="1650960"/>
              <a:ext cx="80784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Specia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ri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5743440" y="3286080"/>
              <a:ext cx="18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5700600" y="2239920"/>
              <a:ext cx="93600" cy="93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5659200" y="317988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675400" y="4013280"/>
              <a:ext cx="144360" cy="144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29" name=""/>
            <p:cNvCxnSpPr>
              <a:stCxn id="428" idx="0"/>
              <a:endCxn id="423" idx="2"/>
            </p:cNvCxnSpPr>
            <p:nvPr/>
          </p:nvCxnSpPr>
          <p:spPr>
            <a:xfrm flipH="1" flipV="1">
              <a:off x="5745960" y="3877560"/>
              <a:ext cx="2520" cy="1357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430" name=""/>
            <p:cNvCxnSpPr>
              <a:stCxn id="428" idx="3"/>
              <a:endCxn id="395" idx="0"/>
            </p:cNvCxnSpPr>
            <p:nvPr/>
          </p:nvCxnSpPr>
          <p:spPr>
            <a:xfrm flipH="1">
              <a:off x="5171760" y="4137120"/>
              <a:ext cx="524160" cy="257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431" name=""/>
            <p:cNvCxnSpPr>
              <a:stCxn id="428" idx="5"/>
              <a:endCxn id="394" idx="0"/>
            </p:cNvCxnSpPr>
            <p:nvPr/>
          </p:nvCxnSpPr>
          <p:spPr>
            <a:xfrm>
              <a:off x="5798880" y="4137120"/>
              <a:ext cx="524160" cy="257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432" name=""/>
            <p:cNvSpPr/>
            <p:nvPr/>
          </p:nvSpPr>
          <p:spPr>
            <a:xfrm rot="18019800">
              <a:off x="5896440" y="41194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3506400">
              <a:off x="5272200" y="41306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894280" y="85104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ider the entity Computer shown below. Note that a given model can belong to more than one brand of computer (e.g., Toshiba has a model XYZ and Sony also has a model called XYZ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523880" y="838080"/>
            <a:ext cx="808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80880" y="12952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43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addition to the functional dependencies on the key, we also know the following functional dependenci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d —&gt; manufacture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cessor-type —&gt; mi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rmalize this entity to remove all partial and transitive dependencies. Show all the steps in the normalization process and any resulting intermediate schemas.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tate and justify any assumptions you mak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72280" y="885960"/>
            <a:ext cx="424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uter(</a:t>
            </a:r>
            <a:r>
              <a:rPr b="0" lang="en-US" sz="1200" spc="-1" strike="noStrike" u="sng">
                <a:solidFill>
                  <a:srgbClr val="fc0128"/>
                </a:solidFill>
                <a:uFillTx/>
                <a:latin typeface="Times New Roman"/>
              </a:rPr>
              <a:t>brand,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manufacturer, processor-type, mips, co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5181480" y="2552760"/>
            <a:ext cx="4084920" cy="1333440"/>
            <a:chOff x="5181480" y="2552760"/>
            <a:chExt cx="4084920" cy="1333440"/>
          </a:xfrm>
        </p:grpSpPr>
        <p:sp>
          <p:nvSpPr>
            <p:cNvPr id="440" name=""/>
            <p:cNvSpPr/>
            <p:nvPr/>
          </p:nvSpPr>
          <p:spPr>
            <a:xfrm>
              <a:off x="6299280" y="2959200"/>
              <a:ext cx="18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37200" y="2984400"/>
              <a:ext cx="876600" cy="41904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2" name=""/>
            <p:cNvCxnSpPr>
              <a:stCxn id="443" idx="3"/>
              <a:endCxn id="441" idx="1"/>
            </p:cNvCxnSpPr>
            <p:nvPr/>
          </p:nvCxnSpPr>
          <p:spPr>
            <a:xfrm>
              <a:off x="6300720" y="3193560"/>
              <a:ext cx="63720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444" name=""/>
            <p:cNvCxnSpPr>
              <a:stCxn id="441" idx="3"/>
              <a:endCxn id="445" idx="1"/>
            </p:cNvCxnSpPr>
            <p:nvPr/>
          </p:nvCxnSpPr>
          <p:spPr>
            <a:xfrm>
              <a:off x="7813800" y="3193560"/>
              <a:ext cx="6451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446" name=""/>
            <p:cNvSpPr/>
            <p:nvPr/>
          </p:nvSpPr>
          <p:spPr>
            <a:xfrm>
              <a:off x="8267760" y="2959200"/>
              <a:ext cx="18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136000" y="3117960"/>
              <a:ext cx="0" cy="15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492880" y="3009960"/>
              <a:ext cx="80784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u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58200" y="3009960"/>
              <a:ext cx="80820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uter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181480" y="2552760"/>
              <a:ext cx="457200" cy="228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fc0128"/>
                  </a:solidFill>
                  <a:uFillTx/>
                  <a:latin typeface="Times New Roman"/>
                </a:rPr>
                <a:t>br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534520" y="2552760"/>
              <a:ext cx="533160" cy="228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fc0128"/>
                  </a:solidFill>
                  <a:uFillTx/>
                  <a:latin typeface="Times New Roman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715000" y="2552760"/>
              <a:ext cx="990720" cy="228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nufactu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1" name=""/>
            <p:cNvCxnSpPr>
              <a:stCxn id="448" idx="4"/>
              <a:endCxn id="443" idx="0"/>
            </p:cNvCxnSpPr>
            <p:nvPr/>
          </p:nvCxnSpPr>
          <p:spPr>
            <a:xfrm flipH="1" rot="16200000">
              <a:off x="5539320" y="2651400"/>
              <a:ext cx="229320" cy="488160"/>
            </a:xfrm>
            <a:prstGeom prst="curvedConnector5">
              <a:avLst>
                <a:gd name="adj1" fmla="val 50000"/>
                <a:gd name="adj2" fmla="val 49963"/>
                <a:gd name="adj3" fmla="val 50000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452" name=""/>
            <p:cNvCxnSpPr>
              <a:stCxn id="450" idx="4"/>
              <a:endCxn id="443" idx="0"/>
            </p:cNvCxnSpPr>
            <p:nvPr/>
          </p:nvCxnSpPr>
          <p:spPr>
            <a:xfrm rot="5400000">
              <a:off x="5938920" y="2738880"/>
              <a:ext cx="229320" cy="3135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453" name=""/>
            <p:cNvCxnSpPr>
              <a:stCxn id="449" idx="4"/>
              <a:endCxn id="445" idx="0"/>
            </p:cNvCxnSpPr>
            <p:nvPr/>
          </p:nvCxnSpPr>
          <p:spPr>
            <a:xfrm flipH="1" rot="16200000">
              <a:off x="8716680" y="2864520"/>
              <a:ext cx="229320" cy="6228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454" name=""/>
            <p:cNvCxnSpPr>
              <a:stCxn id="455" idx="0"/>
              <a:endCxn id="441" idx="2"/>
            </p:cNvCxnSpPr>
            <p:nvPr/>
          </p:nvCxnSpPr>
          <p:spPr>
            <a:xfrm flipH="1" flipV="1" rot="5400000">
              <a:off x="6982920" y="3264840"/>
              <a:ext cx="254880" cy="531000"/>
            </a:xfrm>
            <a:prstGeom prst="curvedConnector5">
              <a:avLst>
                <a:gd name="adj1" fmla="val 49929"/>
                <a:gd name="adj2" fmla="val 50000"/>
                <a:gd name="adj3" fmla="val 49929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456" name=""/>
            <p:cNvCxnSpPr>
              <a:stCxn id="457" idx="0"/>
              <a:endCxn id="441" idx="2"/>
            </p:cNvCxnSpPr>
            <p:nvPr/>
          </p:nvCxnSpPr>
          <p:spPr>
            <a:xfrm flipV="1" rot="16200000">
              <a:off x="7401960" y="3376080"/>
              <a:ext cx="254880" cy="308520"/>
            </a:xfrm>
            <a:prstGeom prst="curvedConnector5">
              <a:avLst>
                <a:gd name="adj1" fmla="val 49929"/>
                <a:gd name="adj2" fmla="val 50000"/>
                <a:gd name="adj3" fmla="val 49929"/>
              </a:avLst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457" name=""/>
            <p:cNvSpPr/>
            <p:nvPr/>
          </p:nvSpPr>
          <p:spPr>
            <a:xfrm>
              <a:off x="7454880" y="3657600"/>
              <a:ext cx="457200" cy="228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i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11880" y="3657600"/>
              <a:ext cx="1066680" cy="228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cessor-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88400" y="3657600"/>
              <a:ext cx="457200" cy="228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9" name=""/>
            <p:cNvCxnSpPr>
              <a:stCxn id="458" idx="0"/>
              <a:endCxn id="441" idx="2"/>
            </p:cNvCxnSpPr>
            <p:nvPr/>
          </p:nvCxnSpPr>
          <p:spPr>
            <a:xfrm flipV="1" rot="16200000">
              <a:off x="7668720" y="3109320"/>
              <a:ext cx="254880" cy="842040"/>
            </a:xfrm>
            <a:prstGeom prst="curvedConnector5">
              <a:avLst>
                <a:gd name="adj1" fmla="val 49929"/>
                <a:gd name="adj2" fmla="val 50000"/>
                <a:gd name="adj3" fmla="val 49929"/>
              </a:avLst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460" name=""/>
            <p:cNvSpPr/>
            <p:nvPr/>
          </p:nvSpPr>
          <p:spPr>
            <a:xfrm>
              <a:off x="6618240" y="3117960"/>
              <a:ext cx="0" cy="15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380880" y="4267080"/>
            <a:ext cx="4572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43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ii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itive dependency: processor-type —&gt; mi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s transitive dependency is now in th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lationship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Ha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nd needs to be extracted by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eating a ternary relationship as follow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80880" y="2514600"/>
            <a:ext cx="4572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43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tial dependency: brand —&gt; manufactur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nce manufacturer is dependent on only part of th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 (make, model). We extract the partial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pendency by introducing a new entity and a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lationship as follow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181480" y="4280040"/>
            <a:ext cx="4084920" cy="2349000"/>
            <a:chOff x="5181480" y="4280040"/>
            <a:chExt cx="4084920" cy="2349000"/>
          </a:xfrm>
        </p:grpSpPr>
        <p:sp>
          <p:nvSpPr>
            <p:cNvPr id="464" name=""/>
            <p:cNvSpPr/>
            <p:nvPr/>
          </p:nvSpPr>
          <p:spPr>
            <a:xfrm>
              <a:off x="6299280" y="5702040"/>
              <a:ext cx="18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7200" y="5727600"/>
              <a:ext cx="876600" cy="41868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7" idx="3"/>
              <a:endCxn id="465" idx="1"/>
            </p:cNvCxnSpPr>
            <p:nvPr/>
          </p:nvCxnSpPr>
          <p:spPr>
            <a:xfrm>
              <a:off x="6300720" y="5936760"/>
              <a:ext cx="63720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468" name=""/>
            <p:cNvCxnSpPr>
              <a:stCxn id="465" idx="3"/>
              <a:endCxn id="469" idx="1"/>
            </p:cNvCxnSpPr>
            <p:nvPr/>
          </p:nvCxnSpPr>
          <p:spPr>
            <a:xfrm>
              <a:off x="7813800" y="5936760"/>
              <a:ext cx="6451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470" name=""/>
            <p:cNvSpPr/>
            <p:nvPr/>
          </p:nvSpPr>
          <p:spPr>
            <a:xfrm>
              <a:off x="8267760" y="5702040"/>
              <a:ext cx="18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136000" y="5860800"/>
              <a:ext cx="0" cy="15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492880" y="5753160"/>
              <a:ext cx="807840" cy="367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u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458200" y="5753160"/>
              <a:ext cx="808200" cy="36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uter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181480" y="5295960"/>
              <a:ext cx="457200" cy="22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fc0128"/>
                  </a:solidFill>
                  <a:uFillTx/>
                  <a:latin typeface="Times New Roman"/>
                </a:rPr>
                <a:t>br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534520" y="5295960"/>
              <a:ext cx="533160" cy="22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fc0128"/>
                  </a:solidFill>
                  <a:uFillTx/>
                  <a:latin typeface="Times New Roman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715000" y="5295960"/>
              <a:ext cx="990720" cy="22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nufactu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5" name=""/>
            <p:cNvCxnSpPr>
              <a:stCxn id="472" idx="4"/>
              <a:endCxn id="467" idx="0"/>
            </p:cNvCxnSpPr>
            <p:nvPr/>
          </p:nvCxnSpPr>
          <p:spPr>
            <a:xfrm flipH="1" rot="16200000">
              <a:off x="5539680" y="5394600"/>
              <a:ext cx="228960" cy="488160"/>
            </a:xfrm>
            <a:prstGeom prst="curvedConnector5">
              <a:avLst>
                <a:gd name="adj1" fmla="val 49921"/>
                <a:gd name="adj2" fmla="val 49963"/>
                <a:gd name="adj3" fmla="val 49921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476" name=""/>
            <p:cNvCxnSpPr>
              <a:stCxn id="474" idx="4"/>
              <a:endCxn id="467" idx="0"/>
            </p:cNvCxnSpPr>
            <p:nvPr/>
          </p:nvCxnSpPr>
          <p:spPr>
            <a:xfrm rot="5400000">
              <a:off x="5938920" y="5482080"/>
              <a:ext cx="228960" cy="313560"/>
            </a:xfrm>
            <a:prstGeom prst="curvedConnector5">
              <a:avLst>
                <a:gd name="adj1" fmla="val 49921"/>
                <a:gd name="adj2" fmla="val 50000"/>
                <a:gd name="adj3" fmla="val 49921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477" name=""/>
            <p:cNvCxnSpPr>
              <a:stCxn id="473" idx="4"/>
              <a:endCxn id="469" idx="0"/>
            </p:cNvCxnSpPr>
            <p:nvPr/>
          </p:nvCxnSpPr>
          <p:spPr>
            <a:xfrm flipH="1" rot="16200000">
              <a:off x="8717040" y="5607720"/>
              <a:ext cx="228960" cy="62280"/>
            </a:xfrm>
            <a:prstGeom prst="curvedConnector5">
              <a:avLst>
                <a:gd name="adj1" fmla="val 49921"/>
                <a:gd name="adj2" fmla="val 50000"/>
                <a:gd name="adj3" fmla="val 49921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478" name=""/>
            <p:cNvCxnSpPr>
              <a:stCxn id="479" idx="4"/>
              <a:endCxn id="480" idx="0"/>
            </p:cNvCxnSpPr>
            <p:nvPr/>
          </p:nvCxnSpPr>
          <p:spPr>
            <a:xfrm flipH="1" rot="16200000">
              <a:off x="7072200" y="4445280"/>
              <a:ext cx="241920" cy="367560"/>
            </a:xfrm>
            <a:prstGeom prst="curvedConnector5">
              <a:avLst>
                <a:gd name="adj1" fmla="val 49925"/>
                <a:gd name="adj2" fmla="val 50000"/>
                <a:gd name="adj3" fmla="val 49925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481" name=""/>
            <p:cNvCxnSpPr>
              <a:stCxn id="482" idx="4"/>
              <a:endCxn id="480" idx="0"/>
            </p:cNvCxnSpPr>
            <p:nvPr/>
          </p:nvCxnSpPr>
          <p:spPr>
            <a:xfrm rot="5400000">
              <a:off x="7491600" y="4393080"/>
              <a:ext cx="241920" cy="472320"/>
            </a:xfrm>
            <a:prstGeom prst="curvedConnector5">
              <a:avLst>
                <a:gd name="adj1" fmla="val 49925"/>
                <a:gd name="adj2" fmla="val 49961"/>
                <a:gd name="adj3" fmla="val 49925"/>
              </a:avLst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482" name=""/>
            <p:cNvSpPr/>
            <p:nvPr/>
          </p:nvSpPr>
          <p:spPr>
            <a:xfrm>
              <a:off x="7620120" y="4280040"/>
              <a:ext cx="457200" cy="22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i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477120" y="4280040"/>
              <a:ext cx="1066680" cy="22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fc0128"/>
                  </a:solidFill>
                  <a:uFillTx/>
                  <a:latin typeface="Times New Roman"/>
                </a:rPr>
                <a:t>processor-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391520" y="6400800"/>
              <a:ext cx="457200" cy="22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4" name=""/>
            <p:cNvCxnSpPr>
              <a:stCxn id="483" idx="0"/>
              <a:endCxn id="465" idx="2"/>
            </p:cNvCxnSpPr>
            <p:nvPr/>
          </p:nvCxnSpPr>
          <p:spPr>
            <a:xfrm flipV="1" rot="16200000">
              <a:off x="7370280" y="6150600"/>
              <a:ext cx="254520" cy="244800"/>
            </a:xfrm>
            <a:prstGeom prst="curvedConnector5">
              <a:avLst>
                <a:gd name="adj1" fmla="val 50000"/>
                <a:gd name="adj2" fmla="val 49926"/>
                <a:gd name="adj3" fmla="val 50000"/>
              </a:avLst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485" name=""/>
            <p:cNvSpPr/>
            <p:nvPr/>
          </p:nvSpPr>
          <p:spPr>
            <a:xfrm>
              <a:off x="6618240" y="5860800"/>
              <a:ext cx="0" cy="15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972480" y="4749840"/>
              <a:ext cx="807840" cy="367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cess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6" name=""/>
            <p:cNvCxnSpPr>
              <a:stCxn id="480" idx="2"/>
              <a:endCxn id="465" idx="0"/>
            </p:cNvCxnSpPr>
            <p:nvPr/>
          </p:nvCxnSpPr>
          <p:spPr>
            <a:xfrm flipH="1">
              <a:off x="7375320" y="5118120"/>
              <a:ext cx="2160" cy="609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487" name=""/>
            <p:cNvSpPr/>
            <p:nvPr/>
          </p:nvSpPr>
          <p:spPr>
            <a:xfrm>
              <a:off x="7378560" y="511812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7327800" y="5375160"/>
              <a:ext cx="93600" cy="93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8229600" y="449568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s to be optional so that cost is dependent only on brand and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0" name=""/>
          <p:cNvCxnSpPr>
            <a:stCxn id="488" idx="2"/>
            <a:endCxn id="489" idx="1"/>
          </p:cNvCxnSpPr>
          <p:nvPr/>
        </p:nvCxnSpPr>
        <p:spPr>
          <a:xfrm flipV="1">
            <a:off x="7423200" y="4906080"/>
            <a:ext cx="807120" cy="515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350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D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moving a dangling entity is likely to introduce redundancy into the databa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6350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c0128"/>
                </a:solidFill>
                <a:latin typeface="Times New Roman"/>
              </a:rPr>
              <a:t>AGRE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When we remove a dangling entity from a conceptual schema, we place its attributes into the entity with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ich it is related (called the principal entity). If the relationship that is removed by removing the dangling entity i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N, then the values of these attributes need to be repeated for every instance of the principal entity. This obviously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l introduce redundancy into the database. Consider the Shop-by-Phone Office Supplies schema used in class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ales-clerk is a dangling entity. When we remove it, we place its attribute, the name of the sales clerk, in th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stomer entity. Now in the database, the name of the sales clerk will have to be stored for every instance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stomer to which a certain sales clerk is related whereas the initial schema only required that the name of each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ales clerk be stored on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6350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6350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ppose that a relation C (child relation) contains the foreign key of a relation P (parent relation). Referential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grity in the relational data model requires that we delete the referred to (child) tuple whenever we delete th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ferring (parent) tup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6350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c0128"/>
                </a:solidFill>
                <a:latin typeface="Times New Roman"/>
              </a:rPr>
              <a:t>AGRE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If the existence constraint for the referred to (child) relation is mandatory (i.e., a child tuple must always b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lated to a parent tuple), then we need to delete the referred to (child) tuple whenever we delete the referring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parent) tup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6350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c0128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c0128"/>
                </a:solidFill>
                <a:latin typeface="Times New Roman"/>
              </a:rPr>
              <a:t>DISAGRE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If the existence constraint for the referred to (child) relation is optional (i.e., a child tuple does not hav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 be related to a parent tuple), then when we delete the parent tuple we do not need to delete the child tuple. W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ply set the foreign key attribute value to null in the child tup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8088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ider the two schemas for the Happy Tours Travel Agency shown on the Supplementary Sheet for Test 2, which represent two views of a conceptual schema design and which are to be integrated.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ssume that all attributes listed are single-value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i.e., there are no multi-valued attributes in the schema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57880" y="3916440"/>
            <a:ext cx="262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Schema 1: Focused on packaged tr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508040" y="1295280"/>
            <a:ext cx="6721560" cy="1135080"/>
            <a:chOff x="1508040" y="1295280"/>
            <a:chExt cx="6721560" cy="1135080"/>
          </a:xfrm>
        </p:grpSpPr>
        <p:sp>
          <p:nvSpPr>
            <p:cNvPr id="45" name=""/>
            <p:cNvSpPr/>
            <p:nvPr/>
          </p:nvSpPr>
          <p:spPr>
            <a:xfrm>
              <a:off x="1508040" y="1352520"/>
              <a:ext cx="8082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Sales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onsulta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908680" y="1327320"/>
              <a:ext cx="876240" cy="41904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Buy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319480" y="1295280"/>
              <a:ext cx="183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421400" y="1352520"/>
              <a:ext cx="8082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462560" y="1352520"/>
              <a:ext cx="80784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Packaged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ri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51280" y="1327320"/>
              <a:ext cx="876240" cy="41904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Book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" name=""/>
            <p:cNvCxnSpPr>
              <a:stCxn id="45" idx="3"/>
              <a:endCxn id="50" idx="1"/>
            </p:cNvCxnSpPr>
            <p:nvPr/>
          </p:nvCxnSpPr>
          <p:spPr>
            <a:xfrm>
              <a:off x="2316240" y="1536480"/>
              <a:ext cx="6357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52" name=""/>
            <p:cNvCxnSpPr>
              <a:stCxn id="50" idx="3"/>
              <a:endCxn id="49" idx="1"/>
            </p:cNvCxnSpPr>
            <p:nvPr/>
          </p:nvCxnSpPr>
          <p:spPr>
            <a:xfrm>
              <a:off x="3827520" y="1536480"/>
              <a:ext cx="6357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53" name=""/>
            <p:cNvCxnSpPr>
              <a:stCxn id="49" idx="3"/>
              <a:endCxn id="46" idx="1"/>
            </p:cNvCxnSpPr>
            <p:nvPr/>
          </p:nvCxnSpPr>
          <p:spPr>
            <a:xfrm>
              <a:off x="5270040" y="1536480"/>
              <a:ext cx="63900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54" name=""/>
            <p:cNvCxnSpPr>
              <a:stCxn id="46" idx="3"/>
              <a:endCxn id="48" idx="1"/>
            </p:cNvCxnSpPr>
            <p:nvPr/>
          </p:nvCxnSpPr>
          <p:spPr>
            <a:xfrm>
              <a:off x="6784920" y="1536480"/>
              <a:ext cx="63720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55" name=""/>
            <p:cNvSpPr/>
            <p:nvPr/>
          </p:nvSpPr>
          <p:spPr>
            <a:xfrm>
              <a:off x="4267080" y="1297080"/>
              <a:ext cx="18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75440" y="1297080"/>
              <a:ext cx="183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230960" y="1305000"/>
              <a:ext cx="18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41840" y="1488960"/>
              <a:ext cx="93960" cy="93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633760" y="146052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102440" y="146052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97160" y="1488960"/>
              <a:ext cx="93960" cy="93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508040" y="2036880"/>
              <a:ext cx="8082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Package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ou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19480" y="1981080"/>
              <a:ext cx="183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51280" y="2011320"/>
              <a:ext cx="876240" cy="41904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nclud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" name=""/>
            <p:cNvCxnSpPr>
              <a:stCxn id="62" idx="3"/>
              <a:endCxn id="64" idx="1"/>
            </p:cNvCxnSpPr>
            <p:nvPr/>
          </p:nvCxnSpPr>
          <p:spPr>
            <a:xfrm>
              <a:off x="2316240" y="2220480"/>
              <a:ext cx="6357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6" name=""/>
            <p:cNvSpPr/>
            <p:nvPr/>
          </p:nvSpPr>
          <p:spPr>
            <a:xfrm>
              <a:off x="5908680" y="2011320"/>
              <a:ext cx="876240" cy="41904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Has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extr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421400" y="2036880"/>
              <a:ext cx="808200" cy="368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Extr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" name=""/>
            <p:cNvCxnSpPr>
              <a:stCxn id="66" idx="3"/>
              <a:endCxn id="67" idx="1"/>
            </p:cNvCxnSpPr>
            <p:nvPr/>
          </p:nvCxnSpPr>
          <p:spPr>
            <a:xfrm>
              <a:off x="6784920" y="2220480"/>
              <a:ext cx="6184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9" name=""/>
            <p:cNvSpPr/>
            <p:nvPr/>
          </p:nvSpPr>
          <p:spPr>
            <a:xfrm>
              <a:off x="7223040" y="1990800"/>
              <a:ext cx="18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056360" y="2174760"/>
              <a:ext cx="93600" cy="93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17800" y="1719360"/>
              <a:ext cx="881280" cy="500040"/>
            </a:xfrm>
            <a:custGeom>
              <a:avLst/>
              <a:gdLst/>
              <a:ahLst/>
              <a:rect l="l" t="t" r="r" b="b"/>
              <a:pathLst>
                <a:path w="555" h="315">
                  <a:moveTo>
                    <a:pt x="0" y="315"/>
                  </a:moveTo>
                  <a:lnTo>
                    <a:pt x="555" y="315"/>
                  </a:lnTo>
                  <a:lnTo>
                    <a:pt x="55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5033880" y="1722600"/>
              <a:ext cx="881280" cy="500040"/>
            </a:xfrm>
            <a:custGeom>
              <a:avLst/>
              <a:gdLst/>
              <a:ahLst/>
              <a:rect l="l" t="t" r="r" b="b"/>
              <a:pathLst>
                <a:path w="555" h="315">
                  <a:moveTo>
                    <a:pt x="0" y="315"/>
                  </a:moveTo>
                  <a:lnTo>
                    <a:pt x="555" y="315"/>
                  </a:lnTo>
                  <a:lnTo>
                    <a:pt x="55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653000" y="1973160"/>
              <a:ext cx="93600" cy="93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633760" y="2144880"/>
              <a:ext cx="0" cy="15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4955760" y="202104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05400" y="1716120"/>
              <a:ext cx="183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038560" y="1719360"/>
              <a:ext cx="18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044520" y="2703600"/>
            <a:ext cx="3632760" cy="11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es-consultant(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employee-i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name,addre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tomer(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customer-i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name, address, phone#, fax#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aged-trip(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reference-numb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date-arranged, depos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aged-tour(agency-name, tour-name, start-date, co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(description, cost, depos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729240" y="5592600"/>
            <a:ext cx="24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Schema 2: Focused on special tr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28880" y="3897360"/>
            <a:ext cx="7848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-agent(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employee#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na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(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client#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name, address, telephone-no, mobile#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-trip(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reference-numb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date-arrang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el(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address, fax-numb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el-booking(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reservation#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first-day, last-day, room-type, room-rate, leg-number, date-made, description, amount, depos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line(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phone#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line-booking(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reservation#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eg-number, date-made, description, amount, deposit, airport, departure-ti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over(arrival-time, departure-time, airpo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52680" y="304920"/>
            <a:ext cx="6800760" cy="3200400"/>
            <a:chOff x="1552680" y="304920"/>
            <a:chExt cx="6800760" cy="3200400"/>
          </a:xfrm>
        </p:grpSpPr>
        <p:sp>
          <p:nvSpPr>
            <p:cNvPr id="82" name=""/>
            <p:cNvSpPr/>
            <p:nvPr/>
          </p:nvSpPr>
          <p:spPr>
            <a:xfrm flipH="1">
              <a:off x="7509600" y="1276200"/>
              <a:ext cx="8082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Airline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book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3033720" y="1251000"/>
              <a:ext cx="876240" cy="41904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Books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hote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7319880" y="1235160"/>
              <a:ext cx="18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4880" y="138420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1587600" y="1276200"/>
              <a:ext cx="80784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Hote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book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91120" y="1251000"/>
              <a:ext cx="876240" cy="41904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Books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airlin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2" idx="1"/>
              <a:endCxn id="87" idx="1"/>
            </p:cNvCxnSpPr>
            <p:nvPr/>
          </p:nvCxnSpPr>
          <p:spPr>
            <a:xfrm flipH="1">
              <a:off x="6866640" y="1458720"/>
              <a:ext cx="6454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89" name=""/>
            <p:cNvCxnSpPr>
              <a:stCxn id="87" idx="3"/>
              <a:endCxn id="90" idx="3"/>
            </p:cNvCxnSpPr>
            <p:nvPr/>
          </p:nvCxnSpPr>
          <p:spPr>
            <a:xfrm flipH="1">
              <a:off x="5348160" y="1458720"/>
              <a:ext cx="6433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1" name=""/>
            <p:cNvCxnSpPr>
              <a:stCxn id="90" idx="1"/>
              <a:endCxn id="83" idx="1"/>
            </p:cNvCxnSpPr>
            <p:nvPr/>
          </p:nvCxnSpPr>
          <p:spPr>
            <a:xfrm flipH="1">
              <a:off x="3909240" y="1458720"/>
              <a:ext cx="6310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2" name=""/>
            <p:cNvCxnSpPr>
              <a:stCxn id="83" idx="3"/>
              <a:endCxn id="86" idx="3"/>
            </p:cNvCxnSpPr>
            <p:nvPr/>
          </p:nvCxnSpPr>
          <p:spPr>
            <a:xfrm flipH="1">
              <a:off x="2396880" y="1458720"/>
              <a:ext cx="63720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93" name=""/>
            <p:cNvSpPr/>
            <p:nvPr/>
          </p:nvSpPr>
          <p:spPr>
            <a:xfrm flipH="1">
              <a:off x="5354640" y="1239840"/>
              <a:ext cx="18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4353840" y="1235160"/>
              <a:ext cx="183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2398680" y="1235160"/>
              <a:ext cx="18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3063960" y="2206800"/>
              <a:ext cx="80784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rave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ag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716200" y="138420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4502880" y="2181240"/>
              <a:ext cx="876600" cy="41904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Arrang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9" name=""/>
            <p:cNvCxnSpPr>
              <a:stCxn id="98" idx="3"/>
              <a:endCxn id="96" idx="3"/>
            </p:cNvCxnSpPr>
            <p:nvPr/>
          </p:nvCxnSpPr>
          <p:spPr>
            <a:xfrm flipH="1">
              <a:off x="3873240" y="2388960"/>
              <a:ext cx="6307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00" name=""/>
            <p:cNvSpPr/>
            <p:nvPr/>
          </p:nvSpPr>
          <p:spPr>
            <a:xfrm flipH="1">
              <a:off x="4948200" y="1646280"/>
              <a:ext cx="18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3886200" y="2154240"/>
              <a:ext cx="18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4140360" y="2343240"/>
              <a:ext cx="93600" cy="93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3" name=""/>
            <p:cNvCxnSpPr>
              <a:stCxn id="90" idx="2"/>
              <a:endCxn id="98" idx="0"/>
            </p:cNvCxnSpPr>
            <p:nvPr/>
          </p:nvCxnSpPr>
          <p:spPr>
            <a:xfrm flipH="1">
              <a:off x="4941000" y="1642680"/>
              <a:ext cx="2520" cy="538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04" name=""/>
            <p:cNvSpPr/>
            <p:nvPr/>
          </p:nvSpPr>
          <p:spPr>
            <a:xfrm flipH="1">
              <a:off x="4536360" y="3137040"/>
              <a:ext cx="8082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" name=""/>
            <p:cNvCxnSpPr>
              <a:stCxn id="98" idx="2"/>
              <a:endCxn id="104" idx="0"/>
            </p:cNvCxnSpPr>
            <p:nvPr/>
          </p:nvCxnSpPr>
          <p:spPr>
            <a:xfrm>
              <a:off x="4941360" y="2598480"/>
              <a:ext cx="1080" cy="538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90" name=""/>
            <p:cNvSpPr/>
            <p:nvPr/>
          </p:nvSpPr>
          <p:spPr>
            <a:xfrm flipH="1">
              <a:off x="4537800" y="1276200"/>
              <a:ext cx="80820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Specia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ri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4938120" y="2911320"/>
              <a:ext cx="183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7477200" y="2181240"/>
              <a:ext cx="876240" cy="41904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With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airlin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921080" y="1646280"/>
              <a:ext cx="183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9" name=""/>
            <p:cNvCxnSpPr>
              <a:stCxn id="82" idx="2"/>
              <a:endCxn id="107" idx="0"/>
            </p:cNvCxnSpPr>
            <p:nvPr/>
          </p:nvCxnSpPr>
          <p:spPr>
            <a:xfrm>
              <a:off x="7914960" y="1642680"/>
              <a:ext cx="1080" cy="538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10" name=""/>
            <p:cNvSpPr/>
            <p:nvPr/>
          </p:nvSpPr>
          <p:spPr>
            <a:xfrm flipH="1">
              <a:off x="7509600" y="3137040"/>
              <a:ext cx="8082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Airlin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1" name=""/>
            <p:cNvCxnSpPr>
              <a:stCxn id="107" idx="2"/>
              <a:endCxn id="110" idx="0"/>
            </p:cNvCxnSpPr>
            <p:nvPr/>
          </p:nvCxnSpPr>
          <p:spPr>
            <a:xfrm>
              <a:off x="7914960" y="2598480"/>
              <a:ext cx="1080" cy="538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12" name=""/>
            <p:cNvSpPr/>
            <p:nvPr/>
          </p:nvSpPr>
          <p:spPr>
            <a:xfrm flipH="1">
              <a:off x="7912080" y="2911320"/>
              <a:ext cx="18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7838640" y="286848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1552680" y="2181240"/>
              <a:ext cx="876240" cy="41904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With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hote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1996920" y="1646280"/>
              <a:ext cx="18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6" name=""/>
            <p:cNvCxnSpPr>
              <a:stCxn id="86" idx="2"/>
              <a:endCxn id="114" idx="0"/>
            </p:cNvCxnSpPr>
            <p:nvPr/>
          </p:nvCxnSpPr>
          <p:spPr>
            <a:xfrm flipH="1">
              <a:off x="1990440" y="1642680"/>
              <a:ext cx="2160" cy="538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17" name=""/>
            <p:cNvSpPr/>
            <p:nvPr/>
          </p:nvSpPr>
          <p:spPr>
            <a:xfrm flipH="1">
              <a:off x="1585080" y="3137040"/>
              <a:ext cx="8082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Hote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8" name=""/>
            <p:cNvCxnSpPr>
              <a:stCxn id="114" idx="2"/>
              <a:endCxn id="117" idx="0"/>
            </p:cNvCxnSpPr>
            <p:nvPr/>
          </p:nvCxnSpPr>
          <p:spPr>
            <a:xfrm>
              <a:off x="1990440" y="2598480"/>
              <a:ext cx="1080" cy="538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19" name=""/>
            <p:cNvSpPr/>
            <p:nvPr/>
          </p:nvSpPr>
          <p:spPr>
            <a:xfrm flipH="1">
              <a:off x="1987560" y="2911320"/>
              <a:ext cx="18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1914120" y="286848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7466760" y="316080"/>
              <a:ext cx="876600" cy="41904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Stops-a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2" name=""/>
            <p:cNvCxnSpPr>
              <a:stCxn id="121" idx="3"/>
              <a:endCxn id="123" idx="3"/>
            </p:cNvCxnSpPr>
            <p:nvPr/>
          </p:nvCxnSpPr>
          <p:spPr>
            <a:xfrm flipH="1">
              <a:off x="6842880" y="523440"/>
              <a:ext cx="62460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24" name=""/>
            <p:cNvSpPr/>
            <p:nvPr/>
          </p:nvSpPr>
          <p:spPr>
            <a:xfrm flipH="1">
              <a:off x="6831000" y="304920"/>
              <a:ext cx="18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6014160" y="341280"/>
              <a:ext cx="808200" cy="368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Stopov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7838640" y="100476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6" name=""/>
            <p:cNvCxnSpPr>
              <a:stCxn id="121" idx="2"/>
              <a:endCxn id="82" idx="0"/>
            </p:cNvCxnSpPr>
            <p:nvPr/>
          </p:nvCxnSpPr>
          <p:spPr>
            <a:xfrm>
              <a:off x="7905240" y="733320"/>
              <a:ext cx="10440" cy="5436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27" name=""/>
            <p:cNvSpPr/>
            <p:nvPr/>
          </p:nvSpPr>
          <p:spPr>
            <a:xfrm flipH="1">
              <a:off x="7905600" y="1052640"/>
              <a:ext cx="18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4176720" y="1413000"/>
              <a:ext cx="93600" cy="93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5621400" y="1414440"/>
              <a:ext cx="93600" cy="93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4896000" y="1865160"/>
              <a:ext cx="93600" cy="93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896000" y="2820960"/>
              <a:ext cx="93600" cy="93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7097760" y="477720"/>
              <a:ext cx="93600" cy="93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1944720" y="1865160"/>
              <a:ext cx="93600" cy="93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7867800" y="1865160"/>
              <a:ext cx="93600" cy="93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6350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st and resolve (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tating any assumptions you need to mak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all the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name conflict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hat are present in the two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6350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Ent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6350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ales-consultant in schema 1 and Travel-agent in schema 2 (synony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6350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ame either Sales-consultant as Travel-agent in schema 1 or Travel-agent as Sales-consultant in schema 2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We choose Sales-consulta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6350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ii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stomer in schema 1 and Client in schema 2 (synony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6350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ame either Customer as Client in schema 1 or Client as Customer in schema 2. (We choose Custom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6350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Relationshi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6350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ne in this sche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6350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ttribu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6350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mployee-id in schema 1 and employee# in schema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6350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ame either employee-id as employee# in schema 1 or employee# as employee-id in schema 2 (We choos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mployee#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6350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ii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stomer-id in schema 1 and client# in schema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6350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ame either customer-id as client# in schema 1 or client# as customer-id in schema 2 (We choos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stomer-id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6350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ii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one# in schema 1 and telephone-no in schema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6350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ame either phone# as telephone-no in schema 1 or telephone-no as phone# in schema 2 (We choos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one#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6350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Interschema constra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6350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the problem description we are told that Packaged-trip and Special-trip are both a kind of trip. Thus, they ar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ecialization of the more general entity Tri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348360" y="3892680"/>
            <a:ext cx="304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Schema 1: Focused on packaged tri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508040" y="1295280"/>
            <a:ext cx="6721560" cy="1135080"/>
            <a:chOff x="1508040" y="1295280"/>
            <a:chExt cx="6721560" cy="1135080"/>
          </a:xfrm>
        </p:grpSpPr>
        <p:sp>
          <p:nvSpPr>
            <p:cNvPr id="138" name=""/>
            <p:cNvSpPr/>
            <p:nvPr/>
          </p:nvSpPr>
          <p:spPr>
            <a:xfrm>
              <a:off x="1508040" y="1352520"/>
              <a:ext cx="8082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Sales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onsulta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08680" y="1327320"/>
              <a:ext cx="876240" cy="41904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Buy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19480" y="1295280"/>
              <a:ext cx="183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421400" y="1352520"/>
              <a:ext cx="8082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62560" y="1352520"/>
              <a:ext cx="80784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Packaged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ri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51280" y="1327320"/>
              <a:ext cx="876240" cy="41904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Book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4" name=""/>
            <p:cNvCxnSpPr>
              <a:stCxn id="138" idx="3"/>
              <a:endCxn id="143" idx="1"/>
            </p:cNvCxnSpPr>
            <p:nvPr/>
          </p:nvCxnSpPr>
          <p:spPr>
            <a:xfrm>
              <a:off x="2316240" y="1536480"/>
              <a:ext cx="6357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45" name=""/>
            <p:cNvCxnSpPr>
              <a:stCxn id="143" idx="3"/>
              <a:endCxn id="142" idx="1"/>
            </p:cNvCxnSpPr>
            <p:nvPr/>
          </p:nvCxnSpPr>
          <p:spPr>
            <a:xfrm>
              <a:off x="3827520" y="1536480"/>
              <a:ext cx="6357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46" name=""/>
            <p:cNvCxnSpPr>
              <a:stCxn id="142" idx="3"/>
              <a:endCxn id="139" idx="1"/>
            </p:cNvCxnSpPr>
            <p:nvPr/>
          </p:nvCxnSpPr>
          <p:spPr>
            <a:xfrm>
              <a:off x="5270040" y="1536480"/>
              <a:ext cx="63900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47" name=""/>
            <p:cNvCxnSpPr>
              <a:stCxn id="139" idx="3"/>
              <a:endCxn id="141" idx="1"/>
            </p:cNvCxnSpPr>
            <p:nvPr/>
          </p:nvCxnSpPr>
          <p:spPr>
            <a:xfrm>
              <a:off x="6784920" y="1536480"/>
              <a:ext cx="63720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48" name=""/>
            <p:cNvSpPr/>
            <p:nvPr/>
          </p:nvSpPr>
          <p:spPr>
            <a:xfrm>
              <a:off x="4267080" y="1297080"/>
              <a:ext cx="18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75440" y="1297080"/>
              <a:ext cx="183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230960" y="1305000"/>
              <a:ext cx="18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41840" y="1488960"/>
              <a:ext cx="93960" cy="93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633760" y="146052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02440" y="146052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97160" y="1488960"/>
              <a:ext cx="93960" cy="93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8040" y="2036880"/>
              <a:ext cx="8082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Package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ou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19480" y="1981080"/>
              <a:ext cx="183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951280" y="2011320"/>
              <a:ext cx="876240" cy="41904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nclud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5" idx="3"/>
              <a:endCxn id="157" idx="1"/>
            </p:cNvCxnSpPr>
            <p:nvPr/>
          </p:nvCxnSpPr>
          <p:spPr>
            <a:xfrm>
              <a:off x="2316240" y="2220480"/>
              <a:ext cx="6357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59" name=""/>
            <p:cNvSpPr/>
            <p:nvPr/>
          </p:nvSpPr>
          <p:spPr>
            <a:xfrm>
              <a:off x="5908680" y="2011320"/>
              <a:ext cx="876240" cy="41904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Has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extr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421400" y="2036880"/>
              <a:ext cx="808200" cy="368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Extr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1" name=""/>
            <p:cNvCxnSpPr>
              <a:stCxn id="159" idx="3"/>
              <a:endCxn id="160" idx="1"/>
            </p:cNvCxnSpPr>
            <p:nvPr/>
          </p:nvCxnSpPr>
          <p:spPr>
            <a:xfrm>
              <a:off x="6784920" y="2220480"/>
              <a:ext cx="6184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62" name=""/>
            <p:cNvSpPr/>
            <p:nvPr/>
          </p:nvSpPr>
          <p:spPr>
            <a:xfrm>
              <a:off x="7223040" y="1990800"/>
              <a:ext cx="18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056360" y="2174760"/>
              <a:ext cx="93600" cy="93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17800" y="1719360"/>
              <a:ext cx="881280" cy="500040"/>
            </a:xfrm>
            <a:custGeom>
              <a:avLst/>
              <a:gdLst/>
              <a:ahLst/>
              <a:rect l="l" t="t" r="r" b="b"/>
              <a:pathLst>
                <a:path w="555" h="315">
                  <a:moveTo>
                    <a:pt x="0" y="315"/>
                  </a:moveTo>
                  <a:lnTo>
                    <a:pt x="555" y="315"/>
                  </a:lnTo>
                  <a:lnTo>
                    <a:pt x="55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033880" y="1722600"/>
              <a:ext cx="881280" cy="500040"/>
            </a:xfrm>
            <a:custGeom>
              <a:avLst/>
              <a:gdLst/>
              <a:ahLst/>
              <a:rect l="l" t="t" r="r" b="b"/>
              <a:pathLst>
                <a:path w="555" h="315">
                  <a:moveTo>
                    <a:pt x="0" y="315"/>
                  </a:moveTo>
                  <a:lnTo>
                    <a:pt x="555" y="315"/>
                  </a:lnTo>
                  <a:lnTo>
                    <a:pt x="55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653000" y="1973160"/>
              <a:ext cx="93600" cy="93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633760" y="2144880"/>
              <a:ext cx="0" cy="15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955760" y="202104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05400" y="1716120"/>
              <a:ext cx="183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038560" y="1719360"/>
              <a:ext cx="18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052440" y="2703600"/>
            <a:ext cx="3632760" cy="11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es-consultant(</a:t>
            </a:r>
            <a:r>
              <a:rPr b="0" lang="en-US" sz="1200" spc="-1" strike="noStrike" u="sng">
                <a:solidFill>
                  <a:srgbClr val="fc0128"/>
                </a:solidFill>
                <a:uFillTx/>
                <a:latin typeface="Times New Roman"/>
              </a:rPr>
              <a:t>employee#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name,addre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tomer(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customer-i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name, address, phone#, fax#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aged-trip(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reference-numb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date-arranged, depos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aged-tour(agency-name, tour-name, start-date, co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(description, cost, depos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schemas with name conflicts resolved (in red) are shown below. (It is not necessary to show this diagram in the solution.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887640" y="4648320"/>
            <a:ext cx="1963800" cy="1754640"/>
            <a:chOff x="3887640" y="4648320"/>
            <a:chExt cx="1963800" cy="1754640"/>
          </a:xfrm>
        </p:grpSpPr>
        <p:grpSp>
          <p:nvGrpSpPr>
            <p:cNvPr id="174" name=""/>
            <p:cNvGrpSpPr/>
            <p:nvPr/>
          </p:nvGrpSpPr>
          <p:grpSpPr>
            <a:xfrm>
              <a:off x="3887640" y="4648320"/>
              <a:ext cx="1963800" cy="1276200"/>
              <a:chOff x="3887640" y="4648320"/>
              <a:chExt cx="1963800" cy="1276200"/>
            </a:xfrm>
          </p:grpSpPr>
          <p:sp>
            <p:nvSpPr>
              <p:cNvPr id="175" name=""/>
              <p:cNvSpPr/>
              <p:nvPr/>
            </p:nvSpPr>
            <p:spPr>
              <a:xfrm>
                <a:off x="4468680" y="4648320"/>
                <a:ext cx="808200" cy="36828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c0128"/>
                    </a:solidFill>
                    <a:latin typeface="Times New Roman"/>
                  </a:rPr>
                  <a:t>Trip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887640" y="5549760"/>
                <a:ext cx="808200" cy="36828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c0128"/>
                    </a:solidFill>
                    <a:latin typeface="Times New Roman"/>
                  </a:rPr>
                  <a:t>Packaged-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c0128"/>
                    </a:solidFill>
                    <a:latin typeface="Times New Roman"/>
                  </a:rPr>
                  <a:t>trip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800600" y="5157720"/>
                <a:ext cx="144360" cy="144360"/>
              </a:xfrm>
              <a:prstGeom prst="ellipse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c0128"/>
                    </a:solidFill>
                    <a:latin typeface="Times New Roman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78" name=""/>
              <p:cNvCxnSpPr>
                <a:stCxn id="177" idx="0"/>
                <a:endCxn id="175" idx="2"/>
              </p:cNvCxnSpPr>
              <p:nvPr/>
            </p:nvCxnSpPr>
            <p:spPr>
              <a:xfrm flipV="1">
                <a:off x="4873320" y="5016240"/>
                <a:ext cx="1080" cy="141840"/>
              </a:xfrm>
              <a:prstGeom prst="straightConnector1">
                <a:avLst/>
              </a:prstGeom>
              <a:ln w="12600">
                <a:solidFill>
                  <a:srgbClr val="fc0128"/>
                </a:solidFill>
                <a:miter/>
              </a:ln>
            </p:spPr>
          </p:cxnSp>
          <p:cxnSp>
            <p:nvCxnSpPr>
              <p:cNvPr id="179" name=""/>
              <p:cNvCxnSpPr>
                <a:stCxn id="177" idx="3"/>
                <a:endCxn id="176" idx="0"/>
              </p:cNvCxnSpPr>
              <p:nvPr/>
            </p:nvCxnSpPr>
            <p:spPr>
              <a:xfrm flipH="1">
                <a:off x="4292280" y="5281200"/>
                <a:ext cx="529200" cy="268920"/>
              </a:xfrm>
              <a:prstGeom prst="straightConnector1">
                <a:avLst/>
              </a:prstGeom>
              <a:ln w="12600">
                <a:solidFill>
                  <a:srgbClr val="fc0128"/>
                </a:solidFill>
                <a:miter/>
              </a:ln>
            </p:spPr>
          </p:cxnSp>
          <p:cxnSp>
            <p:nvCxnSpPr>
              <p:cNvPr id="180" name=""/>
              <p:cNvCxnSpPr>
                <a:stCxn id="177" idx="5"/>
                <a:endCxn id="181" idx="0"/>
              </p:cNvCxnSpPr>
              <p:nvPr/>
            </p:nvCxnSpPr>
            <p:spPr>
              <a:xfrm>
                <a:off x="4924080" y="5281200"/>
                <a:ext cx="524160" cy="275400"/>
              </a:xfrm>
              <a:prstGeom prst="straightConnector1">
                <a:avLst/>
              </a:prstGeom>
              <a:ln w="12600">
                <a:solidFill>
                  <a:srgbClr val="fc0128"/>
                </a:solidFill>
                <a:miter/>
              </a:ln>
            </p:spPr>
          </p:cxnSp>
          <p:sp>
            <p:nvSpPr>
              <p:cNvPr id="182" name=""/>
              <p:cNvSpPr/>
              <p:nvPr/>
            </p:nvSpPr>
            <p:spPr>
              <a:xfrm rot="18019800">
                <a:off x="5021640" y="52642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c0128"/>
                    </a:solidFill>
                    <a:latin typeface="Arial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3506400">
                <a:off x="4397400" y="527544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c0128"/>
                    </a:solidFill>
                    <a:latin typeface="Arial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5043600" y="5556240"/>
                <a:ext cx="807840" cy="368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c0128"/>
                    </a:solidFill>
                    <a:latin typeface="Times New Roman"/>
                  </a:rPr>
                  <a:t>Special-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c0128"/>
                    </a:solidFill>
                    <a:latin typeface="Times New Roman"/>
                  </a:rPr>
                  <a:t>trip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3892320" y="6095880"/>
              <a:ext cx="195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schema constra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535560" y="5568840"/>
            <a:ext cx="28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Schema 2: Focused on special tri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28880" y="3897360"/>
            <a:ext cx="7848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Times New Roman"/>
              </a:rPr>
              <a:t>Sales-consulta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employee#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na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Times New Roman"/>
              </a:rPr>
              <a:t>Custom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200" spc="-1" strike="noStrike" u="sng">
                <a:solidFill>
                  <a:srgbClr val="fc0128"/>
                </a:solidFill>
                <a:uFillTx/>
                <a:latin typeface="Times New Roman"/>
              </a:rPr>
              <a:t>customer-i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name, address, </a:t>
            </a:r>
            <a:r>
              <a:rPr b="0" lang="en-US" sz="1200" spc="-1" strike="noStrike">
                <a:solidFill>
                  <a:srgbClr val="fc0128"/>
                </a:solidFill>
                <a:latin typeface="Times New Roman"/>
              </a:rPr>
              <a:t>phone#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mobile#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-trip(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reference-numb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date-arrang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el(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address, fax-numb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el-booking(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reservation#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first-day, last-day, room-type, room-rate, leg-number, date-made, description, amount, depos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line(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phone#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line-booking(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reservation#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eg-number, date-made, description, amount, deposit, airport, departure-ti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over(arrival-time, departure-time, airpo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552680" y="304920"/>
            <a:ext cx="6800760" cy="3200400"/>
            <a:chOff x="1552680" y="304920"/>
            <a:chExt cx="6800760" cy="3200400"/>
          </a:xfrm>
        </p:grpSpPr>
        <p:sp>
          <p:nvSpPr>
            <p:cNvPr id="188" name=""/>
            <p:cNvSpPr/>
            <p:nvPr/>
          </p:nvSpPr>
          <p:spPr>
            <a:xfrm flipH="1">
              <a:off x="7509600" y="1276200"/>
              <a:ext cx="8082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Airline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book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3033720" y="1251000"/>
              <a:ext cx="876240" cy="41904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Books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hote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7319880" y="1235160"/>
              <a:ext cx="18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184880" y="138420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1587600" y="1276200"/>
              <a:ext cx="80784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Hote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book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5991120" y="1251000"/>
              <a:ext cx="876240" cy="41904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Books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airlin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4" name=""/>
            <p:cNvCxnSpPr>
              <a:stCxn id="188" idx="1"/>
              <a:endCxn id="193" idx="1"/>
            </p:cNvCxnSpPr>
            <p:nvPr/>
          </p:nvCxnSpPr>
          <p:spPr>
            <a:xfrm flipH="1">
              <a:off x="6866640" y="1458720"/>
              <a:ext cx="6454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95" name=""/>
            <p:cNvCxnSpPr>
              <a:stCxn id="193" idx="3"/>
              <a:endCxn id="196" idx="3"/>
            </p:cNvCxnSpPr>
            <p:nvPr/>
          </p:nvCxnSpPr>
          <p:spPr>
            <a:xfrm flipH="1">
              <a:off x="5348160" y="1458720"/>
              <a:ext cx="6433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97" name=""/>
            <p:cNvCxnSpPr>
              <a:stCxn id="196" idx="1"/>
              <a:endCxn id="189" idx="1"/>
            </p:cNvCxnSpPr>
            <p:nvPr/>
          </p:nvCxnSpPr>
          <p:spPr>
            <a:xfrm flipH="1">
              <a:off x="3909240" y="1458720"/>
              <a:ext cx="6310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98" name=""/>
            <p:cNvCxnSpPr>
              <a:stCxn id="189" idx="3"/>
              <a:endCxn id="192" idx="3"/>
            </p:cNvCxnSpPr>
            <p:nvPr/>
          </p:nvCxnSpPr>
          <p:spPr>
            <a:xfrm flipH="1">
              <a:off x="2396880" y="1458720"/>
              <a:ext cx="63720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99" name=""/>
            <p:cNvSpPr/>
            <p:nvPr/>
          </p:nvSpPr>
          <p:spPr>
            <a:xfrm flipH="1">
              <a:off x="5354640" y="1239840"/>
              <a:ext cx="18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353840" y="1235160"/>
              <a:ext cx="183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2398680" y="1235160"/>
              <a:ext cx="18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3063960" y="2206800"/>
              <a:ext cx="80784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c0128"/>
                  </a:solidFill>
                  <a:latin typeface="Times New Roman"/>
                </a:rPr>
                <a:t>Sales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c0128"/>
                  </a:solidFill>
                  <a:latin typeface="Times New Roman"/>
                </a:rPr>
                <a:t>consulta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716200" y="138420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4502880" y="2181240"/>
              <a:ext cx="876600" cy="41904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Arrang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5" name=""/>
            <p:cNvCxnSpPr>
              <a:stCxn id="204" idx="3"/>
              <a:endCxn id="202" idx="3"/>
            </p:cNvCxnSpPr>
            <p:nvPr/>
          </p:nvCxnSpPr>
          <p:spPr>
            <a:xfrm flipH="1">
              <a:off x="3873240" y="2388960"/>
              <a:ext cx="6307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06" name=""/>
            <p:cNvSpPr/>
            <p:nvPr/>
          </p:nvSpPr>
          <p:spPr>
            <a:xfrm flipH="1">
              <a:off x="4948200" y="1646280"/>
              <a:ext cx="18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3886200" y="2154240"/>
              <a:ext cx="18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4140360" y="2343240"/>
              <a:ext cx="93600" cy="93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9" name=""/>
            <p:cNvCxnSpPr>
              <a:stCxn id="196" idx="2"/>
              <a:endCxn id="204" idx="0"/>
            </p:cNvCxnSpPr>
            <p:nvPr/>
          </p:nvCxnSpPr>
          <p:spPr>
            <a:xfrm flipH="1">
              <a:off x="4941000" y="1642680"/>
              <a:ext cx="2520" cy="538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10" name=""/>
            <p:cNvSpPr/>
            <p:nvPr/>
          </p:nvSpPr>
          <p:spPr>
            <a:xfrm flipH="1">
              <a:off x="4536360" y="3137040"/>
              <a:ext cx="8082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c0128"/>
                  </a:solidFill>
                  <a:latin typeface="Times New Roman"/>
                </a:rPr>
                <a:t>Custom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1" name=""/>
            <p:cNvCxnSpPr>
              <a:stCxn id="204" idx="2"/>
              <a:endCxn id="210" idx="0"/>
            </p:cNvCxnSpPr>
            <p:nvPr/>
          </p:nvCxnSpPr>
          <p:spPr>
            <a:xfrm>
              <a:off x="4941360" y="2598480"/>
              <a:ext cx="1080" cy="538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96" name=""/>
            <p:cNvSpPr/>
            <p:nvPr/>
          </p:nvSpPr>
          <p:spPr>
            <a:xfrm flipH="1">
              <a:off x="4537800" y="1276200"/>
              <a:ext cx="80820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Specia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ri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4938120" y="2911320"/>
              <a:ext cx="183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7477200" y="2181240"/>
              <a:ext cx="876240" cy="41904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With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airlin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7921080" y="1646280"/>
              <a:ext cx="183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5" name=""/>
            <p:cNvCxnSpPr>
              <a:stCxn id="188" idx="2"/>
              <a:endCxn id="213" idx="0"/>
            </p:cNvCxnSpPr>
            <p:nvPr/>
          </p:nvCxnSpPr>
          <p:spPr>
            <a:xfrm>
              <a:off x="7914960" y="1642680"/>
              <a:ext cx="1080" cy="538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16" name=""/>
            <p:cNvSpPr/>
            <p:nvPr/>
          </p:nvSpPr>
          <p:spPr>
            <a:xfrm flipH="1">
              <a:off x="7509600" y="3137040"/>
              <a:ext cx="8082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Airlin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7" name=""/>
            <p:cNvCxnSpPr>
              <a:stCxn id="213" idx="2"/>
              <a:endCxn id="216" idx="0"/>
            </p:cNvCxnSpPr>
            <p:nvPr/>
          </p:nvCxnSpPr>
          <p:spPr>
            <a:xfrm>
              <a:off x="7914960" y="2598480"/>
              <a:ext cx="1080" cy="538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18" name=""/>
            <p:cNvSpPr/>
            <p:nvPr/>
          </p:nvSpPr>
          <p:spPr>
            <a:xfrm flipH="1">
              <a:off x="7912080" y="2911320"/>
              <a:ext cx="18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7838640" y="286848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1552680" y="2181240"/>
              <a:ext cx="876240" cy="41904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With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hote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1996920" y="1646280"/>
              <a:ext cx="18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2" name=""/>
            <p:cNvCxnSpPr>
              <a:stCxn id="192" idx="2"/>
              <a:endCxn id="220" idx="0"/>
            </p:cNvCxnSpPr>
            <p:nvPr/>
          </p:nvCxnSpPr>
          <p:spPr>
            <a:xfrm flipH="1">
              <a:off x="1990440" y="1642680"/>
              <a:ext cx="2160" cy="538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23" name=""/>
            <p:cNvSpPr/>
            <p:nvPr/>
          </p:nvSpPr>
          <p:spPr>
            <a:xfrm flipH="1">
              <a:off x="1585080" y="3137040"/>
              <a:ext cx="8082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Hote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4" name=""/>
            <p:cNvCxnSpPr>
              <a:stCxn id="220" idx="2"/>
              <a:endCxn id="223" idx="0"/>
            </p:cNvCxnSpPr>
            <p:nvPr/>
          </p:nvCxnSpPr>
          <p:spPr>
            <a:xfrm>
              <a:off x="1990440" y="2598480"/>
              <a:ext cx="1080" cy="538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25" name=""/>
            <p:cNvSpPr/>
            <p:nvPr/>
          </p:nvSpPr>
          <p:spPr>
            <a:xfrm flipH="1">
              <a:off x="1987560" y="2911320"/>
              <a:ext cx="18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1914120" y="286848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7466760" y="316080"/>
              <a:ext cx="876600" cy="41904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Stops-a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8" name=""/>
            <p:cNvCxnSpPr>
              <a:stCxn id="227" idx="3"/>
              <a:endCxn id="229" idx="3"/>
            </p:cNvCxnSpPr>
            <p:nvPr/>
          </p:nvCxnSpPr>
          <p:spPr>
            <a:xfrm flipH="1">
              <a:off x="6842880" y="523440"/>
              <a:ext cx="62460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30" name=""/>
            <p:cNvSpPr/>
            <p:nvPr/>
          </p:nvSpPr>
          <p:spPr>
            <a:xfrm flipH="1">
              <a:off x="6831000" y="304920"/>
              <a:ext cx="18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6014160" y="341280"/>
              <a:ext cx="808200" cy="368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Stopov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7838640" y="100476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2" name=""/>
            <p:cNvCxnSpPr>
              <a:stCxn id="227" idx="2"/>
              <a:endCxn id="188" idx="0"/>
            </p:cNvCxnSpPr>
            <p:nvPr/>
          </p:nvCxnSpPr>
          <p:spPr>
            <a:xfrm>
              <a:off x="7905240" y="733320"/>
              <a:ext cx="10440" cy="5436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33" name=""/>
            <p:cNvSpPr/>
            <p:nvPr/>
          </p:nvSpPr>
          <p:spPr>
            <a:xfrm flipH="1">
              <a:off x="7905600" y="1052640"/>
              <a:ext cx="18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4176720" y="1413000"/>
              <a:ext cx="93600" cy="93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5621400" y="1414440"/>
              <a:ext cx="93600" cy="93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4896000" y="1865160"/>
              <a:ext cx="93600" cy="93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4896000" y="2820960"/>
              <a:ext cx="93600" cy="93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7097760" y="477720"/>
              <a:ext cx="93600" cy="93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1944720" y="1865160"/>
              <a:ext cx="93600" cy="93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7867800" y="1865160"/>
              <a:ext cx="93600" cy="93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350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st and resolve (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tating any assumptions you need to mak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all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structural conflict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hat are present in the two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6350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Compat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350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ales-consultant entity in schema 1 and Sales-consultant entity in schema 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350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d address attribute to Sales-consultant entity in schema 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350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ii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stomer entity in schema 1 and Customer entity in schema 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350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d fax# attributes to Customer entity in schema 2. Add mobile# attribute to Customer entity in schema 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350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Incompat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350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relationship among Sales-consultant, Packaged-trip/Special-trip and Customer in schema 1 and schema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6350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cording to the problem description, all trips whether packaged-trips or special-trips are related to sales-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ultants and customers in the same way, namely, there is only one sales consultant and one customer for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trip. Therefore, the representation in schema 1, where two binary relationships are used, would appear to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 the correct interpretation of this requirement and a ternary relationship, as used in schema 2, is not need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63504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 that there is also a modeling error in schema 1 since it shows that the relationship between Sales-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ultant and Packaged-trip is N:M whereas the problem description clearly states that this should be a 1:N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lationshi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348360" y="3892680"/>
            <a:ext cx="304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Schema 1: Focused on packaged tri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508040" y="1295280"/>
            <a:ext cx="6721560" cy="1135080"/>
            <a:chOff x="1508040" y="1295280"/>
            <a:chExt cx="6721560" cy="1135080"/>
          </a:xfrm>
        </p:grpSpPr>
        <p:sp>
          <p:nvSpPr>
            <p:cNvPr id="244" name=""/>
            <p:cNvSpPr/>
            <p:nvPr/>
          </p:nvSpPr>
          <p:spPr>
            <a:xfrm>
              <a:off x="1508040" y="1352520"/>
              <a:ext cx="8082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Sales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onsulta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908680" y="1327320"/>
              <a:ext cx="876240" cy="41904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Buy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319480" y="1295280"/>
              <a:ext cx="183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c0128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421400" y="1352520"/>
              <a:ext cx="8082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62560" y="1352520"/>
              <a:ext cx="80784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Packaged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ri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51280" y="1327320"/>
              <a:ext cx="876240" cy="41904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Book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0" name=""/>
            <p:cNvCxnSpPr>
              <a:stCxn id="244" idx="3"/>
              <a:endCxn id="249" idx="1"/>
            </p:cNvCxnSpPr>
            <p:nvPr/>
          </p:nvCxnSpPr>
          <p:spPr>
            <a:xfrm>
              <a:off x="2316240" y="1536480"/>
              <a:ext cx="6357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51" name=""/>
            <p:cNvCxnSpPr>
              <a:stCxn id="249" idx="3"/>
              <a:endCxn id="248" idx="1"/>
            </p:cNvCxnSpPr>
            <p:nvPr/>
          </p:nvCxnSpPr>
          <p:spPr>
            <a:xfrm>
              <a:off x="3827520" y="1536480"/>
              <a:ext cx="6357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52" name=""/>
            <p:cNvCxnSpPr>
              <a:stCxn id="248" idx="3"/>
              <a:endCxn id="245" idx="1"/>
            </p:cNvCxnSpPr>
            <p:nvPr/>
          </p:nvCxnSpPr>
          <p:spPr>
            <a:xfrm>
              <a:off x="5270040" y="1536480"/>
              <a:ext cx="63900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53" name=""/>
            <p:cNvCxnSpPr>
              <a:stCxn id="245" idx="3"/>
              <a:endCxn id="247" idx="1"/>
            </p:cNvCxnSpPr>
            <p:nvPr/>
          </p:nvCxnSpPr>
          <p:spPr>
            <a:xfrm>
              <a:off x="6784920" y="1536480"/>
              <a:ext cx="63720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267080" y="1297080"/>
              <a:ext cx="18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c0128"/>
                  </a:solidFill>
                  <a:latin typeface="Times New Roman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275440" y="1297080"/>
              <a:ext cx="183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230960" y="1305000"/>
              <a:ext cx="18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41840" y="1488960"/>
              <a:ext cx="93960" cy="93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33760" y="146052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02440" y="146052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097160" y="1488960"/>
              <a:ext cx="93960" cy="93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508040" y="2036880"/>
              <a:ext cx="8082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Package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ou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319480" y="1981080"/>
              <a:ext cx="183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951280" y="2011320"/>
              <a:ext cx="876240" cy="41904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nclud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4" name=""/>
            <p:cNvCxnSpPr>
              <a:stCxn id="261" idx="3"/>
              <a:endCxn id="263" idx="1"/>
            </p:cNvCxnSpPr>
            <p:nvPr/>
          </p:nvCxnSpPr>
          <p:spPr>
            <a:xfrm>
              <a:off x="2316240" y="2220480"/>
              <a:ext cx="6357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65" name=""/>
            <p:cNvSpPr/>
            <p:nvPr/>
          </p:nvSpPr>
          <p:spPr>
            <a:xfrm>
              <a:off x="5908680" y="2011320"/>
              <a:ext cx="876240" cy="41904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Has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extr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421400" y="2036880"/>
              <a:ext cx="808200" cy="368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Extr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5" idx="3"/>
              <a:endCxn id="266" idx="1"/>
            </p:cNvCxnSpPr>
            <p:nvPr/>
          </p:nvCxnSpPr>
          <p:spPr>
            <a:xfrm>
              <a:off x="6784920" y="2220480"/>
              <a:ext cx="6184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68" name=""/>
            <p:cNvSpPr/>
            <p:nvPr/>
          </p:nvSpPr>
          <p:spPr>
            <a:xfrm>
              <a:off x="7223040" y="1990800"/>
              <a:ext cx="18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056360" y="2174760"/>
              <a:ext cx="93600" cy="93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817800" y="1719360"/>
              <a:ext cx="881280" cy="500040"/>
            </a:xfrm>
            <a:custGeom>
              <a:avLst/>
              <a:gdLst/>
              <a:ahLst/>
              <a:rect l="l" t="t" r="r" b="b"/>
              <a:pathLst>
                <a:path w="555" h="315">
                  <a:moveTo>
                    <a:pt x="0" y="315"/>
                  </a:moveTo>
                  <a:lnTo>
                    <a:pt x="555" y="315"/>
                  </a:lnTo>
                  <a:lnTo>
                    <a:pt x="55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5033880" y="1722600"/>
              <a:ext cx="881280" cy="500040"/>
            </a:xfrm>
            <a:custGeom>
              <a:avLst/>
              <a:gdLst/>
              <a:ahLst/>
              <a:rect l="l" t="t" r="r" b="b"/>
              <a:pathLst>
                <a:path w="555" h="315">
                  <a:moveTo>
                    <a:pt x="0" y="315"/>
                  </a:moveTo>
                  <a:lnTo>
                    <a:pt x="555" y="315"/>
                  </a:lnTo>
                  <a:lnTo>
                    <a:pt x="55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653000" y="1973160"/>
              <a:ext cx="93600" cy="93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633760" y="2144880"/>
              <a:ext cx="0" cy="15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4955760" y="202104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505400" y="1716120"/>
              <a:ext cx="183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038560" y="1719360"/>
              <a:ext cx="184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3043080" y="2703600"/>
            <a:ext cx="3984480" cy="11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es-consultant(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employee#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name,addre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tomer(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customer-i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name, address, phone#, fax#, </a:t>
            </a:r>
            <a:r>
              <a:rPr b="0" lang="en-US" sz="1200" spc="-1" strike="noStrike">
                <a:solidFill>
                  <a:srgbClr val="fc0128"/>
                </a:solidFill>
                <a:latin typeface="Times New Roman"/>
              </a:rPr>
              <a:t>mobile#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aged-trip(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reference-numb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date-arranged, depos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aged-tour(agency-name, tour-name, start-date, co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(description, cost, depos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schemas with structural conflicts resolved (in red) are shown below. (It is not necessary to show this diagram in the solution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887640" y="4648320"/>
            <a:ext cx="1963800" cy="1754640"/>
            <a:chOff x="3887640" y="4648320"/>
            <a:chExt cx="1963800" cy="1754640"/>
          </a:xfrm>
        </p:grpSpPr>
        <p:grpSp>
          <p:nvGrpSpPr>
            <p:cNvPr id="280" name=""/>
            <p:cNvGrpSpPr/>
            <p:nvPr/>
          </p:nvGrpSpPr>
          <p:grpSpPr>
            <a:xfrm>
              <a:off x="3887640" y="4648320"/>
              <a:ext cx="1963800" cy="1276200"/>
              <a:chOff x="3887640" y="4648320"/>
              <a:chExt cx="1963800" cy="1276200"/>
            </a:xfrm>
          </p:grpSpPr>
          <p:sp>
            <p:nvSpPr>
              <p:cNvPr id="281" name=""/>
              <p:cNvSpPr/>
              <p:nvPr/>
            </p:nvSpPr>
            <p:spPr>
              <a:xfrm>
                <a:off x="4468680" y="4648320"/>
                <a:ext cx="80820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Trip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887640" y="5549760"/>
                <a:ext cx="80820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Packaged-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trip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800600" y="5157720"/>
                <a:ext cx="144360" cy="1443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84" name=""/>
              <p:cNvCxnSpPr>
                <a:stCxn id="283" idx="0"/>
                <a:endCxn id="281" idx="2"/>
              </p:cNvCxnSpPr>
              <p:nvPr/>
            </p:nvCxnSpPr>
            <p:spPr>
              <a:xfrm flipV="1">
                <a:off x="4873320" y="5016240"/>
                <a:ext cx="1080" cy="1418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285" name=""/>
              <p:cNvCxnSpPr>
                <a:stCxn id="283" idx="3"/>
                <a:endCxn id="282" idx="0"/>
              </p:cNvCxnSpPr>
              <p:nvPr/>
            </p:nvCxnSpPr>
            <p:spPr>
              <a:xfrm flipH="1">
                <a:off x="4292280" y="5281200"/>
                <a:ext cx="529200" cy="2689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286" name=""/>
              <p:cNvCxnSpPr>
                <a:stCxn id="283" idx="5"/>
                <a:endCxn id="287" idx="0"/>
              </p:cNvCxnSpPr>
              <p:nvPr/>
            </p:nvCxnSpPr>
            <p:spPr>
              <a:xfrm>
                <a:off x="4924080" y="5281200"/>
                <a:ext cx="524160" cy="27540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288" name=""/>
              <p:cNvSpPr/>
              <p:nvPr/>
            </p:nvSpPr>
            <p:spPr>
              <a:xfrm rot="18019800">
                <a:off x="5021640" y="52642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3506400">
                <a:off x="4397400" y="527544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5043600" y="5556240"/>
                <a:ext cx="807840" cy="368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Special-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trip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3892320" y="6095880"/>
              <a:ext cx="195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schema constra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9T21:47:45Z</dcterms:created>
  <dc:creator>Fred Lochovsky</dc:creator>
  <dc:description/>
  <dc:language>en-US</dc:language>
  <cp:lastModifiedBy>CCST</cp:lastModifiedBy>
  <cp:lastPrinted>2002-07-22T06:25:31Z</cp:lastPrinted>
  <dcterms:modified xsi:type="dcterms:W3CDTF">2002-07-25T08:36:52Z</dcterms:modified>
  <cp:revision>290</cp:revision>
  <dc:subject/>
  <dc:title>Tutorial</dc:title>
</cp:coreProperties>
</file>