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91440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0880" y="3572280"/>
            <a:ext cx="91440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6640" y="22860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80880" y="357228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6640" y="357228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29440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472560" y="228600"/>
            <a:ext cx="29440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64240" y="228600"/>
            <a:ext cx="29440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80880" y="3572280"/>
            <a:ext cx="29440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472560" y="3572280"/>
            <a:ext cx="29440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64240" y="3572280"/>
            <a:ext cx="294408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44622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6640" y="228600"/>
            <a:ext cx="44622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000" y="273600"/>
            <a:ext cx="891288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6640" y="228600"/>
            <a:ext cx="44622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80880" y="357228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44622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6640" y="22860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6640" y="357228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80880" y="22860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6640" y="228600"/>
            <a:ext cx="44622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80880" y="3572280"/>
            <a:ext cx="9144000" cy="305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49"/>
              </a:spcBef>
              <a:buClr>
                <a:srgbClr val="000000"/>
              </a:buClr>
              <a:buFont typeface="Time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9246240" y="6553080"/>
            <a:ext cx="92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667A-B542-4A63-8D2C-53B46DEFF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160" y="6583320"/>
            <a:ext cx="104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er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495000" y="273600"/>
            <a:ext cx="891288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 332: Principles of Database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nal Exam — Sample Solu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gust 5, 200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 hou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Valu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40% of course ma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800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ircle the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best/correc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swer in each question, Each best/correct answer is worth 1 mark.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r each question 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here is only one best/correct answer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Questions that have more than one answer circled will be ignored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01"/>
              </a:spcBef>
              <a:spcAft>
                <a:spcPts val="300"/>
              </a:spcAft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database design process, what database design phase usually follows the Conceptual Design Phase?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unctional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irements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gical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hysical Desig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01"/>
              </a:spcBef>
              <a:spcAft>
                <a:spcPts val="300"/>
              </a:spcAft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isjoint coverage constraint for generalization means that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super-entity instance can be an instance of one or more of the sub-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me sub-entity instance is not an instance of any super-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super-entity instance can be an instance of at most one of the sub-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super-entity instance is an instance of some sub-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ctr" pos="4457880"/>
                <a:tab algn="r" pos="89154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me super-entity instance is not an instance of any sub-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1177920" y="3048120"/>
            <a:ext cx="279360" cy="2793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77920" y="4610160"/>
            <a:ext cx="279360" cy="2793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 assume that Vehicle and Car represen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iffere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but related, entities. Note that this is probably the correct assumption as it results in less “severe” changes to the three sch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 and state how you resolve any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 conflic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at are present in the three schemas. State and justify an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ptions you need to mak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hicle in schema 1 and Car in schema 2 and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 an interschema constraint where Car is a sub-entity of Vehicle. Note that as a consequence of this, we ca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move the model attribute from Car in schema 2 as it is inherited from Vehic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 in schema 1 and Item in schema 3 (synony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Part as Item in schema 1 or Item as Part in schema 3. (We use Part in our 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lations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e.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# in Part entity schema 1 and item# in Item entity (renamed Part) schema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as item# in schema 1 or as part# in schema 3 according to how the entity name conflict betwee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 and Item was resolved (see point (ii) under Entities above). (We use part# in our 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-type in Service entity in schema 2 and service-needed in Works-on relationship in schema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as service-needed in schema 2 or as service-type in schema 3. (We use service-type in ou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ation# in Car entity in schema 2 and license# in Car entity in schema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license# in schema 2 or registration# in schema 3. (We use license# in our 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spcBef>
                <a:spcPts val="300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hree schemas with name conflicts resolved (in red) are shown below. (It is not necessary to show this diagram in the 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295280" y="838080"/>
            <a:ext cx="5794920" cy="2623320"/>
            <a:chOff x="1295280" y="838080"/>
            <a:chExt cx="5794920" cy="2623320"/>
          </a:xfrm>
        </p:grpSpPr>
        <p:sp>
          <p:nvSpPr>
            <p:cNvPr id="278" name=""/>
            <p:cNvSpPr/>
            <p:nvPr/>
          </p:nvSpPr>
          <p:spPr>
            <a:xfrm>
              <a:off x="1560960" y="3154320"/>
              <a:ext cx="307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1. Administration Office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015160" y="847440"/>
              <a:ext cx="2075040" cy="9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ny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hicle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odel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warran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rt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descrip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pplie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upplier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1295280" y="838080"/>
              <a:ext cx="3601800" cy="2184480"/>
              <a:chOff x="1295280" y="838080"/>
              <a:chExt cx="3601800" cy="2184480"/>
            </a:xfrm>
          </p:grpSpPr>
          <p:sp>
            <p:nvSpPr>
              <p:cNvPr id="281" name=""/>
              <p:cNvSpPr/>
              <p:nvPr/>
            </p:nvSpPr>
            <p:spPr>
              <a:xfrm>
                <a:off x="2657160" y="83808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699920" y="12124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4054320" y="86328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330200" y="86328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ehi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295280" y="177156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nufactur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86" name=""/>
              <p:cNvCxnSpPr>
                <a:stCxn id="284" idx="3"/>
                <a:endCxn id="281" idx="1"/>
              </p:cNvCxnSpPr>
              <p:nvPr/>
            </p:nvCxnSpPr>
            <p:spPr>
              <a:xfrm>
                <a:off x="2138040" y="1047240"/>
                <a:ext cx="5198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87" name=""/>
              <p:cNvCxnSpPr>
                <a:stCxn id="281" idx="3"/>
                <a:endCxn id="283" idx="1"/>
              </p:cNvCxnSpPr>
              <p:nvPr/>
            </p:nvCxnSpPr>
            <p:spPr>
              <a:xfrm>
                <a:off x="3533040" y="1047240"/>
                <a:ext cx="521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288" name=""/>
              <p:cNvSpPr/>
              <p:nvPr/>
            </p:nvSpPr>
            <p:spPr>
              <a:xfrm>
                <a:off x="1699920" y="24429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98440" y="83952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898800" y="83952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330200" y="2653920"/>
                <a:ext cx="80784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pan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4384080" y="242244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4055760" y="2653920"/>
                <a:ext cx="80820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4020840" y="177156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d-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414680" y="244296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96" name=""/>
              <p:cNvCxnSpPr>
                <a:stCxn id="294" idx="2"/>
                <a:endCxn id="293" idx="0"/>
              </p:cNvCxnSpPr>
              <p:nvPr/>
            </p:nvCxnSpPr>
            <p:spPr>
              <a:xfrm>
                <a:off x="4458600" y="2190240"/>
                <a:ext cx="2520" cy="46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97" name=""/>
              <p:cNvCxnSpPr>
                <a:stCxn id="294" idx="0"/>
                <a:endCxn id="283" idx="2"/>
              </p:cNvCxnSpPr>
              <p:nvPr/>
            </p:nvCxnSpPr>
            <p:spPr>
              <a:xfrm flipV="1">
                <a:off x="4458600" y="1231200"/>
                <a:ext cx="1080" cy="540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298" name=""/>
              <p:cNvSpPr/>
              <p:nvPr/>
            </p:nvSpPr>
            <p:spPr>
              <a:xfrm>
                <a:off x="4414680" y="121248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794040" y="97128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96880" y="97308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01" name=""/>
              <p:cNvCxnSpPr>
                <a:stCxn id="285" idx="0"/>
                <a:endCxn id="284" idx="2"/>
              </p:cNvCxnSpPr>
              <p:nvPr/>
            </p:nvCxnSpPr>
            <p:spPr>
              <a:xfrm flipV="1">
                <a:off x="1733400" y="1231200"/>
                <a:ext cx="2160" cy="540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02" name=""/>
              <p:cNvCxnSpPr>
                <a:stCxn id="285" idx="2"/>
                <a:endCxn id="291" idx="0"/>
              </p:cNvCxnSpPr>
              <p:nvPr/>
            </p:nvCxnSpPr>
            <p:spPr>
              <a:xfrm>
                <a:off x="1733400" y="2190240"/>
                <a:ext cx="2160" cy="46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03" name=""/>
              <p:cNvSpPr/>
              <p:nvPr/>
            </p:nvSpPr>
            <p:spPr>
              <a:xfrm flipH="1">
                <a:off x="4384080" y="15015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1658160" y="15015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1658160" y="242244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6994080" y="1371600"/>
            <a:ext cx="1689480" cy="1721160"/>
            <a:chOff x="6994080" y="1371600"/>
            <a:chExt cx="1689480" cy="1721160"/>
          </a:xfrm>
        </p:grpSpPr>
        <p:grpSp>
          <p:nvGrpSpPr>
            <p:cNvPr id="307" name=""/>
            <p:cNvGrpSpPr/>
            <p:nvPr/>
          </p:nvGrpSpPr>
          <p:grpSpPr>
            <a:xfrm>
              <a:off x="7435440" y="1371600"/>
              <a:ext cx="808200" cy="1244520"/>
              <a:chOff x="7435440" y="1371600"/>
              <a:chExt cx="808200" cy="1244520"/>
            </a:xfrm>
          </p:grpSpPr>
          <p:cxnSp>
            <p:nvCxnSpPr>
              <p:cNvPr id="308" name=""/>
              <p:cNvCxnSpPr>
                <a:stCxn id="309" idx="4"/>
                <a:endCxn id="310" idx="0"/>
              </p:cNvCxnSpPr>
              <p:nvPr/>
            </p:nvCxnSpPr>
            <p:spPr>
              <a:xfrm>
                <a:off x="7839000" y="2018880"/>
                <a:ext cx="2160" cy="22932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311" name=""/>
              <p:cNvSpPr/>
              <p:nvPr/>
            </p:nvSpPr>
            <p:spPr>
              <a:xfrm>
                <a:off x="7692480" y="20192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435440" y="137160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Vehi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7435440" y="224784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762680" y="186696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13" name=""/>
              <p:cNvCxnSpPr>
                <a:stCxn id="309" idx="0"/>
                <a:endCxn id="312" idx="2"/>
              </p:cNvCxnSpPr>
              <p:nvPr/>
            </p:nvCxnSpPr>
            <p:spPr>
              <a:xfrm flipV="1">
                <a:off x="7839000" y="1739160"/>
                <a:ext cx="2160" cy="12780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</p:grpSp>
        <p:sp>
          <p:nvSpPr>
            <p:cNvPr id="314" name=""/>
            <p:cNvSpPr/>
            <p:nvPr/>
          </p:nvSpPr>
          <p:spPr>
            <a:xfrm>
              <a:off x="6994080" y="2816280"/>
              <a:ext cx="168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schema constra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5" name=""/>
          <p:cNvGrpSpPr/>
          <p:nvPr/>
        </p:nvGrpSpPr>
        <p:grpSpPr>
          <a:xfrm>
            <a:off x="1751040" y="3772080"/>
            <a:ext cx="6413400" cy="1315080"/>
            <a:chOff x="1751040" y="3772080"/>
            <a:chExt cx="6413400" cy="1315080"/>
          </a:xfrm>
        </p:grpSpPr>
        <p:sp>
          <p:nvSpPr>
            <p:cNvPr id="316" name=""/>
            <p:cNvSpPr/>
            <p:nvPr/>
          </p:nvSpPr>
          <p:spPr>
            <a:xfrm>
              <a:off x="3108240" y="4780080"/>
              <a:ext cx="370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2. Customer Service Department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909800" y="4284720"/>
              <a:ext cx="609588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license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manufacturer-name, year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stomer(name, address, phone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ce(date, service-typ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1751040" y="3772080"/>
              <a:ext cx="6413400" cy="455400"/>
              <a:chOff x="1751040" y="3772080"/>
              <a:chExt cx="6413400" cy="455400"/>
            </a:xfrm>
          </p:grpSpPr>
          <p:sp>
            <p:nvSpPr>
              <p:cNvPr id="319" name=""/>
              <p:cNvSpPr/>
              <p:nvPr/>
            </p:nvSpPr>
            <p:spPr>
              <a:xfrm flipH="1">
                <a:off x="3117960" y="38084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s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hedu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H="1">
                <a:off x="1751040" y="3834000"/>
                <a:ext cx="80784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H="1">
                <a:off x="7356600" y="3834000"/>
                <a:ext cx="80784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H="1">
                <a:off x="7149960" y="37720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075440" y="39416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5919840" y="38084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wn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25" name=""/>
              <p:cNvCxnSpPr>
                <a:stCxn id="321" idx="1"/>
                <a:endCxn id="324" idx="1"/>
              </p:cNvCxnSpPr>
              <p:nvPr/>
            </p:nvCxnSpPr>
            <p:spPr>
              <a:xfrm flipH="1">
                <a:off x="6795720" y="4016160"/>
                <a:ext cx="5436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26" name=""/>
              <p:cNvCxnSpPr>
                <a:stCxn id="324" idx="3"/>
                <a:endCxn id="327" idx="3"/>
              </p:cNvCxnSpPr>
              <p:nvPr/>
            </p:nvCxnSpPr>
            <p:spPr>
              <a:xfrm flipH="1">
                <a:off x="5362200" y="4016160"/>
                <a:ext cx="5580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28" name=""/>
              <p:cNvSpPr/>
              <p:nvPr/>
            </p:nvSpPr>
            <p:spPr>
              <a:xfrm flipH="1">
                <a:off x="5359320" y="37720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flipH="1">
                <a:off x="4356000" y="37720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H="1">
                <a:off x="2565360" y="37720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273560" y="39416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640480" y="39416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H="1">
                <a:off x="4552200" y="3834000"/>
                <a:ext cx="80820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33" name=""/>
              <p:cNvCxnSpPr>
                <a:stCxn id="320" idx="3"/>
                <a:endCxn id="319" idx="3"/>
              </p:cNvCxnSpPr>
              <p:nvPr/>
            </p:nvCxnSpPr>
            <p:spPr>
              <a:xfrm>
                <a:off x="2579400" y="4016160"/>
                <a:ext cx="538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34" name=""/>
              <p:cNvCxnSpPr>
                <a:stCxn id="327" idx="1"/>
                <a:endCxn id="319" idx="1"/>
              </p:cNvCxnSpPr>
              <p:nvPr/>
            </p:nvCxnSpPr>
            <p:spPr>
              <a:xfrm flipH="1">
                <a:off x="3993840" y="4016160"/>
                <a:ext cx="5608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35" name=""/>
              <p:cNvSpPr/>
              <p:nvPr/>
            </p:nvSpPr>
            <p:spPr>
              <a:xfrm flipH="1">
                <a:off x="2790720" y="397188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36" name=""/>
          <p:cNvGrpSpPr/>
          <p:nvPr/>
        </p:nvGrpSpPr>
        <p:grpSpPr>
          <a:xfrm>
            <a:off x="1751040" y="5397480"/>
            <a:ext cx="6413400" cy="1310400"/>
            <a:chOff x="1751040" y="5397480"/>
            <a:chExt cx="6413400" cy="1310400"/>
          </a:xfrm>
        </p:grpSpPr>
        <p:sp>
          <p:nvSpPr>
            <p:cNvPr id="337" name=""/>
            <p:cNvSpPr/>
            <p:nvPr/>
          </p:nvSpPr>
          <p:spPr>
            <a:xfrm>
              <a:off x="3495240" y="6400800"/>
              <a:ext cx="29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3. Repair Department view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328840" y="5905440"/>
              <a:ext cx="52578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chanic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Par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part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cost, supplier-na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cense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owner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s-on(date, 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ervice-typ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1751040" y="5397480"/>
              <a:ext cx="6413400" cy="457200"/>
              <a:chOff x="1751040" y="5397480"/>
              <a:chExt cx="6413400" cy="457200"/>
            </a:xfrm>
          </p:grpSpPr>
          <p:sp>
            <p:nvSpPr>
              <p:cNvPr id="340" name=""/>
              <p:cNvSpPr/>
              <p:nvPr/>
            </p:nvSpPr>
            <p:spPr>
              <a:xfrm flipH="1">
                <a:off x="5919840" y="54356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qui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H="1">
                <a:off x="7356600" y="5460840"/>
                <a:ext cx="80784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>
                <a:off x="5359320" y="53974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7162200" y="541008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3117960" y="54356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orks-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52920" y="5460840"/>
                <a:ext cx="80820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1751040" y="5460840"/>
                <a:ext cx="80784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echan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47" name=""/>
              <p:cNvCxnSpPr>
                <a:stCxn id="346" idx="3"/>
                <a:endCxn id="344" idx="1"/>
              </p:cNvCxnSpPr>
              <p:nvPr/>
            </p:nvCxnSpPr>
            <p:spPr>
              <a:xfrm>
                <a:off x="2558520" y="5644800"/>
                <a:ext cx="5598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48" name=""/>
              <p:cNvCxnSpPr>
                <a:stCxn id="344" idx="3"/>
                <a:endCxn id="345" idx="1"/>
              </p:cNvCxnSpPr>
              <p:nvPr/>
            </p:nvCxnSpPr>
            <p:spPr>
              <a:xfrm>
                <a:off x="3994200" y="5644800"/>
                <a:ext cx="559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49" name=""/>
              <p:cNvSpPr/>
              <p:nvPr/>
            </p:nvSpPr>
            <p:spPr>
              <a:xfrm>
                <a:off x="2565360" y="54100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361040" y="541008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2838600" y="55706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H="1">
                <a:off x="4226040" y="559764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53" name=""/>
              <p:cNvCxnSpPr>
                <a:stCxn id="345" idx="3"/>
                <a:endCxn id="340" idx="3"/>
              </p:cNvCxnSpPr>
              <p:nvPr/>
            </p:nvCxnSpPr>
            <p:spPr>
              <a:xfrm flipV="1">
                <a:off x="5361120" y="5643360"/>
                <a:ext cx="55908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54" name=""/>
              <p:cNvCxnSpPr>
                <a:stCxn id="340" idx="1"/>
                <a:endCxn id="341" idx="1"/>
              </p:cNvCxnSpPr>
              <p:nvPr/>
            </p:nvCxnSpPr>
            <p:spPr>
              <a:xfrm>
                <a:off x="6795720" y="5643360"/>
                <a:ext cx="562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55" name=""/>
              <p:cNvSpPr/>
              <p:nvPr/>
            </p:nvSpPr>
            <p:spPr>
              <a:xfrm flipH="1">
                <a:off x="5591880" y="5597640"/>
                <a:ext cx="9396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 flipH="1">
                <a:off x="7029360" y="559764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 and state how you resolve any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ructural conflic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at are present in the three schemas. State and justify an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ptions you need to mak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mpat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ny entity in schema 1 and manufacturer-name attribute in the Car entity in schema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manufacturer-name of the car is the Company that makes the car. Since Car is a sub-entity of Vehicle, i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herits the relationship with Company. So, we simply need to remove the manufacturer-name attribute fro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lier entity in schema 1 and supplier-name attribute in Item (renamed Part) entity in schema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pplier-name attribute an entity called Supplier in schema 3 and give it the same attributes as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lier entity in schema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 entity in schema 1 and Item (renamed Part) Part entity in schema 3 have different attribu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cost attribute to Part entity in schema 1 and description attribute to Part entity in schema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v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entity in schema 2 and owner attribute in the Car entity in schema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owner attribute an entity called Customer in schema 3 and give it the same attributes as the Custome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ity in schema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 entity in schema 2 and Works-on relationship attributes in schema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Using relationship splitting, we introduce a new entity, Service, in schema 3 that has the attributes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s-on and a new relationship Has-scheduled. We relate Car to Service using Has-scheduled and Mechanic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Service using Works-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We use a ternary relationship to relate Car, Service and Mechanic. Note that Service now becomes 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ong entity as the date attribute moves to the relationship. Note that schema 2 also needs to be changed in thi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se to be a ternary relationship among Car, Service and Mechani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 entity in schema 2 and Car entity in schema 3 have different attribu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year attribute to Car entity in schema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chema with structural conflicts resolved is shown below. (It is not necessary to show this diagram in the 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762120" y="743040"/>
            <a:ext cx="5810760" cy="2655000"/>
            <a:chOff x="762120" y="743040"/>
            <a:chExt cx="5810760" cy="2655000"/>
          </a:xfrm>
        </p:grpSpPr>
        <p:sp>
          <p:nvSpPr>
            <p:cNvPr id="360" name=""/>
            <p:cNvSpPr/>
            <p:nvPr/>
          </p:nvSpPr>
          <p:spPr>
            <a:xfrm>
              <a:off x="2076480" y="3090960"/>
              <a:ext cx="3022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1. Administration office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97840" y="752400"/>
              <a:ext cx="2075040" cy="9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ny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hicle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odel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warran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rt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cos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descrip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pplie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upplier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2" name=""/>
            <p:cNvGrpSpPr/>
            <p:nvPr/>
          </p:nvGrpSpPr>
          <p:grpSpPr>
            <a:xfrm>
              <a:off x="762120" y="743040"/>
              <a:ext cx="3601800" cy="2184480"/>
              <a:chOff x="762120" y="743040"/>
              <a:chExt cx="3601800" cy="2184480"/>
            </a:xfrm>
          </p:grpSpPr>
          <p:sp>
            <p:nvSpPr>
              <p:cNvPr id="363" name=""/>
              <p:cNvSpPr/>
              <p:nvPr/>
            </p:nvSpPr>
            <p:spPr>
              <a:xfrm>
                <a:off x="2124000" y="7430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166760" y="111744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3521160" y="76824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97040" y="76824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ehi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62120" y="167652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nufactur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68" name=""/>
              <p:cNvCxnSpPr>
                <a:stCxn id="366" idx="3"/>
                <a:endCxn id="363" idx="1"/>
              </p:cNvCxnSpPr>
              <p:nvPr/>
            </p:nvCxnSpPr>
            <p:spPr>
              <a:xfrm>
                <a:off x="1604880" y="952200"/>
                <a:ext cx="5198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69" name=""/>
              <p:cNvCxnSpPr>
                <a:stCxn id="363" idx="3"/>
                <a:endCxn id="365" idx="1"/>
              </p:cNvCxnSpPr>
              <p:nvPr/>
            </p:nvCxnSpPr>
            <p:spPr>
              <a:xfrm>
                <a:off x="2999880" y="952200"/>
                <a:ext cx="521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70" name=""/>
              <p:cNvSpPr/>
              <p:nvPr/>
            </p:nvSpPr>
            <p:spPr>
              <a:xfrm>
                <a:off x="1166760" y="234792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565280" y="7444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3365640" y="74448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97040" y="2558880"/>
                <a:ext cx="80784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pan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>
                <a:off x="3850920" y="232740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3522600" y="2558880"/>
                <a:ext cx="80820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487680" y="167652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d-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881520" y="234792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78" name=""/>
              <p:cNvCxnSpPr>
                <a:stCxn id="376" idx="2"/>
                <a:endCxn id="375" idx="0"/>
              </p:cNvCxnSpPr>
              <p:nvPr/>
            </p:nvCxnSpPr>
            <p:spPr>
              <a:xfrm>
                <a:off x="3925440" y="2095200"/>
                <a:ext cx="2520" cy="46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79" name=""/>
              <p:cNvCxnSpPr>
                <a:stCxn id="376" idx="0"/>
                <a:endCxn id="365" idx="2"/>
              </p:cNvCxnSpPr>
              <p:nvPr/>
            </p:nvCxnSpPr>
            <p:spPr>
              <a:xfrm flipV="1">
                <a:off x="3925440" y="1136160"/>
                <a:ext cx="1080" cy="540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80" name=""/>
              <p:cNvSpPr/>
              <p:nvPr/>
            </p:nvSpPr>
            <p:spPr>
              <a:xfrm>
                <a:off x="3881520" y="111744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260880" y="8762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63720" y="8780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83" name=""/>
              <p:cNvCxnSpPr>
                <a:stCxn id="367" idx="0"/>
                <a:endCxn id="366" idx="2"/>
              </p:cNvCxnSpPr>
              <p:nvPr/>
            </p:nvCxnSpPr>
            <p:spPr>
              <a:xfrm flipV="1">
                <a:off x="1200240" y="1136160"/>
                <a:ext cx="2160" cy="540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"/>
              <p:cNvCxnSpPr>
                <a:stCxn id="367" idx="2"/>
                <a:endCxn id="373" idx="0"/>
              </p:cNvCxnSpPr>
              <p:nvPr/>
            </p:nvCxnSpPr>
            <p:spPr>
              <a:xfrm>
                <a:off x="1200240" y="2095200"/>
                <a:ext cx="2160" cy="46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85" name=""/>
              <p:cNvSpPr/>
              <p:nvPr/>
            </p:nvSpPr>
            <p:spPr>
              <a:xfrm flipH="1">
                <a:off x="3850920" y="14065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1125000" y="14065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 flipH="1">
                <a:off x="1125000" y="232740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8" name=""/>
          <p:cNvGrpSpPr/>
          <p:nvPr/>
        </p:nvGrpSpPr>
        <p:grpSpPr>
          <a:xfrm>
            <a:off x="6460920" y="1219320"/>
            <a:ext cx="1689480" cy="1721160"/>
            <a:chOff x="6460920" y="1219320"/>
            <a:chExt cx="1689480" cy="1721160"/>
          </a:xfrm>
        </p:grpSpPr>
        <p:grpSp>
          <p:nvGrpSpPr>
            <p:cNvPr id="389" name=""/>
            <p:cNvGrpSpPr/>
            <p:nvPr/>
          </p:nvGrpSpPr>
          <p:grpSpPr>
            <a:xfrm>
              <a:off x="6902280" y="1219320"/>
              <a:ext cx="808200" cy="1244520"/>
              <a:chOff x="6902280" y="1219320"/>
              <a:chExt cx="808200" cy="1244520"/>
            </a:xfrm>
          </p:grpSpPr>
          <p:cxnSp>
            <p:nvCxnSpPr>
              <p:cNvPr id="390" name=""/>
              <p:cNvCxnSpPr>
                <a:stCxn id="391" idx="4"/>
                <a:endCxn id="392" idx="0"/>
              </p:cNvCxnSpPr>
              <p:nvPr/>
            </p:nvCxnSpPr>
            <p:spPr>
              <a:xfrm>
                <a:off x="7305840" y="1866600"/>
                <a:ext cx="2160" cy="2293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393" name=""/>
              <p:cNvSpPr/>
              <p:nvPr/>
            </p:nvSpPr>
            <p:spPr>
              <a:xfrm>
                <a:off x="7159320" y="186696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02280" y="121932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ehi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6902280" y="209556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7229520" y="1714680"/>
                <a:ext cx="152280" cy="15228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395" name=""/>
              <p:cNvCxnSpPr>
                <a:stCxn id="391" idx="0"/>
                <a:endCxn id="394" idx="2"/>
              </p:cNvCxnSpPr>
              <p:nvPr/>
            </p:nvCxnSpPr>
            <p:spPr>
              <a:xfrm flipV="1">
                <a:off x="7305840" y="1586880"/>
                <a:ext cx="2160" cy="127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396" name=""/>
            <p:cNvSpPr/>
            <p:nvPr/>
          </p:nvSpPr>
          <p:spPr>
            <a:xfrm>
              <a:off x="6460920" y="2664000"/>
              <a:ext cx="168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schema constra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7" name=""/>
          <p:cNvGrpSpPr/>
          <p:nvPr/>
        </p:nvGrpSpPr>
        <p:grpSpPr>
          <a:xfrm>
            <a:off x="1751040" y="3772080"/>
            <a:ext cx="6413400" cy="1315080"/>
            <a:chOff x="1751040" y="3772080"/>
            <a:chExt cx="6413400" cy="1315080"/>
          </a:xfrm>
        </p:grpSpPr>
        <p:sp>
          <p:nvSpPr>
            <p:cNvPr id="398" name=""/>
            <p:cNvSpPr/>
            <p:nvPr/>
          </p:nvSpPr>
          <p:spPr>
            <a:xfrm>
              <a:off x="3108240" y="4780080"/>
              <a:ext cx="370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2. Customer Service Department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09800" y="4284720"/>
              <a:ext cx="609588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cense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year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stomer(name, address, phone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ce(date, service-typ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0" name=""/>
            <p:cNvGrpSpPr/>
            <p:nvPr/>
          </p:nvGrpSpPr>
          <p:grpSpPr>
            <a:xfrm>
              <a:off x="1751040" y="3772080"/>
              <a:ext cx="6413400" cy="455400"/>
              <a:chOff x="1751040" y="3772080"/>
              <a:chExt cx="6413400" cy="455400"/>
            </a:xfrm>
          </p:grpSpPr>
          <p:sp>
            <p:nvSpPr>
              <p:cNvPr id="401" name=""/>
              <p:cNvSpPr/>
              <p:nvPr/>
            </p:nvSpPr>
            <p:spPr>
              <a:xfrm flipH="1">
                <a:off x="3117960" y="38084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s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hedu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 flipH="1">
                <a:off x="1751040" y="3834000"/>
                <a:ext cx="80784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 flipH="1">
                <a:off x="7356600" y="3834000"/>
                <a:ext cx="80784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H="1">
                <a:off x="7149960" y="37720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075440" y="39416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 flipH="1">
                <a:off x="5919840" y="38084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wn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07" name=""/>
              <p:cNvCxnSpPr>
                <a:stCxn id="403" idx="1"/>
                <a:endCxn id="406" idx="1"/>
              </p:cNvCxnSpPr>
              <p:nvPr/>
            </p:nvCxnSpPr>
            <p:spPr>
              <a:xfrm flipH="1">
                <a:off x="6795720" y="4016160"/>
                <a:ext cx="5436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08" name=""/>
              <p:cNvCxnSpPr>
                <a:stCxn id="406" idx="3"/>
                <a:endCxn id="409" idx="3"/>
              </p:cNvCxnSpPr>
              <p:nvPr/>
            </p:nvCxnSpPr>
            <p:spPr>
              <a:xfrm flipH="1">
                <a:off x="5362200" y="4016160"/>
                <a:ext cx="5580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410" name=""/>
              <p:cNvSpPr/>
              <p:nvPr/>
            </p:nvSpPr>
            <p:spPr>
              <a:xfrm flipH="1">
                <a:off x="5359320" y="37720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 flipH="1">
                <a:off x="4356000" y="37720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 flipH="1">
                <a:off x="2565360" y="37720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4273560" y="39416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640480" y="39416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 flipH="1">
                <a:off x="4552200" y="3834000"/>
                <a:ext cx="80820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15" name=""/>
              <p:cNvCxnSpPr>
                <a:stCxn id="402" idx="3"/>
                <a:endCxn id="401" idx="3"/>
              </p:cNvCxnSpPr>
              <p:nvPr/>
            </p:nvCxnSpPr>
            <p:spPr>
              <a:xfrm>
                <a:off x="2579400" y="4016160"/>
                <a:ext cx="538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16" name=""/>
              <p:cNvCxnSpPr>
                <a:stCxn id="409" idx="1"/>
                <a:endCxn id="401" idx="1"/>
              </p:cNvCxnSpPr>
              <p:nvPr/>
            </p:nvCxnSpPr>
            <p:spPr>
              <a:xfrm flipH="1">
                <a:off x="3993840" y="4016160"/>
                <a:ext cx="5608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417" name=""/>
              <p:cNvSpPr/>
              <p:nvPr/>
            </p:nvSpPr>
            <p:spPr>
              <a:xfrm flipH="1">
                <a:off x="2790720" y="397188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1524240" cy="26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marL="281160" indent="0" algn="just">
              <a:spcBef>
                <a:spcPts val="601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158920" y="533520"/>
            <a:ext cx="6451560" cy="2222280"/>
            <a:chOff x="2158920" y="533520"/>
            <a:chExt cx="6451560" cy="2222280"/>
          </a:xfrm>
        </p:grpSpPr>
        <p:sp>
          <p:nvSpPr>
            <p:cNvPr id="420" name=""/>
            <p:cNvSpPr/>
            <p:nvPr/>
          </p:nvSpPr>
          <p:spPr>
            <a:xfrm flipH="1">
              <a:off x="3543480" y="5335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21" name=""/>
            <p:cNvCxnSpPr>
              <a:stCxn id="422" idx="1"/>
              <a:endCxn id="420" idx="1"/>
            </p:cNvCxnSpPr>
            <p:nvPr/>
          </p:nvCxnSpPr>
          <p:spPr>
            <a:xfrm flipH="1">
              <a:off x="4419360" y="740880"/>
              <a:ext cx="575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23" name=""/>
            <p:cNvCxnSpPr>
              <a:stCxn id="420" idx="3"/>
              <a:endCxn id="424" idx="3"/>
            </p:cNvCxnSpPr>
            <p:nvPr/>
          </p:nvCxnSpPr>
          <p:spPr>
            <a:xfrm flipH="1">
              <a:off x="3001680" y="740880"/>
              <a:ext cx="5421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25" name=""/>
            <p:cNvSpPr/>
            <p:nvPr/>
          </p:nvSpPr>
          <p:spPr>
            <a:xfrm flipH="1">
              <a:off x="4808520" y="53496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flipH="1">
              <a:off x="2960640" y="53496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4649760" y="69516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3219480" y="69696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2192400" y="2362320"/>
              <a:ext cx="807840" cy="36828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uppl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2158920" y="1434960"/>
              <a:ext cx="876240" cy="419400"/>
            </a:xfrm>
            <a:prstGeom prst="diamond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upplied-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1" name=""/>
            <p:cNvCxnSpPr>
              <a:stCxn id="424" idx="2"/>
              <a:endCxn id="430" idx="0"/>
            </p:cNvCxnSpPr>
            <p:nvPr/>
          </p:nvCxnSpPr>
          <p:spPr>
            <a:xfrm>
              <a:off x="2596680" y="925200"/>
              <a:ext cx="1080" cy="5101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cxnSp>
          <p:nvCxnSpPr>
            <p:cNvPr id="432" name=""/>
            <p:cNvCxnSpPr>
              <a:stCxn id="429" idx="0"/>
              <a:endCxn id="430" idx="2"/>
            </p:cNvCxnSpPr>
            <p:nvPr/>
          </p:nvCxnSpPr>
          <p:spPr>
            <a:xfrm flipV="1">
              <a:off x="2596680" y="1852200"/>
              <a:ext cx="1080" cy="5104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424" name=""/>
            <p:cNvSpPr/>
            <p:nvPr/>
          </p:nvSpPr>
          <p:spPr>
            <a:xfrm flipH="1">
              <a:off x="2192400" y="558720"/>
              <a:ext cx="8078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2567880" y="92088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2567880" y="21510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520360" y="2108160"/>
              <a:ext cx="15084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520360" y="1181160"/>
              <a:ext cx="15084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237720" y="1066680"/>
              <a:ext cx="2259360" cy="13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chanic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cense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yea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rt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cost, 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descrip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Customer(name, address, phone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ervice(date, service-typ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upplier(</a:t>
              </a: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supplier#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, name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7651080" y="53496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39" name=""/>
            <p:cNvCxnSpPr>
              <a:stCxn id="440" idx="3"/>
              <a:endCxn id="422" idx="3"/>
            </p:cNvCxnSpPr>
            <p:nvPr/>
          </p:nvCxnSpPr>
          <p:spPr>
            <a:xfrm flipH="1">
              <a:off x="5801760" y="740880"/>
              <a:ext cx="562680" cy="10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441" name=""/>
            <p:cNvSpPr/>
            <p:nvPr/>
          </p:nvSpPr>
          <p:spPr>
            <a:xfrm flipH="1">
              <a:off x="5757840" y="53496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>
              <a:off x="4989600" y="2362320"/>
              <a:ext cx="807840" cy="36828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5362560" y="215280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4" name=""/>
            <p:cNvCxnSpPr>
              <a:stCxn id="445" idx="2"/>
              <a:endCxn id="442" idx="0"/>
            </p:cNvCxnSpPr>
            <p:nvPr/>
          </p:nvCxnSpPr>
          <p:spPr>
            <a:xfrm>
              <a:off x="5392800" y="1852200"/>
              <a:ext cx="2160" cy="49140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446" name=""/>
            <p:cNvSpPr/>
            <p:nvPr/>
          </p:nvSpPr>
          <p:spPr>
            <a:xfrm flipH="1">
              <a:off x="5362560" y="91584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H="1">
              <a:off x="5322600" y="1181160"/>
              <a:ext cx="15084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48" name=""/>
            <p:cNvCxnSpPr>
              <a:stCxn id="445" idx="0"/>
              <a:endCxn id="422" idx="2"/>
            </p:cNvCxnSpPr>
            <p:nvPr/>
          </p:nvCxnSpPr>
          <p:spPr>
            <a:xfrm flipV="1">
              <a:off x="5392440" y="924840"/>
              <a:ext cx="5400" cy="5101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445" name=""/>
            <p:cNvSpPr/>
            <p:nvPr/>
          </p:nvSpPr>
          <p:spPr>
            <a:xfrm flipH="1">
              <a:off x="4954680" y="1434960"/>
              <a:ext cx="876240" cy="419400"/>
            </a:xfrm>
            <a:prstGeom prst="diamond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Has-</a:t>
              </a:r>
              <a:br>
                <a:rPr sz="1200"/>
              </a:b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chedu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4992840" y="558720"/>
              <a:ext cx="8078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6364440" y="533520"/>
              <a:ext cx="876240" cy="419040"/>
            </a:xfrm>
            <a:prstGeom prst="diamond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Owned-</a:t>
              </a:r>
              <a:br>
                <a:rPr sz="1200"/>
              </a:b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802640" y="533520"/>
              <a:ext cx="807840" cy="36828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0" name=""/>
            <p:cNvCxnSpPr>
              <a:stCxn id="440" idx="1"/>
              <a:endCxn id="449" idx="1"/>
            </p:cNvCxnSpPr>
            <p:nvPr/>
          </p:nvCxnSpPr>
          <p:spPr>
            <a:xfrm flipV="1">
              <a:off x="7240680" y="715680"/>
              <a:ext cx="545040" cy="259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451" name=""/>
            <p:cNvSpPr/>
            <p:nvPr/>
          </p:nvSpPr>
          <p:spPr>
            <a:xfrm>
              <a:off x="6081840" y="666720"/>
              <a:ext cx="0" cy="1508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521480" y="666720"/>
              <a:ext cx="0" cy="1508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346720" y="206064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H="1">
              <a:off x="6361200" y="233676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s-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flipH="1">
              <a:off x="5800680" y="229860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flipH="1">
              <a:off x="7607160" y="229860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flipH="1">
              <a:off x="7802640" y="236232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chan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520040" y="247032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59" name=""/>
            <p:cNvCxnSpPr>
              <a:stCxn id="442" idx="3"/>
              <a:endCxn id="454" idx="3"/>
            </p:cNvCxnSpPr>
            <p:nvPr/>
          </p:nvCxnSpPr>
          <p:spPr>
            <a:xfrm>
              <a:off x="5818320" y="2544480"/>
              <a:ext cx="5436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460" name=""/>
            <p:cNvCxnSpPr>
              <a:stCxn id="454" idx="1"/>
              <a:endCxn id="457" idx="1"/>
            </p:cNvCxnSpPr>
            <p:nvPr/>
          </p:nvCxnSpPr>
          <p:spPr>
            <a:xfrm>
              <a:off x="7237440" y="2544480"/>
              <a:ext cx="5673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461" name=""/>
            <p:cNvSpPr/>
            <p:nvPr/>
          </p:nvSpPr>
          <p:spPr>
            <a:xfrm flipH="1">
              <a:off x="6032520" y="249876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2" name=""/>
          <p:cNvSpPr/>
          <p:nvPr/>
        </p:nvSpPr>
        <p:spPr>
          <a:xfrm>
            <a:off x="380880" y="3200400"/>
            <a:ext cx="152424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2000"/>
          </a:bodyPr>
          <a:p>
            <a:pPr marL="281160" indent="-281160" algn="just">
              <a:spcBef>
                <a:spcPts val="601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2311560" y="3741840"/>
            <a:ext cx="6451200" cy="2661480"/>
            <a:chOff x="2311560" y="3741840"/>
            <a:chExt cx="6451200" cy="2661480"/>
          </a:xfrm>
        </p:grpSpPr>
        <p:sp>
          <p:nvSpPr>
            <p:cNvPr id="464" name=""/>
            <p:cNvSpPr/>
            <p:nvPr/>
          </p:nvSpPr>
          <p:spPr>
            <a:xfrm>
              <a:off x="4098240" y="6096240"/>
              <a:ext cx="28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3. Repair Department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5" name=""/>
            <p:cNvGrpSpPr/>
            <p:nvPr/>
          </p:nvGrpSpPr>
          <p:grpSpPr>
            <a:xfrm>
              <a:off x="2311560" y="3741840"/>
              <a:ext cx="6451200" cy="2197080"/>
              <a:chOff x="2311560" y="3741840"/>
              <a:chExt cx="6451200" cy="2197080"/>
            </a:xfrm>
          </p:grpSpPr>
          <p:sp>
            <p:nvSpPr>
              <p:cNvPr id="466" name=""/>
              <p:cNvSpPr/>
              <p:nvPr/>
            </p:nvSpPr>
            <p:spPr>
              <a:xfrm>
                <a:off x="6384960" y="4275360"/>
                <a:ext cx="2270160" cy="15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echanic(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mp#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nam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(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license#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yea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t(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art#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cost, </a:t>
                </a: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descrip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Customer(name, address, phone#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ervice(</a:t>
                </a:r>
                <a:r>
                  <a:rPr b="0" lang="en-US" sz="1200" spc="-1" strike="noStrike" u="sng">
                    <a:solidFill>
                      <a:srgbClr val="fc0128"/>
                    </a:solidFill>
                    <a:uFillTx/>
                    <a:latin typeface="Times New Roman"/>
                  </a:rPr>
                  <a:t>service-typ</a:t>
                </a: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upplier(</a:t>
                </a:r>
                <a:r>
                  <a:rPr b="0" lang="en-US" sz="1200" spc="-1" strike="noStrike" u="sng">
                    <a:solidFill>
                      <a:srgbClr val="fc0128"/>
                    </a:solidFill>
                    <a:uFillTx/>
                    <a:latin typeface="Times New Roman"/>
                  </a:rPr>
                  <a:t>supplier#</a:t>
                </a: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, name, city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Has-scheduled(dat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>
                <a:off x="3695760" y="37418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qui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68" name=""/>
              <p:cNvCxnSpPr>
                <a:stCxn id="469" idx="1"/>
                <a:endCxn id="467" idx="1"/>
              </p:cNvCxnSpPr>
              <p:nvPr/>
            </p:nvCxnSpPr>
            <p:spPr>
              <a:xfrm flipH="1">
                <a:off x="4571640" y="3949560"/>
                <a:ext cx="5752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470" name=""/>
              <p:cNvCxnSpPr>
                <a:stCxn id="467" idx="3"/>
                <a:endCxn id="471" idx="3"/>
              </p:cNvCxnSpPr>
              <p:nvPr/>
            </p:nvCxnSpPr>
            <p:spPr>
              <a:xfrm flipH="1">
                <a:off x="3153960" y="3949560"/>
                <a:ext cx="54216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472" name=""/>
              <p:cNvSpPr/>
              <p:nvPr/>
            </p:nvSpPr>
            <p:spPr>
              <a:xfrm flipH="1">
                <a:off x="4960800" y="37432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3112920" y="37432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H="1">
                <a:off x="4801320" y="3903840"/>
                <a:ext cx="9396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 flipH="1">
                <a:off x="3371760" y="390528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 flipH="1">
                <a:off x="2343960" y="557064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uppl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2311560" y="46436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upplied-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78" name=""/>
              <p:cNvCxnSpPr>
                <a:stCxn id="471" idx="2"/>
                <a:endCxn id="477" idx="0"/>
              </p:cNvCxnSpPr>
              <p:nvPr/>
            </p:nvCxnSpPr>
            <p:spPr>
              <a:xfrm>
                <a:off x="2749320" y="4133880"/>
                <a:ext cx="1080" cy="51048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cxnSp>
            <p:nvCxnSpPr>
              <p:cNvPr id="479" name=""/>
              <p:cNvCxnSpPr>
                <a:stCxn id="476" idx="0"/>
                <a:endCxn id="477" idx="2"/>
              </p:cNvCxnSpPr>
              <p:nvPr/>
            </p:nvCxnSpPr>
            <p:spPr>
              <a:xfrm flipV="1">
                <a:off x="2749320" y="5060520"/>
                <a:ext cx="1080" cy="51048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471" name=""/>
              <p:cNvSpPr/>
              <p:nvPr/>
            </p:nvSpPr>
            <p:spPr>
              <a:xfrm flipH="1">
                <a:off x="2343960" y="3767400"/>
                <a:ext cx="80820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flipH="1">
                <a:off x="2720880" y="412920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flipH="1">
                <a:off x="2720880" y="53596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672640" y="5316480"/>
                <a:ext cx="1508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72640" y="4389480"/>
                <a:ext cx="1508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flipH="1">
                <a:off x="7804080" y="37432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85" name=""/>
              <p:cNvCxnSpPr>
                <a:stCxn id="486" idx="3"/>
                <a:endCxn id="469" idx="3"/>
              </p:cNvCxnSpPr>
              <p:nvPr/>
            </p:nvCxnSpPr>
            <p:spPr>
              <a:xfrm flipH="1">
                <a:off x="5954040" y="3949560"/>
                <a:ext cx="562680" cy="108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487" name=""/>
              <p:cNvSpPr/>
              <p:nvPr/>
            </p:nvSpPr>
            <p:spPr>
              <a:xfrm flipH="1">
                <a:off x="5910120" y="37432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 flipH="1">
                <a:off x="5141160" y="557064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 flipH="1">
                <a:off x="5514840" y="536112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90" name=""/>
              <p:cNvCxnSpPr>
                <a:stCxn id="491" idx="2"/>
                <a:endCxn id="488" idx="0"/>
              </p:cNvCxnSpPr>
              <p:nvPr/>
            </p:nvCxnSpPr>
            <p:spPr>
              <a:xfrm>
                <a:off x="5544720" y="5060880"/>
                <a:ext cx="2520" cy="51048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492" name=""/>
              <p:cNvSpPr/>
              <p:nvPr/>
            </p:nvSpPr>
            <p:spPr>
              <a:xfrm flipH="1">
                <a:off x="5514840" y="412452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93" name=""/>
              <p:cNvCxnSpPr>
                <a:stCxn id="491" idx="0"/>
                <a:endCxn id="469" idx="2"/>
              </p:cNvCxnSpPr>
              <p:nvPr/>
            </p:nvCxnSpPr>
            <p:spPr>
              <a:xfrm flipV="1">
                <a:off x="5544720" y="4133520"/>
                <a:ext cx="5400" cy="51048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491" name=""/>
              <p:cNvSpPr/>
              <p:nvPr/>
            </p:nvSpPr>
            <p:spPr>
              <a:xfrm flipH="1">
                <a:off x="5106960" y="46436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Has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chedu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flipH="1">
                <a:off x="5145120" y="3767400"/>
                <a:ext cx="80784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 flipH="1">
                <a:off x="6516720" y="37418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Own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 flipH="1">
                <a:off x="7954200" y="3741840"/>
                <a:ext cx="808200" cy="368280"/>
              </a:xfrm>
              <a:prstGeom prst="rect">
                <a:avLst/>
              </a:prstGeom>
              <a:noFill/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Custo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495" name=""/>
              <p:cNvCxnSpPr>
                <a:stCxn id="486" idx="1"/>
                <a:endCxn id="494" idx="1"/>
              </p:cNvCxnSpPr>
              <p:nvPr/>
            </p:nvCxnSpPr>
            <p:spPr>
              <a:xfrm flipV="1">
                <a:off x="7392600" y="3923640"/>
                <a:ext cx="545400" cy="2628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496" name=""/>
              <p:cNvSpPr/>
              <p:nvPr/>
            </p:nvSpPr>
            <p:spPr>
              <a:xfrm>
                <a:off x="6234120" y="3875040"/>
                <a:ext cx="0" cy="1508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674120" y="3875040"/>
                <a:ext cx="0" cy="1508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>
                <a:off x="5499000" y="526896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>
                <a:off x="4546440" y="46054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flipH="1">
                <a:off x="3720240" y="466884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echan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4818240" y="47768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502" name=""/>
              <p:cNvCxnSpPr>
                <a:stCxn id="500" idx="3"/>
                <a:endCxn id="491" idx="3"/>
              </p:cNvCxnSpPr>
              <p:nvPr/>
            </p:nvCxnSpPr>
            <p:spPr>
              <a:xfrm>
                <a:off x="4530240" y="4851000"/>
                <a:ext cx="577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503" name=""/>
              <p:cNvSpPr/>
              <p:nvPr/>
            </p:nvSpPr>
            <p:spPr>
              <a:xfrm flipH="1">
                <a:off x="5511960" y="434196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9144000" cy="266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284400" indent="0" algn="just">
              <a:spcBef>
                <a:spcPts val="601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grate the three sch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592040" y="541440"/>
            <a:ext cx="2259360" cy="173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cense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y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art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description,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r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pplier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,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hicle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arran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(name, address, phone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(date, service-typ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990720" y="533520"/>
            <a:ext cx="6433920" cy="3098160"/>
            <a:chOff x="990720" y="533520"/>
            <a:chExt cx="6433920" cy="3098160"/>
          </a:xfrm>
        </p:grpSpPr>
        <p:sp>
          <p:nvSpPr>
            <p:cNvPr id="507" name=""/>
            <p:cNvSpPr/>
            <p:nvPr/>
          </p:nvSpPr>
          <p:spPr>
            <a:xfrm>
              <a:off x="4060800" y="12063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2374920" y="140940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flipH="1">
              <a:off x="6465240" y="14112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11" idx="3"/>
              <a:endCxn id="512" idx="3"/>
            </p:cNvCxnSpPr>
            <p:nvPr/>
          </p:nvCxnSpPr>
          <p:spPr>
            <a:xfrm flipH="1">
              <a:off x="4614480" y="1617120"/>
              <a:ext cx="5644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13" name=""/>
            <p:cNvCxnSpPr>
              <a:stCxn id="512" idx="1"/>
              <a:endCxn id="508" idx="1"/>
            </p:cNvCxnSpPr>
            <p:nvPr/>
          </p:nvCxnSpPr>
          <p:spPr>
            <a:xfrm flipH="1">
              <a:off x="3250800" y="1617120"/>
              <a:ext cx="5565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14" name=""/>
            <p:cNvCxnSpPr>
              <a:stCxn id="508" idx="3"/>
              <a:endCxn id="515" idx="3"/>
            </p:cNvCxnSpPr>
            <p:nvPr/>
          </p:nvCxnSpPr>
          <p:spPr>
            <a:xfrm flipH="1">
              <a:off x="1833120" y="1617120"/>
              <a:ext cx="5421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16" name=""/>
            <p:cNvSpPr/>
            <p:nvPr/>
          </p:nvSpPr>
          <p:spPr>
            <a:xfrm flipH="1">
              <a:off x="4572000" y="141120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3647520" y="14112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1791720" y="14112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3481560" y="1571400"/>
              <a:ext cx="93600" cy="9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3803760" y="3238200"/>
              <a:ext cx="807840" cy="36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4176720" y="30286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2" name=""/>
            <p:cNvCxnSpPr>
              <a:stCxn id="523" idx="2"/>
              <a:endCxn id="520" idx="0"/>
            </p:cNvCxnSpPr>
            <p:nvPr/>
          </p:nvCxnSpPr>
          <p:spPr>
            <a:xfrm>
              <a:off x="4206960" y="2728440"/>
              <a:ext cx="2160" cy="490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24" name=""/>
            <p:cNvSpPr/>
            <p:nvPr/>
          </p:nvSpPr>
          <p:spPr>
            <a:xfrm flipH="1">
              <a:off x="4176720" y="17920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4136760" y="20574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2050200" y="1573200"/>
              <a:ext cx="93960" cy="9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7" name=""/>
            <p:cNvCxnSpPr>
              <a:stCxn id="523" idx="0"/>
              <a:endCxn id="512" idx="2"/>
            </p:cNvCxnSpPr>
            <p:nvPr/>
          </p:nvCxnSpPr>
          <p:spPr>
            <a:xfrm flipV="1">
              <a:off x="4206600" y="1801800"/>
              <a:ext cx="3960" cy="509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28" name=""/>
            <p:cNvSpPr/>
            <p:nvPr/>
          </p:nvSpPr>
          <p:spPr>
            <a:xfrm flipH="1">
              <a:off x="1023120" y="3238200"/>
              <a:ext cx="808200" cy="36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990720" y="2311200"/>
              <a:ext cx="876240" cy="4186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pplied-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0" name=""/>
            <p:cNvCxnSpPr>
              <a:stCxn id="515" idx="2"/>
              <a:endCxn id="529" idx="0"/>
            </p:cNvCxnSpPr>
            <p:nvPr/>
          </p:nvCxnSpPr>
          <p:spPr>
            <a:xfrm>
              <a:off x="1428480" y="1801800"/>
              <a:ext cx="1080" cy="509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31" name=""/>
            <p:cNvCxnSpPr>
              <a:stCxn id="528" idx="0"/>
              <a:endCxn id="529" idx="2"/>
            </p:cNvCxnSpPr>
            <p:nvPr/>
          </p:nvCxnSpPr>
          <p:spPr>
            <a:xfrm flipV="1">
              <a:off x="1428480" y="2728800"/>
              <a:ext cx="1080" cy="509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23" name=""/>
            <p:cNvSpPr/>
            <p:nvPr/>
          </p:nvSpPr>
          <p:spPr>
            <a:xfrm flipH="1">
              <a:off x="3768840" y="2311200"/>
              <a:ext cx="876240" cy="4186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as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chedu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3804480" y="1434960"/>
              <a:ext cx="808200" cy="36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1023120" y="1434960"/>
              <a:ext cx="808200" cy="36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1400040" y="179676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1400040" y="302724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351800" y="29844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1800" y="20574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H="1">
              <a:off x="5178600" y="140940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wned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6616800" y="1434960"/>
              <a:ext cx="807840" cy="3679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37" name=""/>
            <p:cNvCxnSpPr>
              <a:stCxn id="511" idx="1"/>
              <a:endCxn id="536" idx="1"/>
            </p:cNvCxnSpPr>
            <p:nvPr/>
          </p:nvCxnSpPr>
          <p:spPr>
            <a:xfrm>
              <a:off x="6054840" y="1617120"/>
              <a:ext cx="545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38" name=""/>
            <p:cNvSpPr/>
            <p:nvPr/>
          </p:nvSpPr>
          <p:spPr>
            <a:xfrm>
              <a:off x="4896000" y="154296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335640" y="154296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4160880" y="2936880"/>
              <a:ext cx="93600" cy="9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1" name=""/>
            <p:cNvCxnSpPr>
              <a:stCxn id="542" idx="4"/>
              <a:endCxn id="512" idx="0"/>
            </p:cNvCxnSpPr>
            <p:nvPr/>
          </p:nvCxnSpPr>
          <p:spPr>
            <a:xfrm>
              <a:off x="4208040" y="1206360"/>
              <a:ext cx="2520" cy="2289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43" name=""/>
            <p:cNvSpPr/>
            <p:nvPr/>
          </p:nvSpPr>
          <p:spPr>
            <a:xfrm>
              <a:off x="3805200" y="558720"/>
              <a:ext cx="808200" cy="36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hi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32440" y="1054080"/>
              <a:ext cx="152280" cy="151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44" name=""/>
            <p:cNvCxnSpPr>
              <a:stCxn id="542" idx="0"/>
              <a:endCxn id="543" idx="2"/>
            </p:cNvCxnSpPr>
            <p:nvPr/>
          </p:nvCxnSpPr>
          <p:spPr>
            <a:xfrm flipV="1">
              <a:off x="4208040" y="926640"/>
              <a:ext cx="2520" cy="1274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45" name=""/>
            <p:cNvSpPr/>
            <p:nvPr/>
          </p:nvSpPr>
          <p:spPr>
            <a:xfrm flipH="1">
              <a:off x="6578640" y="3238200"/>
              <a:ext cx="807840" cy="367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chan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5151600" y="3213000"/>
              <a:ext cx="876240" cy="4186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s-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425640" y="32130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4574520" y="32130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302520" y="334620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0" name=""/>
            <p:cNvCxnSpPr>
              <a:stCxn id="546" idx="1"/>
              <a:endCxn id="545" idx="1"/>
            </p:cNvCxnSpPr>
            <p:nvPr/>
          </p:nvCxnSpPr>
          <p:spPr>
            <a:xfrm>
              <a:off x="6027840" y="3420720"/>
              <a:ext cx="5529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51" name=""/>
            <p:cNvCxnSpPr>
              <a:stCxn id="520" idx="3"/>
              <a:endCxn id="546" idx="3"/>
            </p:cNvCxnSpPr>
            <p:nvPr/>
          </p:nvCxnSpPr>
          <p:spPr>
            <a:xfrm>
              <a:off x="4632480" y="3420720"/>
              <a:ext cx="5198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52" name=""/>
            <p:cNvSpPr/>
            <p:nvPr/>
          </p:nvSpPr>
          <p:spPr>
            <a:xfrm flipH="1">
              <a:off x="4834080" y="3375000"/>
              <a:ext cx="93600" cy="932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080" bIns="19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2374920" y="533520"/>
              <a:ext cx="876240" cy="4186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3647520" y="53496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55" name=""/>
            <p:cNvCxnSpPr>
              <a:stCxn id="553" idx="1"/>
              <a:endCxn id="543" idx="1"/>
            </p:cNvCxnSpPr>
            <p:nvPr/>
          </p:nvCxnSpPr>
          <p:spPr>
            <a:xfrm>
              <a:off x="3250800" y="740880"/>
              <a:ext cx="55476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56" name=""/>
            <p:cNvCxnSpPr>
              <a:stCxn id="553" idx="3"/>
              <a:endCxn id="515" idx="0"/>
            </p:cNvCxnSpPr>
            <p:nvPr/>
          </p:nvCxnSpPr>
          <p:spPr>
            <a:xfrm flipV="1" rot="10800000">
              <a:off x="1428120" y="740880"/>
              <a:ext cx="946800" cy="69408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57" name=""/>
            <p:cNvSpPr/>
            <p:nvPr/>
          </p:nvSpPr>
          <p:spPr>
            <a:xfrm flipH="1">
              <a:off x="1400040" y="121572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51800" y="11682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527280" y="66816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156280" y="533520"/>
              <a:ext cx="876240" cy="41868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ufactured-|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6586560" y="558720"/>
              <a:ext cx="807840" cy="367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>
              <a:stCxn id="543" idx="3"/>
              <a:endCxn id="560" idx="3"/>
            </p:cNvCxnSpPr>
            <p:nvPr/>
          </p:nvCxnSpPr>
          <p:spPr>
            <a:xfrm flipV="1">
              <a:off x="4613400" y="740520"/>
              <a:ext cx="543600" cy="1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63" name=""/>
            <p:cNvCxnSpPr>
              <a:stCxn id="560" idx="1"/>
              <a:endCxn id="561" idx="1"/>
            </p:cNvCxnSpPr>
            <p:nvPr/>
          </p:nvCxnSpPr>
          <p:spPr>
            <a:xfrm>
              <a:off x="6032160" y="740880"/>
              <a:ext cx="556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64" name=""/>
            <p:cNvSpPr/>
            <p:nvPr/>
          </p:nvSpPr>
          <p:spPr>
            <a:xfrm flipH="1">
              <a:off x="6465240" y="53352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4572000" y="53352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884840" y="66672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308640" y="66672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990720" y="3733920"/>
            <a:ext cx="6433920" cy="3073320"/>
            <a:chOff x="990720" y="3733920"/>
            <a:chExt cx="6433920" cy="3073320"/>
          </a:xfrm>
        </p:grpSpPr>
        <p:sp>
          <p:nvSpPr>
            <p:cNvPr id="569" name=""/>
            <p:cNvSpPr/>
            <p:nvPr/>
          </p:nvSpPr>
          <p:spPr>
            <a:xfrm>
              <a:off x="4060800" y="4406760"/>
              <a:ext cx="290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2374920" y="461016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465240" y="46116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2" name=""/>
            <p:cNvCxnSpPr>
              <a:stCxn id="573" idx="3"/>
              <a:endCxn id="574" idx="3"/>
            </p:cNvCxnSpPr>
            <p:nvPr/>
          </p:nvCxnSpPr>
          <p:spPr>
            <a:xfrm flipH="1">
              <a:off x="4613040" y="4817880"/>
              <a:ext cx="5659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75" name=""/>
            <p:cNvCxnSpPr>
              <a:stCxn id="574" idx="1"/>
              <a:endCxn id="570" idx="1"/>
            </p:cNvCxnSpPr>
            <p:nvPr/>
          </p:nvCxnSpPr>
          <p:spPr>
            <a:xfrm flipH="1">
              <a:off x="3250440" y="4817880"/>
              <a:ext cx="5547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76" name=""/>
            <p:cNvCxnSpPr>
              <a:stCxn id="570" idx="3"/>
              <a:endCxn id="577" idx="3"/>
            </p:cNvCxnSpPr>
            <p:nvPr/>
          </p:nvCxnSpPr>
          <p:spPr>
            <a:xfrm flipH="1">
              <a:off x="1833120" y="4817880"/>
              <a:ext cx="5421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78" name=""/>
            <p:cNvSpPr/>
            <p:nvPr/>
          </p:nvSpPr>
          <p:spPr>
            <a:xfrm flipH="1">
              <a:off x="4572000" y="461160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3647520" y="46116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1791720" y="46116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3481560" y="477216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3803760" y="643896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4176720" y="622944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4" name=""/>
            <p:cNvCxnSpPr>
              <a:stCxn id="585" idx="2"/>
              <a:endCxn id="582" idx="0"/>
            </p:cNvCxnSpPr>
            <p:nvPr/>
          </p:nvCxnSpPr>
          <p:spPr>
            <a:xfrm>
              <a:off x="4206960" y="5929200"/>
              <a:ext cx="2160" cy="510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6" name=""/>
            <p:cNvSpPr/>
            <p:nvPr/>
          </p:nvSpPr>
          <p:spPr>
            <a:xfrm flipH="1">
              <a:off x="4176720" y="499284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>
              <a:off x="2050200" y="4773600"/>
              <a:ext cx="9396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8" name=""/>
            <p:cNvCxnSpPr>
              <a:stCxn id="585" idx="0"/>
              <a:endCxn id="574" idx="2"/>
            </p:cNvCxnSpPr>
            <p:nvPr/>
          </p:nvCxnSpPr>
          <p:spPr>
            <a:xfrm flipV="1">
              <a:off x="4206960" y="5001840"/>
              <a:ext cx="2160" cy="510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9" name=""/>
            <p:cNvSpPr/>
            <p:nvPr/>
          </p:nvSpPr>
          <p:spPr>
            <a:xfrm flipH="1">
              <a:off x="1023120" y="643896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ppl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990720" y="551196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pplied-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1" name=""/>
            <p:cNvCxnSpPr>
              <a:stCxn id="577" idx="2"/>
              <a:endCxn id="590" idx="0"/>
            </p:cNvCxnSpPr>
            <p:nvPr/>
          </p:nvCxnSpPr>
          <p:spPr>
            <a:xfrm>
              <a:off x="1428480" y="5002200"/>
              <a:ext cx="1080" cy="510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92" name=""/>
            <p:cNvCxnSpPr>
              <a:stCxn id="589" idx="0"/>
              <a:endCxn id="590" idx="2"/>
            </p:cNvCxnSpPr>
            <p:nvPr/>
          </p:nvCxnSpPr>
          <p:spPr>
            <a:xfrm flipV="1">
              <a:off x="1428480" y="5928840"/>
              <a:ext cx="1080" cy="5104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5" name=""/>
            <p:cNvSpPr/>
            <p:nvPr/>
          </p:nvSpPr>
          <p:spPr>
            <a:xfrm flipH="1">
              <a:off x="3768840" y="551196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as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chedu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3803760" y="4635360"/>
              <a:ext cx="8078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1023120" y="4635360"/>
              <a:ext cx="80820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1400040" y="499752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H="1">
              <a:off x="1400040" y="622764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351800" y="61848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1800" y="525780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5178600" y="461016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wned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>
              <a:off x="6616800" y="4635360"/>
              <a:ext cx="807840" cy="3682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8" name=""/>
            <p:cNvCxnSpPr>
              <a:stCxn id="573" idx="1"/>
              <a:endCxn id="597" idx="1"/>
            </p:cNvCxnSpPr>
            <p:nvPr/>
          </p:nvCxnSpPr>
          <p:spPr>
            <a:xfrm>
              <a:off x="6054840" y="4817880"/>
              <a:ext cx="5450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99" name=""/>
            <p:cNvSpPr/>
            <p:nvPr/>
          </p:nvSpPr>
          <p:spPr>
            <a:xfrm>
              <a:off x="4896000" y="47433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335640" y="47433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4160880" y="613728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2" name=""/>
            <p:cNvCxnSpPr>
              <a:stCxn id="603" idx="4"/>
              <a:endCxn id="574" idx="0"/>
            </p:cNvCxnSpPr>
            <p:nvPr/>
          </p:nvCxnSpPr>
          <p:spPr>
            <a:xfrm>
              <a:off x="4208040" y="4406400"/>
              <a:ext cx="1080" cy="2293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4" name=""/>
            <p:cNvSpPr/>
            <p:nvPr/>
          </p:nvSpPr>
          <p:spPr>
            <a:xfrm>
              <a:off x="3805200" y="3759120"/>
              <a:ext cx="80820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hi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32440" y="4254480"/>
              <a:ext cx="152280" cy="152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5" name=""/>
            <p:cNvCxnSpPr>
              <a:stCxn id="603" idx="0"/>
              <a:endCxn id="604" idx="2"/>
            </p:cNvCxnSpPr>
            <p:nvPr/>
          </p:nvCxnSpPr>
          <p:spPr>
            <a:xfrm flipV="1">
              <a:off x="4208040" y="4126680"/>
              <a:ext cx="2520" cy="1278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06" name=""/>
            <p:cNvSpPr/>
            <p:nvPr/>
          </p:nvSpPr>
          <p:spPr>
            <a:xfrm flipH="1">
              <a:off x="2400480" y="553716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chan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>
              <a:off x="3225240" y="547380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487680" y="56451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H="1">
              <a:off x="4160880" y="521028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H="1">
              <a:off x="2374920" y="37339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H="1">
              <a:off x="3647520" y="373536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2" name=""/>
            <p:cNvCxnSpPr>
              <a:stCxn id="610" idx="1"/>
              <a:endCxn id="604" idx="1"/>
            </p:cNvCxnSpPr>
            <p:nvPr/>
          </p:nvCxnSpPr>
          <p:spPr>
            <a:xfrm>
              <a:off x="3250800" y="3941280"/>
              <a:ext cx="55476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13" name=""/>
            <p:cNvCxnSpPr>
              <a:stCxn id="610" idx="3"/>
              <a:endCxn id="577" idx="0"/>
            </p:cNvCxnSpPr>
            <p:nvPr/>
          </p:nvCxnSpPr>
          <p:spPr>
            <a:xfrm flipV="1" rot="10800000">
              <a:off x="1428120" y="3940560"/>
              <a:ext cx="946800" cy="694440"/>
            </a:xfrm>
            <a:prstGeom prst="bentConnector2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14" name=""/>
            <p:cNvSpPr/>
            <p:nvPr/>
          </p:nvSpPr>
          <p:spPr>
            <a:xfrm flipH="1">
              <a:off x="1400040" y="441648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351800" y="4368960"/>
              <a:ext cx="150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27280" y="386856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5156280" y="37339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nufactured-|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>
              <a:off x="6586560" y="3759120"/>
              <a:ext cx="8078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n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19" name=""/>
            <p:cNvCxnSpPr>
              <a:stCxn id="604" idx="3"/>
              <a:endCxn id="617" idx="3"/>
            </p:cNvCxnSpPr>
            <p:nvPr/>
          </p:nvCxnSpPr>
          <p:spPr>
            <a:xfrm flipV="1">
              <a:off x="4613400" y="3940920"/>
              <a:ext cx="543600" cy="252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20" name=""/>
            <p:cNvCxnSpPr>
              <a:stCxn id="617" idx="1"/>
              <a:endCxn id="618" idx="1"/>
            </p:cNvCxnSpPr>
            <p:nvPr/>
          </p:nvCxnSpPr>
          <p:spPr>
            <a:xfrm>
              <a:off x="6032160" y="3941280"/>
              <a:ext cx="5562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21" name=""/>
            <p:cNvSpPr/>
            <p:nvPr/>
          </p:nvSpPr>
          <p:spPr>
            <a:xfrm flipH="1">
              <a:off x="6465240" y="373392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572000" y="373392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84840" y="386712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08640" y="3867120"/>
              <a:ext cx="0" cy="15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5" name=""/>
            <p:cNvCxnSpPr>
              <a:stCxn id="606" idx="3"/>
              <a:endCxn id="585" idx="3"/>
            </p:cNvCxnSpPr>
            <p:nvPr/>
          </p:nvCxnSpPr>
          <p:spPr>
            <a:xfrm>
              <a:off x="3209400" y="5719320"/>
              <a:ext cx="5598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</p:grpSp>
      <p:sp>
        <p:nvSpPr>
          <p:cNvPr id="626" name=""/>
          <p:cNvSpPr/>
          <p:nvPr/>
        </p:nvSpPr>
        <p:spPr>
          <a:xfrm>
            <a:off x="7592040" y="3809880"/>
            <a:ext cx="2259360" cy="194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license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ye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part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description,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lier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upplier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,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hicle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mode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warran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ny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cit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er(name, address, phone#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vice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ervice-typ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(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emp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na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s-scheduled(d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6120" y="60948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456120" y="382284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e assume that Vehicle and Car represent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s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entit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 and state how you resolve any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ame conflic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at are present in the three schemas. State and justify an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ptions you need to mak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 in schema 1 and Item in schema 3 (synony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Part as Item in schema 1 or Item as Part in schema 3. (We use Part in out 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ehicle in schema 1 and Car in schema 2 and 3 (synony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Vehicle as Car in schema 1 or Car as Vehicle in schema 2 and 3. (We use Car in our 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Relations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# in Part entity in schema 1 and item# in Item entity (renamed Part) in schema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item# in schema 1 or part# in schema 3 according to how the entity name conflict between Par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Item was resolved (see point (i) under Entities above). (We use part# in our 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-type in Service entity in schema 2 and service-needed in Works-on relationship in schema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service-needed in schema 2 or service-type in schema 3. (We use service-type in our 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ration# in Car entity in schema 2 and license# in Car entity in schema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ame either license# in schema 2 or registration# in schema 3. (We use license# in our 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spcBef>
                <a:spcPts val="349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hree schemas with name conflicts resolved (in red) are shown below. (It is not necessary to show this diagram in the solution.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2992320" y="762120"/>
            <a:ext cx="5866560" cy="2622960"/>
            <a:chOff x="2992320" y="762120"/>
            <a:chExt cx="5866560" cy="2622960"/>
          </a:xfrm>
        </p:grpSpPr>
        <p:sp>
          <p:nvSpPr>
            <p:cNvPr id="632" name=""/>
            <p:cNvSpPr/>
            <p:nvPr/>
          </p:nvSpPr>
          <p:spPr>
            <a:xfrm>
              <a:off x="3258360" y="3078000"/>
              <a:ext cx="307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1. Administration Office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783840" y="1371600"/>
              <a:ext cx="2075040" cy="9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ny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Ca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odel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warran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rt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descrip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pplie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upplier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4" name=""/>
            <p:cNvGrpSpPr/>
            <p:nvPr/>
          </p:nvGrpSpPr>
          <p:grpSpPr>
            <a:xfrm>
              <a:off x="2992320" y="762120"/>
              <a:ext cx="3602160" cy="2184120"/>
              <a:chOff x="2992320" y="762120"/>
              <a:chExt cx="3602160" cy="2184120"/>
            </a:xfrm>
          </p:grpSpPr>
          <p:sp>
            <p:nvSpPr>
              <p:cNvPr id="635" name=""/>
              <p:cNvSpPr/>
              <p:nvPr/>
            </p:nvSpPr>
            <p:spPr>
              <a:xfrm>
                <a:off x="4354560" y="76212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3397320" y="113652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751360" y="78732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3027240" y="78732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2992320" y="169560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nufactur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40" name=""/>
              <p:cNvCxnSpPr>
                <a:stCxn id="638" idx="3"/>
                <a:endCxn id="635" idx="1"/>
              </p:cNvCxnSpPr>
              <p:nvPr/>
            </p:nvCxnSpPr>
            <p:spPr>
              <a:xfrm>
                <a:off x="3835440" y="971280"/>
                <a:ext cx="5198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41" name=""/>
              <p:cNvCxnSpPr>
                <a:stCxn id="635" idx="3"/>
                <a:endCxn id="637" idx="1"/>
              </p:cNvCxnSpPr>
              <p:nvPr/>
            </p:nvCxnSpPr>
            <p:spPr>
              <a:xfrm>
                <a:off x="5230800" y="971280"/>
                <a:ext cx="5212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42" name=""/>
              <p:cNvSpPr/>
              <p:nvPr/>
            </p:nvSpPr>
            <p:spPr>
              <a:xfrm>
                <a:off x="3397320" y="236700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795840" y="76356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595840" y="7635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3027240" y="257796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pan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H="1">
                <a:off x="6081480" y="234648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753160" y="257796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718240" y="169560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d-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6111720" y="236700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0" name=""/>
              <p:cNvCxnSpPr>
                <a:stCxn id="648" idx="2"/>
                <a:endCxn id="647" idx="0"/>
              </p:cNvCxnSpPr>
              <p:nvPr/>
            </p:nvCxnSpPr>
            <p:spPr>
              <a:xfrm>
                <a:off x="6156360" y="2114280"/>
                <a:ext cx="2160" cy="46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51" name=""/>
              <p:cNvCxnSpPr>
                <a:stCxn id="648" idx="0"/>
                <a:endCxn id="637" idx="2"/>
              </p:cNvCxnSpPr>
              <p:nvPr/>
            </p:nvCxnSpPr>
            <p:spPr>
              <a:xfrm flipV="1">
                <a:off x="6156000" y="1155240"/>
                <a:ext cx="1080" cy="540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52" name=""/>
              <p:cNvSpPr/>
              <p:nvPr/>
            </p:nvSpPr>
            <p:spPr>
              <a:xfrm>
                <a:off x="6111720" y="113652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491080" y="89532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94280" y="89676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55" name=""/>
              <p:cNvCxnSpPr>
                <a:stCxn id="639" idx="0"/>
                <a:endCxn id="638" idx="2"/>
              </p:cNvCxnSpPr>
              <p:nvPr/>
            </p:nvCxnSpPr>
            <p:spPr>
              <a:xfrm flipV="1">
                <a:off x="3430080" y="1155240"/>
                <a:ext cx="2520" cy="540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56" name=""/>
              <p:cNvCxnSpPr>
                <a:stCxn id="639" idx="2"/>
                <a:endCxn id="645" idx="0"/>
              </p:cNvCxnSpPr>
              <p:nvPr/>
            </p:nvCxnSpPr>
            <p:spPr>
              <a:xfrm>
                <a:off x="3430080" y="2114280"/>
                <a:ext cx="2520" cy="46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57" name=""/>
              <p:cNvSpPr/>
              <p:nvPr/>
            </p:nvSpPr>
            <p:spPr>
              <a:xfrm flipH="1">
                <a:off x="6081480" y="142560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H="1">
                <a:off x="3355560" y="142560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3355560" y="234648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0" name=""/>
          <p:cNvGrpSpPr/>
          <p:nvPr/>
        </p:nvGrpSpPr>
        <p:grpSpPr>
          <a:xfrm>
            <a:off x="1587600" y="3733920"/>
            <a:ext cx="6413400" cy="1315080"/>
            <a:chOff x="1587600" y="3733920"/>
            <a:chExt cx="6413400" cy="1315080"/>
          </a:xfrm>
        </p:grpSpPr>
        <p:sp>
          <p:nvSpPr>
            <p:cNvPr id="661" name=""/>
            <p:cNvSpPr/>
            <p:nvPr/>
          </p:nvSpPr>
          <p:spPr>
            <a:xfrm>
              <a:off x="2944800" y="4741920"/>
              <a:ext cx="370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2. Customer Service Department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746360" y="4246560"/>
              <a:ext cx="609588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license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model, manufacturer-name, year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stomer(name, address, phone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ce(date, service-typ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3" name=""/>
            <p:cNvGrpSpPr/>
            <p:nvPr/>
          </p:nvGrpSpPr>
          <p:grpSpPr>
            <a:xfrm>
              <a:off x="1587600" y="3733920"/>
              <a:ext cx="6413400" cy="455400"/>
              <a:chOff x="1587600" y="3733920"/>
              <a:chExt cx="6413400" cy="455400"/>
            </a:xfrm>
          </p:grpSpPr>
          <p:sp>
            <p:nvSpPr>
              <p:cNvPr id="664" name=""/>
              <p:cNvSpPr/>
              <p:nvPr/>
            </p:nvSpPr>
            <p:spPr>
              <a:xfrm flipH="1">
                <a:off x="2954520" y="377028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s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hedu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flipH="1">
                <a:off x="1587600" y="3795840"/>
                <a:ext cx="80784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7193160" y="3795840"/>
                <a:ext cx="80784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H="1">
                <a:off x="6986520" y="373392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6912000" y="390348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flipH="1">
                <a:off x="5756400" y="377028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wn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0" name=""/>
              <p:cNvCxnSpPr>
                <a:stCxn id="666" idx="1"/>
                <a:endCxn id="669" idx="1"/>
              </p:cNvCxnSpPr>
              <p:nvPr/>
            </p:nvCxnSpPr>
            <p:spPr>
              <a:xfrm flipH="1">
                <a:off x="6632280" y="3978000"/>
                <a:ext cx="5436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71" name=""/>
              <p:cNvCxnSpPr>
                <a:stCxn id="669" idx="3"/>
                <a:endCxn id="672" idx="3"/>
              </p:cNvCxnSpPr>
              <p:nvPr/>
            </p:nvCxnSpPr>
            <p:spPr>
              <a:xfrm flipH="1">
                <a:off x="5198760" y="3978000"/>
                <a:ext cx="5580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73" name=""/>
              <p:cNvSpPr/>
              <p:nvPr/>
            </p:nvSpPr>
            <p:spPr>
              <a:xfrm flipH="1">
                <a:off x="5195880" y="373392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H="1">
                <a:off x="4192560" y="373392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2401920" y="373392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4110120" y="390348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477040" y="390348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H="1">
                <a:off x="4388760" y="3795840"/>
                <a:ext cx="80820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78" name=""/>
              <p:cNvCxnSpPr>
                <a:stCxn id="665" idx="3"/>
                <a:endCxn id="664" idx="3"/>
              </p:cNvCxnSpPr>
              <p:nvPr/>
            </p:nvCxnSpPr>
            <p:spPr>
              <a:xfrm>
                <a:off x="2415960" y="3978000"/>
                <a:ext cx="538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79" name=""/>
              <p:cNvCxnSpPr>
                <a:stCxn id="672" idx="1"/>
                <a:endCxn id="664" idx="1"/>
              </p:cNvCxnSpPr>
              <p:nvPr/>
            </p:nvCxnSpPr>
            <p:spPr>
              <a:xfrm flipH="1">
                <a:off x="3830400" y="3978000"/>
                <a:ext cx="5608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80" name=""/>
              <p:cNvSpPr/>
              <p:nvPr/>
            </p:nvSpPr>
            <p:spPr>
              <a:xfrm flipH="1">
                <a:off x="2627280" y="393372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81" name=""/>
          <p:cNvGrpSpPr/>
          <p:nvPr/>
        </p:nvGrpSpPr>
        <p:grpSpPr>
          <a:xfrm>
            <a:off x="1587600" y="5397480"/>
            <a:ext cx="6413400" cy="1310400"/>
            <a:chOff x="1587600" y="5397480"/>
            <a:chExt cx="6413400" cy="1310400"/>
          </a:xfrm>
        </p:grpSpPr>
        <p:sp>
          <p:nvSpPr>
            <p:cNvPr id="682" name=""/>
            <p:cNvSpPr/>
            <p:nvPr/>
          </p:nvSpPr>
          <p:spPr>
            <a:xfrm>
              <a:off x="3331800" y="6400800"/>
              <a:ext cx="29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3. Repair Department view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65400" y="5905440"/>
              <a:ext cx="52578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chanic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Par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part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cost, supplier-na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cense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owner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s-on(date, 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ervice-typ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84" name=""/>
            <p:cNvGrpSpPr/>
            <p:nvPr/>
          </p:nvGrpSpPr>
          <p:grpSpPr>
            <a:xfrm>
              <a:off x="1587600" y="5397480"/>
              <a:ext cx="6413400" cy="457200"/>
              <a:chOff x="1587600" y="5397480"/>
              <a:chExt cx="6413400" cy="457200"/>
            </a:xfrm>
          </p:grpSpPr>
          <p:sp>
            <p:nvSpPr>
              <p:cNvPr id="685" name=""/>
              <p:cNvSpPr/>
              <p:nvPr/>
            </p:nvSpPr>
            <p:spPr>
              <a:xfrm flipH="1">
                <a:off x="5756400" y="54356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qui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>
                <a:off x="7193160" y="5460840"/>
                <a:ext cx="80784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5195880" y="53974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6998760" y="541008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2954520" y="54356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orks-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4389480" y="5460840"/>
                <a:ext cx="80820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587600" y="5460840"/>
                <a:ext cx="80784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echan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92" name=""/>
              <p:cNvCxnSpPr>
                <a:stCxn id="691" idx="3"/>
                <a:endCxn id="689" idx="1"/>
              </p:cNvCxnSpPr>
              <p:nvPr/>
            </p:nvCxnSpPr>
            <p:spPr>
              <a:xfrm>
                <a:off x="2395080" y="5644800"/>
                <a:ext cx="5598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93" name=""/>
              <p:cNvCxnSpPr>
                <a:stCxn id="689" idx="3"/>
                <a:endCxn id="690" idx="1"/>
              </p:cNvCxnSpPr>
              <p:nvPr/>
            </p:nvCxnSpPr>
            <p:spPr>
              <a:xfrm>
                <a:off x="3830760" y="5644800"/>
                <a:ext cx="559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694" name=""/>
              <p:cNvSpPr/>
              <p:nvPr/>
            </p:nvSpPr>
            <p:spPr>
              <a:xfrm>
                <a:off x="2401920" y="54100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4197600" y="541008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675160" y="55706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H="1">
                <a:off x="4062600" y="559764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698" name=""/>
              <p:cNvCxnSpPr>
                <a:stCxn id="690" idx="3"/>
                <a:endCxn id="685" idx="3"/>
              </p:cNvCxnSpPr>
              <p:nvPr/>
            </p:nvCxnSpPr>
            <p:spPr>
              <a:xfrm flipV="1">
                <a:off x="5197680" y="5643360"/>
                <a:ext cx="55908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699" name=""/>
              <p:cNvCxnSpPr>
                <a:stCxn id="685" idx="1"/>
                <a:endCxn id="686" idx="1"/>
              </p:cNvCxnSpPr>
              <p:nvPr/>
            </p:nvCxnSpPr>
            <p:spPr>
              <a:xfrm>
                <a:off x="6632280" y="5643360"/>
                <a:ext cx="562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700" name=""/>
              <p:cNvSpPr/>
              <p:nvPr/>
            </p:nvSpPr>
            <p:spPr>
              <a:xfrm flipH="1">
                <a:off x="5428440" y="5597640"/>
                <a:ext cx="9396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6865920" y="559764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/>
          </p:nvPr>
        </p:nvSpPr>
        <p:spPr>
          <a:xfrm>
            <a:off x="380880" y="139320"/>
            <a:ext cx="9144000" cy="64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st and state how you resolve any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ructural conflic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at are present in the three schemas. State and justify an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umptions you need to mak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19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Compat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ny entity in schema 1 and manufacturer-name attribute in the Car entity in schema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manufacturer-name attribute an entity called Company in schema 2 and give it the same attributes a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pany in schema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pplier entity in schema 1 and supplier-name attribute in Item (renamed Part) entity in schema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supplier-name attribute an entity called Supplier in schema 3 and give it the same attributes as Supplie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schema 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t entity in schema 1 and Part entity in schema 3 have different attribu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cost attribute to Part entity in schema 1 and description attribute to Part entity in schema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v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er entity in schema 2 and owner attribute in the Car entity in schema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ke owner attribute an entity called Customer in schema 3 and give it the same attributes as Customer i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a 2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rvice entity in schema 2 and Works-on relationship attributes in schema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: Using relationship splitting, we introduce a new entity, Service, in schema 3 that has the attributes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orks-on and a new relationship Has-scheduled. We relate Car to Service using Has-scheduled and Mechanic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Service using Works-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on 2: We use a ternary relationship to relate Car, Service and Mechanic. Note that Service now becomes 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trong entity as the date attribute moves to the relationship. Note that schema 2 also needs to be changed in thi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se to be a ternary relationship among Car, Service and Mechani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v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r entity in schema 1, 2 and 3 have different attribu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license# and year to Vehicle entity (renamed Car) in schema 1; add warranty to Car entity in schema 2;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model, warranty and year attributes to Car entity in schema 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380880" y="139320"/>
            <a:ext cx="9144000" cy="660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Incompati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y of Car in schema 1 is model but in schema 2 and 3 it is license#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is not clear how to resolve this conflict. In fact, because of this conflict, it seems that Vehicle and Ca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lly represent two different entities and this is the major reason why option 1 is preferred as the interpretation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the schema. Here we will assume that license# should be the key for Ca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2401"/>
              </a:spcBef>
              <a:spcAft>
                <a:spcPts val="300"/>
              </a:spcAft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transitive functional dependency (FD) means th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me non-prime attribute is dependent on only part of the k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all attributes on the right-hand side of the FD are necess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dependency exists in the e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me non-prime attributes are dependent on each 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all of the attributes on the left-hand side of the FD are necessa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401"/>
              </a:spcBef>
              <a:spcAft>
                <a:spcPts val="300"/>
              </a:spcAft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 designing a conceptual schema from forms, the extensional part of the form represen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l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lations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criptive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01"/>
              </a:spcBef>
              <a:spcAft>
                <a:spcPts val="300"/>
              </a:spcAft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view integration, two different concepts that have the same meaning but different names is an example o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name confli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structural confli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connectivity confli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key confli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internal confli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177920" y="2577960"/>
            <a:ext cx="279360" cy="27972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77920" y="4140360"/>
            <a:ext cx="279360" cy="2793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77920" y="1270080"/>
            <a:ext cx="279360" cy="2793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schema with structural conflicts resolved is shown below. (It is not necessary to show this diagram in the solution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1900080" y="838080"/>
            <a:ext cx="6605280" cy="2502720"/>
            <a:chOff x="1900080" y="838080"/>
            <a:chExt cx="6605280" cy="2502720"/>
          </a:xfrm>
        </p:grpSpPr>
        <p:sp>
          <p:nvSpPr>
            <p:cNvPr id="706" name=""/>
            <p:cNvSpPr/>
            <p:nvPr/>
          </p:nvSpPr>
          <p:spPr>
            <a:xfrm>
              <a:off x="3417120" y="3033720"/>
              <a:ext cx="307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1. Administration Office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6096600" y="847800"/>
              <a:ext cx="2408760" cy="9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ny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license#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, model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warranty, 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yea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rt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description, 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cos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pplie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upplier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1900080" y="838080"/>
              <a:ext cx="3602160" cy="2184480"/>
              <a:chOff x="1900080" y="838080"/>
              <a:chExt cx="3602160" cy="2184480"/>
            </a:xfrm>
          </p:grpSpPr>
          <p:sp>
            <p:nvSpPr>
              <p:cNvPr id="709" name=""/>
              <p:cNvSpPr/>
              <p:nvPr/>
            </p:nvSpPr>
            <p:spPr>
              <a:xfrm>
                <a:off x="3262320" y="838080"/>
                <a:ext cx="876240" cy="41940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2305080" y="121284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4659480" y="86364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935000" y="86364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900080" y="1771560"/>
                <a:ext cx="87660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nufactur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14" name=""/>
              <p:cNvCxnSpPr>
                <a:stCxn id="712" idx="3"/>
                <a:endCxn id="709" idx="1"/>
              </p:cNvCxnSpPr>
              <p:nvPr/>
            </p:nvCxnSpPr>
            <p:spPr>
              <a:xfrm>
                <a:off x="2743200" y="1047240"/>
                <a:ext cx="5198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715" name=""/>
              <p:cNvCxnSpPr>
                <a:stCxn id="709" idx="3"/>
                <a:endCxn id="711" idx="1"/>
              </p:cNvCxnSpPr>
              <p:nvPr/>
            </p:nvCxnSpPr>
            <p:spPr>
              <a:xfrm>
                <a:off x="4138200" y="1047240"/>
                <a:ext cx="5216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716" name=""/>
              <p:cNvSpPr/>
              <p:nvPr/>
            </p:nvSpPr>
            <p:spPr>
              <a:xfrm>
                <a:off x="2305080" y="244332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2703600" y="83988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503600" y="8398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935000" y="265428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pan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>
                <a:off x="4989240" y="242244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660920" y="265428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626000" y="177156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d-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019840" y="244332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24" name=""/>
              <p:cNvCxnSpPr>
                <a:stCxn id="722" idx="2"/>
                <a:endCxn id="721" idx="0"/>
              </p:cNvCxnSpPr>
              <p:nvPr/>
            </p:nvCxnSpPr>
            <p:spPr>
              <a:xfrm>
                <a:off x="5064120" y="2190600"/>
                <a:ext cx="2160" cy="464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725" name=""/>
              <p:cNvCxnSpPr>
                <a:stCxn id="722" idx="0"/>
                <a:endCxn id="711" idx="2"/>
              </p:cNvCxnSpPr>
              <p:nvPr/>
            </p:nvCxnSpPr>
            <p:spPr>
              <a:xfrm flipV="1">
                <a:off x="5063760" y="1231200"/>
                <a:ext cx="1080" cy="540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726" name=""/>
              <p:cNvSpPr/>
              <p:nvPr/>
            </p:nvSpPr>
            <p:spPr>
              <a:xfrm>
                <a:off x="5019840" y="121284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27" name=""/>
              <p:cNvCxnSpPr>
                <a:stCxn id="713" idx="0"/>
                <a:endCxn id="712" idx="2"/>
              </p:cNvCxnSpPr>
              <p:nvPr/>
            </p:nvCxnSpPr>
            <p:spPr>
              <a:xfrm flipV="1">
                <a:off x="2338560" y="1231200"/>
                <a:ext cx="2160" cy="5403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728" name=""/>
              <p:cNvCxnSpPr>
                <a:stCxn id="713" idx="2"/>
                <a:endCxn id="719" idx="0"/>
              </p:cNvCxnSpPr>
              <p:nvPr/>
            </p:nvCxnSpPr>
            <p:spPr>
              <a:xfrm>
                <a:off x="2338560" y="2190600"/>
                <a:ext cx="2160" cy="464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729" name=""/>
              <p:cNvSpPr/>
              <p:nvPr/>
            </p:nvSpPr>
            <p:spPr>
              <a:xfrm flipH="1">
                <a:off x="4989240" y="1501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2263320" y="15019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H="1">
                <a:off x="2263320" y="242244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398840" y="97272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3002040" y="97272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4" name=""/>
          <p:cNvGrpSpPr/>
          <p:nvPr/>
        </p:nvGrpSpPr>
        <p:grpSpPr>
          <a:xfrm>
            <a:off x="1739520" y="3746520"/>
            <a:ext cx="6413760" cy="2199600"/>
            <a:chOff x="1739520" y="3746520"/>
            <a:chExt cx="6413760" cy="2199600"/>
          </a:xfrm>
        </p:grpSpPr>
        <p:sp>
          <p:nvSpPr>
            <p:cNvPr id="735" name=""/>
            <p:cNvSpPr/>
            <p:nvPr/>
          </p:nvSpPr>
          <p:spPr>
            <a:xfrm>
              <a:off x="3097080" y="5639040"/>
              <a:ext cx="370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2. Customer Service Department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898640" y="5143680"/>
              <a:ext cx="609588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cense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model, 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warrant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year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stomer(name, address, phone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ce(date, service-type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Company(</a:t>
              </a: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name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7" name=""/>
            <p:cNvGrpSpPr/>
            <p:nvPr/>
          </p:nvGrpSpPr>
          <p:grpSpPr>
            <a:xfrm>
              <a:off x="1739520" y="3746520"/>
              <a:ext cx="6413760" cy="1339920"/>
              <a:chOff x="1739520" y="3746520"/>
              <a:chExt cx="6413760" cy="1339920"/>
            </a:xfrm>
          </p:grpSpPr>
          <p:sp>
            <p:nvSpPr>
              <p:cNvPr id="738" name=""/>
              <p:cNvSpPr/>
              <p:nvPr/>
            </p:nvSpPr>
            <p:spPr>
              <a:xfrm flipH="1">
                <a:off x="4502160" y="37544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Manufactur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39" name=""/>
              <p:cNvCxnSpPr>
                <a:stCxn id="738" idx="2"/>
                <a:endCxn id="740" idx="0"/>
              </p:cNvCxnSpPr>
              <p:nvPr/>
            </p:nvCxnSpPr>
            <p:spPr>
              <a:xfrm>
                <a:off x="4940280" y="4172040"/>
                <a:ext cx="2160" cy="52128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741" name=""/>
              <p:cNvSpPr/>
              <p:nvPr/>
            </p:nvSpPr>
            <p:spPr>
              <a:xfrm flipH="1">
                <a:off x="3137040" y="378000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Compan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42" name=""/>
              <p:cNvCxnSpPr>
                <a:stCxn id="741" idx="3"/>
                <a:endCxn id="738" idx="3"/>
              </p:cNvCxnSpPr>
              <p:nvPr/>
            </p:nvCxnSpPr>
            <p:spPr>
              <a:xfrm>
                <a:off x="3946320" y="3962160"/>
                <a:ext cx="556200" cy="108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743" name=""/>
              <p:cNvSpPr/>
              <p:nvPr/>
            </p:nvSpPr>
            <p:spPr>
              <a:xfrm flipH="1">
                <a:off x="3907800" y="374652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4922280" y="447048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4222800" y="3889440"/>
                <a:ext cx="0" cy="1508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H="1">
                <a:off x="4865400" y="4432320"/>
                <a:ext cx="1508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>
                <a:off x="3106800" y="466740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s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hedu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H="1">
                <a:off x="1739160" y="4692600"/>
                <a:ext cx="80820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H="1">
                <a:off x="7345440" y="4692600"/>
                <a:ext cx="80784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138440" y="463068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064280" y="480060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H="1">
                <a:off x="5908680" y="466740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wn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53" name=""/>
              <p:cNvCxnSpPr>
                <a:stCxn id="749" idx="1"/>
                <a:endCxn id="752" idx="1"/>
              </p:cNvCxnSpPr>
              <p:nvPr/>
            </p:nvCxnSpPr>
            <p:spPr>
              <a:xfrm flipH="1">
                <a:off x="6784560" y="4874760"/>
                <a:ext cx="5436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754" name=""/>
              <p:cNvCxnSpPr>
                <a:stCxn id="752" idx="3"/>
                <a:endCxn id="740" idx="3"/>
              </p:cNvCxnSpPr>
              <p:nvPr/>
            </p:nvCxnSpPr>
            <p:spPr>
              <a:xfrm flipH="1">
                <a:off x="5346000" y="4874760"/>
                <a:ext cx="562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755" name=""/>
              <p:cNvSpPr/>
              <p:nvPr/>
            </p:nvSpPr>
            <p:spPr>
              <a:xfrm flipH="1">
                <a:off x="5348160" y="46306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4344840" y="46306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2554200" y="46306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62400" y="480060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629320" y="480060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H="1">
                <a:off x="4536360" y="4692600"/>
                <a:ext cx="80820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760" name=""/>
              <p:cNvCxnSpPr>
                <a:stCxn id="748" idx="3"/>
                <a:endCxn id="747" idx="3"/>
              </p:cNvCxnSpPr>
              <p:nvPr/>
            </p:nvCxnSpPr>
            <p:spPr>
              <a:xfrm>
                <a:off x="2568240" y="4874760"/>
                <a:ext cx="538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761" name=""/>
              <p:cNvCxnSpPr>
                <a:stCxn id="740" idx="1"/>
                <a:endCxn id="747" idx="1"/>
              </p:cNvCxnSpPr>
              <p:nvPr/>
            </p:nvCxnSpPr>
            <p:spPr>
              <a:xfrm flipH="1">
                <a:off x="3982320" y="4874760"/>
                <a:ext cx="5562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762" name=""/>
              <p:cNvSpPr/>
              <p:nvPr/>
            </p:nvSpPr>
            <p:spPr>
              <a:xfrm flipH="1">
                <a:off x="2778840" y="4830840"/>
                <a:ext cx="9396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1295640" cy="27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 algn="just">
              <a:spcBef>
                <a:spcPts val="601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4" name=""/>
          <p:cNvGrpSpPr/>
          <p:nvPr/>
        </p:nvGrpSpPr>
        <p:grpSpPr>
          <a:xfrm>
            <a:off x="1701720" y="609480"/>
            <a:ext cx="6490800" cy="2222280"/>
            <a:chOff x="1701720" y="609480"/>
            <a:chExt cx="6490800" cy="2222280"/>
          </a:xfrm>
        </p:grpSpPr>
        <p:sp>
          <p:nvSpPr>
            <p:cNvPr id="765" name=""/>
            <p:cNvSpPr/>
            <p:nvPr/>
          </p:nvSpPr>
          <p:spPr>
            <a:xfrm flipH="1">
              <a:off x="3086280" y="60948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ui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66" name=""/>
            <p:cNvCxnSpPr>
              <a:stCxn id="767" idx="1"/>
              <a:endCxn id="765" idx="1"/>
            </p:cNvCxnSpPr>
            <p:nvPr/>
          </p:nvCxnSpPr>
          <p:spPr>
            <a:xfrm flipH="1">
              <a:off x="3962160" y="816840"/>
              <a:ext cx="575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68" name=""/>
            <p:cNvCxnSpPr>
              <a:stCxn id="765" idx="3"/>
              <a:endCxn id="769" idx="3"/>
            </p:cNvCxnSpPr>
            <p:nvPr/>
          </p:nvCxnSpPr>
          <p:spPr>
            <a:xfrm flipH="1">
              <a:off x="2544480" y="816840"/>
              <a:ext cx="5421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70" name=""/>
            <p:cNvSpPr/>
            <p:nvPr/>
          </p:nvSpPr>
          <p:spPr>
            <a:xfrm flipH="1">
              <a:off x="4351320" y="61092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2503440" y="61092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4192560" y="771120"/>
              <a:ext cx="93600" cy="9396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2762280" y="77292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1735200" y="2438280"/>
              <a:ext cx="807840" cy="36828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uppli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1701720" y="1510920"/>
              <a:ext cx="876240" cy="419400"/>
            </a:xfrm>
            <a:prstGeom prst="diamond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upplied-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76" name=""/>
            <p:cNvCxnSpPr>
              <a:stCxn id="769" idx="2"/>
              <a:endCxn id="775" idx="0"/>
            </p:cNvCxnSpPr>
            <p:nvPr/>
          </p:nvCxnSpPr>
          <p:spPr>
            <a:xfrm>
              <a:off x="2139480" y="1001160"/>
              <a:ext cx="1080" cy="5101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cxnSp>
          <p:nvCxnSpPr>
            <p:cNvPr id="777" name=""/>
            <p:cNvCxnSpPr>
              <a:stCxn id="774" idx="0"/>
              <a:endCxn id="775" idx="2"/>
            </p:cNvCxnSpPr>
            <p:nvPr/>
          </p:nvCxnSpPr>
          <p:spPr>
            <a:xfrm flipV="1">
              <a:off x="2139480" y="1928160"/>
              <a:ext cx="1080" cy="5104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769" name=""/>
            <p:cNvSpPr/>
            <p:nvPr/>
          </p:nvSpPr>
          <p:spPr>
            <a:xfrm flipH="1">
              <a:off x="1735200" y="634680"/>
              <a:ext cx="8078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110680" y="99684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110680" y="222696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063160" y="2184120"/>
              <a:ext cx="15084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063160" y="1257120"/>
              <a:ext cx="15084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5783760" y="1142640"/>
              <a:ext cx="2408760" cy="131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chanic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cense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model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year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 warranty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rt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description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cos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Customer(name, address, phone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ervice(date, service-typ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upplier(</a:t>
              </a:r>
              <a:r>
                <a:rPr b="0" lang="en-US" sz="1200" spc="-1" strike="noStrike" u="sng">
                  <a:solidFill>
                    <a:srgbClr val="fc0128"/>
                  </a:solidFill>
                  <a:uFillTx/>
                  <a:latin typeface="Times New Roman"/>
                </a:rPr>
                <a:t>supplier#</a:t>
              </a: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, name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193880" y="610920"/>
              <a:ext cx="18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4" name=""/>
            <p:cNvCxnSpPr>
              <a:stCxn id="785" idx="3"/>
              <a:endCxn id="767" idx="3"/>
            </p:cNvCxnSpPr>
            <p:nvPr/>
          </p:nvCxnSpPr>
          <p:spPr>
            <a:xfrm flipH="1">
              <a:off x="5344560" y="816840"/>
              <a:ext cx="562680" cy="10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786" name=""/>
            <p:cNvSpPr/>
            <p:nvPr/>
          </p:nvSpPr>
          <p:spPr>
            <a:xfrm flipH="1">
              <a:off x="5300640" y="61092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4532400" y="2438280"/>
              <a:ext cx="807840" cy="36828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er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4905360" y="222876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9" name=""/>
            <p:cNvCxnSpPr>
              <a:stCxn id="790" idx="2"/>
              <a:endCxn id="787" idx="0"/>
            </p:cNvCxnSpPr>
            <p:nvPr/>
          </p:nvCxnSpPr>
          <p:spPr>
            <a:xfrm>
              <a:off x="4935600" y="1928160"/>
              <a:ext cx="2160" cy="49140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791" name=""/>
            <p:cNvSpPr/>
            <p:nvPr/>
          </p:nvSpPr>
          <p:spPr>
            <a:xfrm flipH="1">
              <a:off x="4905360" y="99180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865400" y="1257120"/>
              <a:ext cx="15084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3" name=""/>
            <p:cNvCxnSpPr>
              <a:stCxn id="790" idx="0"/>
              <a:endCxn id="767" idx="2"/>
            </p:cNvCxnSpPr>
            <p:nvPr/>
          </p:nvCxnSpPr>
          <p:spPr>
            <a:xfrm flipV="1">
              <a:off x="4935240" y="1000800"/>
              <a:ext cx="5400" cy="51012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790" name=""/>
            <p:cNvSpPr/>
            <p:nvPr/>
          </p:nvSpPr>
          <p:spPr>
            <a:xfrm flipH="1">
              <a:off x="4497480" y="1510920"/>
              <a:ext cx="876240" cy="419400"/>
            </a:xfrm>
            <a:prstGeom prst="diamond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Has-</a:t>
              </a:r>
              <a:br>
                <a:rPr sz="1200"/>
              </a:b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schedul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4535640" y="634680"/>
              <a:ext cx="807840" cy="368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5907240" y="609480"/>
              <a:ext cx="876240" cy="419040"/>
            </a:xfrm>
            <a:prstGeom prst="diamond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Owned-</a:t>
              </a:r>
              <a:br>
                <a:rPr sz="1200"/>
              </a:b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45440" y="634680"/>
              <a:ext cx="807840" cy="36828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95" name=""/>
            <p:cNvCxnSpPr>
              <a:stCxn id="785" idx="1"/>
              <a:endCxn id="794" idx="1"/>
            </p:cNvCxnSpPr>
            <p:nvPr/>
          </p:nvCxnSpPr>
          <p:spPr>
            <a:xfrm>
              <a:off x="6783480" y="816840"/>
              <a:ext cx="545040" cy="10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796" name=""/>
            <p:cNvSpPr/>
            <p:nvPr/>
          </p:nvSpPr>
          <p:spPr>
            <a:xfrm>
              <a:off x="5624640" y="742680"/>
              <a:ext cx="0" cy="1508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64280" y="742680"/>
              <a:ext cx="0" cy="1508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4889520" y="213660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5904000" y="2412720"/>
              <a:ext cx="876240" cy="41904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s-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5343480" y="237456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149960" y="2374560"/>
              <a:ext cx="184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345440" y="2438280"/>
              <a:ext cx="807840" cy="36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chan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062840" y="2546280"/>
              <a:ext cx="0" cy="150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04" name=""/>
            <p:cNvCxnSpPr>
              <a:stCxn id="787" idx="3"/>
              <a:endCxn id="799" idx="3"/>
            </p:cNvCxnSpPr>
            <p:nvPr/>
          </p:nvCxnSpPr>
          <p:spPr>
            <a:xfrm>
              <a:off x="5361120" y="2620440"/>
              <a:ext cx="54360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805" name=""/>
            <p:cNvCxnSpPr>
              <a:stCxn id="799" idx="1"/>
              <a:endCxn id="802" idx="1"/>
            </p:cNvCxnSpPr>
            <p:nvPr/>
          </p:nvCxnSpPr>
          <p:spPr>
            <a:xfrm>
              <a:off x="6780240" y="2620440"/>
              <a:ext cx="5673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806" name=""/>
            <p:cNvSpPr/>
            <p:nvPr/>
          </p:nvSpPr>
          <p:spPr>
            <a:xfrm flipH="1">
              <a:off x="5575320" y="2574720"/>
              <a:ext cx="93600" cy="936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7" name=""/>
          <p:cNvGrpSpPr/>
          <p:nvPr/>
        </p:nvGrpSpPr>
        <p:grpSpPr>
          <a:xfrm>
            <a:off x="1854360" y="3809880"/>
            <a:ext cx="6490440" cy="2661480"/>
            <a:chOff x="1854360" y="3809880"/>
            <a:chExt cx="6490440" cy="2661480"/>
          </a:xfrm>
        </p:grpSpPr>
        <p:sp>
          <p:nvSpPr>
            <p:cNvPr id="808" name=""/>
            <p:cNvSpPr/>
            <p:nvPr/>
          </p:nvSpPr>
          <p:spPr>
            <a:xfrm>
              <a:off x="3641040" y="6164280"/>
              <a:ext cx="287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3. Repair Department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9" name=""/>
            <p:cNvGrpSpPr/>
            <p:nvPr/>
          </p:nvGrpSpPr>
          <p:grpSpPr>
            <a:xfrm>
              <a:off x="1854360" y="3809880"/>
              <a:ext cx="6490440" cy="2197080"/>
              <a:chOff x="1854360" y="3809880"/>
              <a:chExt cx="6490440" cy="2197080"/>
            </a:xfrm>
          </p:grpSpPr>
          <p:sp>
            <p:nvSpPr>
              <p:cNvPr id="810" name=""/>
              <p:cNvSpPr/>
              <p:nvPr/>
            </p:nvSpPr>
            <p:spPr>
              <a:xfrm flipH="1">
                <a:off x="3238560" y="3809880"/>
                <a:ext cx="876240" cy="41940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qui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11" name=""/>
              <p:cNvCxnSpPr>
                <a:stCxn id="812" idx="1"/>
                <a:endCxn id="810" idx="1"/>
              </p:cNvCxnSpPr>
              <p:nvPr/>
            </p:nvCxnSpPr>
            <p:spPr>
              <a:xfrm flipH="1">
                <a:off x="4114440" y="4017600"/>
                <a:ext cx="5724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813" name=""/>
              <p:cNvCxnSpPr>
                <a:stCxn id="810" idx="3"/>
                <a:endCxn id="814" idx="3"/>
              </p:cNvCxnSpPr>
              <p:nvPr/>
            </p:nvCxnSpPr>
            <p:spPr>
              <a:xfrm flipH="1">
                <a:off x="2696760" y="4017600"/>
                <a:ext cx="54216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815" name=""/>
              <p:cNvSpPr/>
              <p:nvPr/>
            </p:nvSpPr>
            <p:spPr>
              <a:xfrm flipH="1">
                <a:off x="4503600" y="38116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>
                <a:off x="2655720" y="38116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4344120" y="3971880"/>
                <a:ext cx="9396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H="1">
                <a:off x="2914560" y="397368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1886760" y="563868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uppl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H="1">
                <a:off x="1854360" y="471168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upplied-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21" name=""/>
              <p:cNvCxnSpPr>
                <a:stCxn id="814" idx="2"/>
                <a:endCxn id="820" idx="0"/>
              </p:cNvCxnSpPr>
              <p:nvPr/>
            </p:nvCxnSpPr>
            <p:spPr>
              <a:xfrm>
                <a:off x="2292120" y="4201920"/>
                <a:ext cx="1080" cy="51012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cxnSp>
            <p:nvCxnSpPr>
              <p:cNvPr id="822" name=""/>
              <p:cNvCxnSpPr>
                <a:stCxn id="819" idx="0"/>
                <a:endCxn id="820" idx="2"/>
              </p:cNvCxnSpPr>
              <p:nvPr/>
            </p:nvCxnSpPr>
            <p:spPr>
              <a:xfrm flipV="1">
                <a:off x="2292120" y="5128560"/>
                <a:ext cx="1080" cy="51012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814" name=""/>
              <p:cNvSpPr/>
              <p:nvPr/>
            </p:nvSpPr>
            <p:spPr>
              <a:xfrm flipH="1">
                <a:off x="1886760" y="3835440"/>
                <a:ext cx="80820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2263680" y="419724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flipH="1">
                <a:off x="2263680" y="542772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15440" y="5384880"/>
                <a:ext cx="1508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2215440" y="4457880"/>
                <a:ext cx="1508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936040" y="4343400"/>
                <a:ext cx="2408760" cy="15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echanic(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emp#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nam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(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license#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model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year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</a:t>
                </a: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 warranty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t(</a:t>
                </a: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part#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</a:t>
                </a: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description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, cost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Customer(name, address, phone#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ervice(</a:t>
                </a:r>
                <a:r>
                  <a:rPr b="0" lang="en-US" sz="1200" spc="-1" strike="noStrike" u="sng">
                    <a:solidFill>
                      <a:srgbClr val="fc0128"/>
                    </a:solidFill>
                    <a:uFillTx/>
                    <a:latin typeface="Times New Roman"/>
                  </a:rPr>
                  <a:t>service-type</a:t>
                </a: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upplier(</a:t>
                </a:r>
                <a:r>
                  <a:rPr b="0" lang="en-US" sz="1200" spc="-1" strike="noStrike" u="sng">
                    <a:solidFill>
                      <a:srgbClr val="fc0128"/>
                    </a:solidFill>
                    <a:uFillTx/>
                    <a:latin typeface="Times New Roman"/>
                  </a:rPr>
                  <a:t>supplier#</a:t>
                </a: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, name, city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Has-scheduled(date)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>
                <a:off x="7346880" y="38116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29" name=""/>
              <p:cNvCxnSpPr>
                <a:stCxn id="830" idx="3"/>
                <a:endCxn id="812" idx="3"/>
              </p:cNvCxnSpPr>
              <p:nvPr/>
            </p:nvCxnSpPr>
            <p:spPr>
              <a:xfrm flipH="1">
                <a:off x="5493960" y="4017600"/>
                <a:ext cx="565920" cy="108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831" name=""/>
              <p:cNvSpPr/>
              <p:nvPr/>
            </p:nvSpPr>
            <p:spPr>
              <a:xfrm flipH="1">
                <a:off x="5452920" y="38116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>
                <a:off x="4683960" y="563868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H="1">
                <a:off x="5057640" y="54291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34" name=""/>
              <p:cNvCxnSpPr>
                <a:stCxn id="835" idx="2"/>
                <a:endCxn id="832" idx="0"/>
              </p:cNvCxnSpPr>
              <p:nvPr/>
            </p:nvCxnSpPr>
            <p:spPr>
              <a:xfrm>
                <a:off x="5087520" y="5128920"/>
                <a:ext cx="2520" cy="51012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836" name=""/>
              <p:cNvSpPr/>
              <p:nvPr/>
            </p:nvSpPr>
            <p:spPr>
              <a:xfrm flipH="1">
                <a:off x="5057640" y="41925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37" name=""/>
              <p:cNvCxnSpPr>
                <a:stCxn id="835" idx="0"/>
                <a:endCxn id="812" idx="2"/>
              </p:cNvCxnSpPr>
              <p:nvPr/>
            </p:nvCxnSpPr>
            <p:spPr>
              <a:xfrm flipV="1">
                <a:off x="5087520" y="4201560"/>
                <a:ext cx="2520" cy="51012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835" name=""/>
              <p:cNvSpPr/>
              <p:nvPr/>
            </p:nvSpPr>
            <p:spPr>
              <a:xfrm flipH="1">
                <a:off x="4649760" y="471168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Has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chedu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4683960" y="3835440"/>
                <a:ext cx="80820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6059520" y="3809880"/>
                <a:ext cx="876240" cy="419400"/>
              </a:xfrm>
              <a:prstGeom prst="diamond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Own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>
                <a:off x="7497000" y="3835440"/>
                <a:ext cx="808200" cy="368280"/>
              </a:xfrm>
              <a:prstGeom prst="rect">
                <a:avLst/>
              </a:prstGeom>
              <a:noFill/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Custo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39" name=""/>
              <p:cNvCxnSpPr>
                <a:stCxn id="830" idx="1"/>
                <a:endCxn id="838" idx="1"/>
              </p:cNvCxnSpPr>
              <p:nvPr/>
            </p:nvCxnSpPr>
            <p:spPr>
              <a:xfrm>
                <a:off x="6935400" y="4017600"/>
                <a:ext cx="545400" cy="108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840" name=""/>
              <p:cNvSpPr/>
              <p:nvPr/>
            </p:nvSpPr>
            <p:spPr>
              <a:xfrm>
                <a:off x="5776920" y="3943440"/>
                <a:ext cx="0" cy="1508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7216920" y="3943440"/>
                <a:ext cx="0" cy="15084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H="1">
                <a:off x="5041800" y="5337000"/>
                <a:ext cx="93600" cy="939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4076640" y="467352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H="1">
                <a:off x="3263040" y="473724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echan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4361040" y="484488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46" name=""/>
              <p:cNvCxnSpPr>
                <a:stCxn id="835" idx="3"/>
                <a:endCxn id="844" idx="3"/>
              </p:cNvCxnSpPr>
              <p:nvPr/>
            </p:nvCxnSpPr>
            <p:spPr>
              <a:xfrm flipH="1">
                <a:off x="4072680" y="4919400"/>
                <a:ext cx="577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847" name=""/>
              <p:cNvSpPr/>
              <p:nvPr/>
            </p:nvSpPr>
            <p:spPr>
              <a:xfrm flipH="1">
                <a:off x="5041800" y="441000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8" name=""/>
          <p:cNvSpPr/>
          <p:nvPr/>
        </p:nvSpPr>
        <p:spPr>
          <a:xfrm>
            <a:off x="380880" y="3505320"/>
            <a:ext cx="129564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305280" indent="-305280" algn="just">
              <a:spcBef>
                <a:spcPts val="601"/>
              </a:spcBef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27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0" algn="just">
              <a:spcBef>
                <a:spcPts val="601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grate the three sch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0" name=""/>
          <p:cNvGrpSpPr/>
          <p:nvPr/>
        </p:nvGrpSpPr>
        <p:grpSpPr>
          <a:xfrm>
            <a:off x="990720" y="457200"/>
            <a:ext cx="8906760" cy="3169800"/>
            <a:chOff x="990720" y="457200"/>
            <a:chExt cx="8906760" cy="3169800"/>
          </a:xfrm>
        </p:grpSpPr>
        <p:sp>
          <p:nvSpPr>
            <p:cNvPr id="851" name=""/>
            <p:cNvSpPr/>
            <p:nvPr/>
          </p:nvSpPr>
          <p:spPr>
            <a:xfrm>
              <a:off x="7488720" y="1792080"/>
              <a:ext cx="2408760" cy="152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cense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model, warranty, yea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rt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description, cos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pplie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upplier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ny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stomer(name, address, phone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ce(date, service-typ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chanic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2" name=""/>
            <p:cNvGrpSpPr/>
            <p:nvPr/>
          </p:nvGrpSpPr>
          <p:grpSpPr>
            <a:xfrm>
              <a:off x="990720" y="457200"/>
              <a:ext cx="6433920" cy="3169800"/>
              <a:chOff x="990720" y="457200"/>
              <a:chExt cx="6433920" cy="3169800"/>
            </a:xfrm>
          </p:grpSpPr>
          <p:cxnSp>
            <p:nvCxnSpPr>
              <p:cNvPr id="853" name=""/>
              <p:cNvCxnSpPr>
                <a:stCxn id="854" idx="3"/>
                <a:endCxn id="855" idx="3"/>
              </p:cNvCxnSpPr>
              <p:nvPr/>
            </p:nvCxnSpPr>
            <p:spPr>
              <a:xfrm>
                <a:off x="4632480" y="3415680"/>
                <a:ext cx="5198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856" name=""/>
              <p:cNvSpPr/>
              <p:nvPr/>
            </p:nvSpPr>
            <p:spPr>
              <a:xfrm flipH="1">
                <a:off x="2374920" y="1404720"/>
                <a:ext cx="876240" cy="41868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qui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H="1">
                <a:off x="6465240" y="140616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58" name=""/>
              <p:cNvCxnSpPr>
                <a:stCxn id="859" idx="3"/>
                <a:endCxn id="860" idx="3"/>
              </p:cNvCxnSpPr>
              <p:nvPr/>
            </p:nvCxnSpPr>
            <p:spPr>
              <a:xfrm flipH="1">
                <a:off x="4613040" y="1612440"/>
                <a:ext cx="565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861" name=""/>
              <p:cNvCxnSpPr>
                <a:stCxn id="860" idx="1"/>
                <a:endCxn id="856" idx="1"/>
              </p:cNvCxnSpPr>
              <p:nvPr/>
            </p:nvCxnSpPr>
            <p:spPr>
              <a:xfrm flipH="1">
                <a:off x="3250440" y="1612440"/>
                <a:ext cx="55476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862" name=""/>
              <p:cNvCxnSpPr>
                <a:stCxn id="856" idx="3"/>
                <a:endCxn id="863" idx="3"/>
              </p:cNvCxnSpPr>
              <p:nvPr/>
            </p:nvCxnSpPr>
            <p:spPr>
              <a:xfrm flipH="1">
                <a:off x="1833120" y="1612440"/>
                <a:ext cx="54216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864" name=""/>
              <p:cNvSpPr/>
              <p:nvPr/>
            </p:nvSpPr>
            <p:spPr>
              <a:xfrm flipH="1">
                <a:off x="4572000" y="14061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3639960" y="14061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flipH="1">
                <a:off x="1791720" y="140616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H="1">
                <a:off x="3481560" y="1566720"/>
                <a:ext cx="93600" cy="9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H="1">
                <a:off x="3803760" y="3233520"/>
                <a:ext cx="807840" cy="36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>
                <a:off x="4176720" y="302400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69" name=""/>
              <p:cNvCxnSpPr>
                <a:stCxn id="870" idx="2"/>
                <a:endCxn id="854" idx="0"/>
              </p:cNvCxnSpPr>
              <p:nvPr/>
            </p:nvCxnSpPr>
            <p:spPr>
              <a:xfrm>
                <a:off x="4206960" y="2723760"/>
                <a:ext cx="2160" cy="4906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871" name=""/>
              <p:cNvSpPr/>
              <p:nvPr/>
            </p:nvSpPr>
            <p:spPr>
              <a:xfrm flipH="1">
                <a:off x="4176720" y="178740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4136760" y="20523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flipH="1">
                <a:off x="2050200" y="1568160"/>
                <a:ext cx="93960" cy="9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74" name=""/>
              <p:cNvCxnSpPr>
                <a:stCxn id="870" idx="0"/>
                <a:endCxn id="860" idx="2"/>
              </p:cNvCxnSpPr>
              <p:nvPr/>
            </p:nvCxnSpPr>
            <p:spPr>
              <a:xfrm flipV="1">
                <a:off x="4206960" y="1796040"/>
                <a:ext cx="2160" cy="5101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875" name=""/>
              <p:cNvSpPr/>
              <p:nvPr/>
            </p:nvSpPr>
            <p:spPr>
              <a:xfrm flipH="1">
                <a:off x="1023120" y="3233520"/>
                <a:ext cx="808200" cy="36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H="1">
                <a:off x="990720" y="2306520"/>
                <a:ext cx="876240" cy="41868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d-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77" name=""/>
              <p:cNvCxnSpPr>
                <a:stCxn id="863" idx="2"/>
                <a:endCxn id="876" idx="0"/>
              </p:cNvCxnSpPr>
              <p:nvPr/>
            </p:nvCxnSpPr>
            <p:spPr>
              <a:xfrm>
                <a:off x="1428480" y="1796400"/>
                <a:ext cx="1080" cy="5101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878" name=""/>
              <p:cNvCxnSpPr>
                <a:stCxn id="875" idx="0"/>
                <a:endCxn id="876" idx="2"/>
              </p:cNvCxnSpPr>
              <p:nvPr/>
            </p:nvCxnSpPr>
            <p:spPr>
              <a:xfrm flipV="1">
                <a:off x="1428480" y="2724120"/>
                <a:ext cx="1080" cy="5094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870" name=""/>
              <p:cNvSpPr/>
              <p:nvPr/>
            </p:nvSpPr>
            <p:spPr>
              <a:xfrm flipH="1">
                <a:off x="3768840" y="2306520"/>
                <a:ext cx="876240" cy="41868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s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hedu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H="1">
                <a:off x="1023120" y="1430280"/>
                <a:ext cx="808200" cy="36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1400040" y="17920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>
                <a:off x="1400040" y="30225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1351800" y="29797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1351800" y="20523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flipH="1">
                <a:off x="5178600" y="1404720"/>
                <a:ext cx="876240" cy="41868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wn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>
                <a:off x="6616800" y="1430280"/>
                <a:ext cx="807840" cy="3679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4" name=""/>
              <p:cNvCxnSpPr>
                <a:stCxn id="859" idx="1"/>
                <a:endCxn id="883" idx="1"/>
              </p:cNvCxnSpPr>
              <p:nvPr/>
            </p:nvCxnSpPr>
            <p:spPr>
              <a:xfrm>
                <a:off x="6054840" y="1612440"/>
                <a:ext cx="5450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885" name=""/>
              <p:cNvSpPr/>
              <p:nvPr/>
            </p:nvSpPr>
            <p:spPr>
              <a:xfrm>
                <a:off x="4896000" y="1537920"/>
                <a:ext cx="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6335640" y="1537920"/>
                <a:ext cx="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4160880" y="2931840"/>
                <a:ext cx="93600" cy="9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H="1">
                <a:off x="5178600" y="50292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nufactur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flipH="1">
                <a:off x="6616800" y="528480"/>
                <a:ext cx="807840" cy="36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pan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flipH="1">
                <a:off x="6425640" y="45720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flipH="1">
                <a:off x="4468680" y="118080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6335640" y="637920"/>
                <a:ext cx="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flipH="1">
                <a:off x="4382640" y="11761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>
                <a:off x="6578640" y="3233520"/>
                <a:ext cx="807840" cy="367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echan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5151600" y="3208320"/>
                <a:ext cx="876240" cy="41868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orks-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>
                <a:off x="6425640" y="320832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4574520" y="320832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302520" y="3341520"/>
                <a:ext cx="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98" name=""/>
              <p:cNvCxnSpPr>
                <a:stCxn id="855" idx="1"/>
                <a:endCxn id="894" idx="1"/>
              </p:cNvCxnSpPr>
              <p:nvPr/>
            </p:nvCxnSpPr>
            <p:spPr>
              <a:xfrm>
                <a:off x="6027840" y="3415680"/>
                <a:ext cx="55296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899" name=""/>
              <p:cNvSpPr/>
              <p:nvPr/>
            </p:nvSpPr>
            <p:spPr>
              <a:xfrm flipH="1">
                <a:off x="4834080" y="3369960"/>
                <a:ext cx="93600" cy="932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080" bIns="190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0" name=""/>
              <p:cNvCxnSpPr>
                <a:stCxn id="888" idx="1"/>
                <a:endCxn id="889" idx="1"/>
              </p:cNvCxnSpPr>
              <p:nvPr/>
            </p:nvCxnSpPr>
            <p:spPr>
              <a:xfrm>
                <a:off x="6054480" y="710640"/>
                <a:ext cx="5641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01" name=""/>
              <p:cNvCxnSpPr>
                <a:endCxn id="888" idx="3"/>
              </p:cNvCxnSpPr>
              <p:nvPr/>
            </p:nvCxnSpPr>
            <p:spPr>
              <a:xfrm flipH="1" flipV="1" rot="5400000">
                <a:off x="4435200" y="729360"/>
                <a:ext cx="762480" cy="7246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902" name=""/>
              <p:cNvSpPr/>
              <p:nvPr/>
            </p:nvSpPr>
            <p:spPr>
              <a:xfrm flipH="1">
                <a:off x="2374920" y="50292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03" name=""/>
              <p:cNvCxnSpPr>
                <a:stCxn id="863" idx="0"/>
                <a:endCxn id="902" idx="3"/>
              </p:cNvCxnSpPr>
              <p:nvPr/>
            </p:nvCxnSpPr>
            <p:spPr>
              <a:xfrm flipH="1" flipV="1" rot="5400000">
                <a:off x="1542240" y="596880"/>
                <a:ext cx="719640" cy="94680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04" name=""/>
              <p:cNvCxnSpPr>
                <a:stCxn id="902" idx="1"/>
              </p:cNvCxnSpPr>
              <p:nvPr/>
            </p:nvCxnSpPr>
            <p:spPr>
              <a:xfrm>
                <a:off x="3250800" y="711000"/>
                <a:ext cx="762840" cy="7624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860" name=""/>
              <p:cNvSpPr/>
              <p:nvPr/>
            </p:nvSpPr>
            <p:spPr>
              <a:xfrm flipH="1">
                <a:off x="3803760" y="1430280"/>
                <a:ext cx="807840" cy="3679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351800" y="11761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3936240" y="117612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1438200" y="116820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>
                <a:off x="3825720" y="118260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9" name=""/>
          <p:cNvGrpSpPr/>
          <p:nvPr/>
        </p:nvGrpSpPr>
        <p:grpSpPr>
          <a:xfrm>
            <a:off x="990720" y="3687840"/>
            <a:ext cx="8906760" cy="3144600"/>
            <a:chOff x="990720" y="3687840"/>
            <a:chExt cx="8906760" cy="3144600"/>
          </a:xfrm>
        </p:grpSpPr>
        <p:sp>
          <p:nvSpPr>
            <p:cNvPr id="910" name=""/>
            <p:cNvSpPr/>
            <p:nvPr/>
          </p:nvSpPr>
          <p:spPr>
            <a:xfrm>
              <a:off x="7488720" y="5022720"/>
              <a:ext cx="2408760" cy="173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cense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model, warranty, yea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rt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description, cos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pplie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upplier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ny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stomer(name, address, phone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ce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ervice-typ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chanic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as-scheduled(dat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990720" y="3687840"/>
              <a:ext cx="6433920" cy="3144600"/>
              <a:chOff x="990720" y="3687840"/>
              <a:chExt cx="6433920" cy="3144600"/>
            </a:xfrm>
          </p:grpSpPr>
          <p:sp>
            <p:nvSpPr>
              <p:cNvPr id="912" name=""/>
              <p:cNvSpPr/>
              <p:nvPr/>
            </p:nvSpPr>
            <p:spPr>
              <a:xfrm flipH="1">
                <a:off x="2374920" y="4635360"/>
                <a:ext cx="876240" cy="41940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qui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>
                <a:off x="6465240" y="463716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14" name=""/>
              <p:cNvCxnSpPr>
                <a:stCxn id="915" idx="3"/>
                <a:endCxn id="916" idx="3"/>
              </p:cNvCxnSpPr>
              <p:nvPr/>
            </p:nvCxnSpPr>
            <p:spPr>
              <a:xfrm flipH="1">
                <a:off x="4613040" y="4843080"/>
                <a:ext cx="565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17" name=""/>
              <p:cNvCxnSpPr>
                <a:stCxn id="916" idx="1"/>
                <a:endCxn id="912" idx="1"/>
              </p:cNvCxnSpPr>
              <p:nvPr/>
            </p:nvCxnSpPr>
            <p:spPr>
              <a:xfrm flipH="1">
                <a:off x="3250440" y="4843080"/>
                <a:ext cx="55476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18" name=""/>
              <p:cNvCxnSpPr>
                <a:stCxn id="912" idx="3"/>
                <a:endCxn id="919" idx="3"/>
              </p:cNvCxnSpPr>
              <p:nvPr/>
            </p:nvCxnSpPr>
            <p:spPr>
              <a:xfrm flipH="1">
                <a:off x="1833120" y="4843080"/>
                <a:ext cx="54216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920" name=""/>
              <p:cNvSpPr/>
              <p:nvPr/>
            </p:nvSpPr>
            <p:spPr>
              <a:xfrm flipH="1">
                <a:off x="4572000" y="46371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>
                <a:off x="3639960" y="46371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>
                <a:off x="1791720" y="463716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>
                <a:off x="3481560" y="479736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3803760" y="646416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>
                <a:off x="4176720" y="625464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26" name=""/>
              <p:cNvCxnSpPr>
                <a:stCxn id="927" idx="2"/>
                <a:endCxn id="924" idx="0"/>
              </p:cNvCxnSpPr>
              <p:nvPr/>
            </p:nvCxnSpPr>
            <p:spPr>
              <a:xfrm>
                <a:off x="4206960" y="5954400"/>
                <a:ext cx="2160" cy="5101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928" name=""/>
              <p:cNvSpPr/>
              <p:nvPr/>
            </p:nvSpPr>
            <p:spPr>
              <a:xfrm flipH="1">
                <a:off x="4176720" y="501804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2050200" y="4799160"/>
                <a:ext cx="9396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0" name=""/>
              <p:cNvCxnSpPr>
                <a:stCxn id="927" idx="0"/>
                <a:endCxn id="916" idx="2"/>
              </p:cNvCxnSpPr>
              <p:nvPr/>
            </p:nvCxnSpPr>
            <p:spPr>
              <a:xfrm flipV="1">
                <a:off x="4206960" y="5027040"/>
                <a:ext cx="2160" cy="5101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931" name=""/>
              <p:cNvSpPr/>
              <p:nvPr/>
            </p:nvSpPr>
            <p:spPr>
              <a:xfrm flipH="1">
                <a:off x="1023120" y="6464160"/>
                <a:ext cx="80820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>
                <a:off x="990720" y="553716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d-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33" name=""/>
              <p:cNvCxnSpPr>
                <a:stCxn id="919" idx="2"/>
                <a:endCxn id="932" idx="0"/>
              </p:cNvCxnSpPr>
              <p:nvPr/>
            </p:nvCxnSpPr>
            <p:spPr>
              <a:xfrm>
                <a:off x="1428480" y="5027400"/>
                <a:ext cx="1080" cy="5101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34" name=""/>
              <p:cNvCxnSpPr>
                <a:stCxn id="931" idx="0"/>
                <a:endCxn id="932" idx="2"/>
              </p:cNvCxnSpPr>
              <p:nvPr/>
            </p:nvCxnSpPr>
            <p:spPr>
              <a:xfrm flipV="1">
                <a:off x="1428480" y="5954040"/>
                <a:ext cx="1080" cy="5101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927" name=""/>
              <p:cNvSpPr/>
              <p:nvPr/>
            </p:nvSpPr>
            <p:spPr>
              <a:xfrm flipH="1">
                <a:off x="3768840" y="553716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s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hedu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>
                <a:off x="1023120" y="4660920"/>
                <a:ext cx="80820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1400040" y="502272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1400040" y="625320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1351800" y="62103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1351800" y="52833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>
                <a:off x="5178600" y="4635360"/>
                <a:ext cx="876240" cy="41940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wn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6616800" y="4660920"/>
                <a:ext cx="80784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40" name=""/>
              <p:cNvCxnSpPr>
                <a:stCxn id="915" idx="1"/>
                <a:endCxn id="939" idx="1"/>
              </p:cNvCxnSpPr>
              <p:nvPr/>
            </p:nvCxnSpPr>
            <p:spPr>
              <a:xfrm>
                <a:off x="6054840" y="4843080"/>
                <a:ext cx="54504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941" name=""/>
              <p:cNvSpPr/>
              <p:nvPr/>
            </p:nvSpPr>
            <p:spPr>
              <a:xfrm>
                <a:off x="4896000" y="476892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335640" y="476892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>
                <a:off x="4160880" y="616284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H="1">
                <a:off x="5178600" y="373392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nufactur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6616800" y="375912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pan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 flipH="1">
                <a:off x="6425640" y="368784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>
                <a:off x="4468680" y="441180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335640" y="386856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 flipH="1">
                <a:off x="4382640" y="44067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2400480" y="556272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echan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3213000" y="549900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3487680" y="5670720"/>
                <a:ext cx="0" cy="150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3" name=""/>
              <p:cNvCxnSpPr>
                <a:stCxn id="927" idx="3"/>
                <a:endCxn id="950" idx="3"/>
              </p:cNvCxnSpPr>
              <p:nvPr/>
            </p:nvCxnSpPr>
            <p:spPr>
              <a:xfrm flipH="1">
                <a:off x="3209040" y="5744880"/>
                <a:ext cx="5598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954" name=""/>
              <p:cNvSpPr/>
              <p:nvPr/>
            </p:nvSpPr>
            <p:spPr>
              <a:xfrm flipH="1">
                <a:off x="4160880" y="523548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5" name=""/>
              <p:cNvCxnSpPr>
                <a:stCxn id="944" idx="1"/>
                <a:endCxn id="945" idx="1"/>
              </p:cNvCxnSpPr>
              <p:nvPr/>
            </p:nvCxnSpPr>
            <p:spPr>
              <a:xfrm>
                <a:off x="6054480" y="3941280"/>
                <a:ext cx="5641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56" name=""/>
              <p:cNvCxnSpPr>
                <a:endCxn id="944" idx="3"/>
              </p:cNvCxnSpPr>
              <p:nvPr/>
            </p:nvCxnSpPr>
            <p:spPr>
              <a:xfrm flipH="1" flipV="1" rot="5400000">
                <a:off x="4435200" y="3960000"/>
                <a:ext cx="762840" cy="72468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957" name=""/>
              <p:cNvSpPr/>
              <p:nvPr/>
            </p:nvSpPr>
            <p:spPr>
              <a:xfrm flipH="1">
                <a:off x="2374920" y="373392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8" name=""/>
              <p:cNvCxnSpPr>
                <a:stCxn id="919" idx="0"/>
                <a:endCxn id="957" idx="3"/>
              </p:cNvCxnSpPr>
              <p:nvPr/>
            </p:nvCxnSpPr>
            <p:spPr>
              <a:xfrm flipH="1" flipV="1" rot="5400000">
                <a:off x="1541880" y="3827880"/>
                <a:ext cx="720000" cy="94680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59" name=""/>
              <p:cNvCxnSpPr>
                <a:stCxn id="957" idx="1"/>
              </p:cNvCxnSpPr>
              <p:nvPr/>
            </p:nvCxnSpPr>
            <p:spPr>
              <a:xfrm>
                <a:off x="3250800" y="3941280"/>
                <a:ext cx="762840" cy="762840"/>
              </a:xfrm>
              <a:prstGeom prst="bentConnector2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916" name=""/>
              <p:cNvSpPr/>
              <p:nvPr/>
            </p:nvSpPr>
            <p:spPr>
              <a:xfrm flipH="1">
                <a:off x="3803760" y="4660920"/>
                <a:ext cx="80784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1351800" y="44067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3936240" y="44067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1438200" y="439884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3825720" y="441324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4" name=""/>
          <p:cNvSpPr/>
          <p:nvPr/>
        </p:nvSpPr>
        <p:spPr>
          <a:xfrm>
            <a:off x="456120" y="60948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456120" y="3873600"/>
            <a:ext cx="851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 algn="just">
              <a:spcBef>
                <a:spcPts val="349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der the ER schema for the Database Repository application shown below. Translate this ER schema into a relational schema. Provide appropriate referential integrity constraints for each relation.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tate and justify any assumptions you mak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684680" y="1362240"/>
            <a:ext cx="440820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ation(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Times New Roman"/>
              </a:rPr>
              <a:t>lib#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title, publication, volume, pages, year, date-ente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(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Times New Roman"/>
              </a:rPr>
              <a:t>last-name, initial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-category(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Times New Roman"/>
              </a:rPr>
              <a:t>categor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word(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Times New Roman"/>
              </a:rPr>
              <a:t>keywor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(date, usefulness, practicality, commen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r(</a:t>
            </a:r>
            <a:r>
              <a:rPr b="0" lang="en-US" sz="1200" spc="-1" strike="noStrike" u="sng">
                <a:solidFill>
                  <a:srgbClr val="fc0128"/>
                </a:solidFill>
                <a:uFillTx/>
                <a:latin typeface="Times New Roman"/>
              </a:rPr>
              <a:t>last-name, initia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rowed-by(date-borrowed, date-return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1486080" y="1360440"/>
            <a:ext cx="3060360" cy="3694320"/>
            <a:chOff x="1486080" y="1360440"/>
            <a:chExt cx="3060360" cy="3694320"/>
          </a:xfrm>
        </p:grpSpPr>
        <p:sp>
          <p:nvSpPr>
            <p:cNvPr id="969" name=""/>
            <p:cNvSpPr/>
            <p:nvPr/>
          </p:nvSpPr>
          <p:spPr>
            <a:xfrm>
              <a:off x="2689200" y="2257560"/>
              <a:ext cx="814320" cy="353880"/>
            </a:xfrm>
            <a:prstGeom prst="diamond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orrowed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689200" y="1392120"/>
              <a:ext cx="817560" cy="3700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687760" y="3106800"/>
              <a:ext cx="81756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ubl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2" name=""/>
            <p:cNvCxnSpPr>
              <a:stCxn id="969" idx="0"/>
              <a:endCxn id="970" idx="2"/>
            </p:cNvCxnSpPr>
            <p:nvPr/>
          </p:nvCxnSpPr>
          <p:spPr>
            <a:xfrm flipV="1">
              <a:off x="3096720" y="1761840"/>
              <a:ext cx="2520" cy="496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973" name=""/>
            <p:cNvCxnSpPr>
              <a:stCxn id="971" idx="0"/>
              <a:endCxn id="969" idx="2"/>
            </p:cNvCxnSpPr>
            <p:nvPr/>
          </p:nvCxnSpPr>
          <p:spPr>
            <a:xfrm flipV="1">
              <a:off x="3096720" y="2611080"/>
              <a:ext cx="1080" cy="496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974" name=""/>
            <p:cNvSpPr/>
            <p:nvPr/>
          </p:nvSpPr>
          <p:spPr>
            <a:xfrm>
              <a:off x="3081240" y="290196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3081600" y="17683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487520" y="3112920"/>
              <a:ext cx="814320" cy="355680"/>
            </a:xfrm>
            <a:prstGeom prst="diamond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as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867320" y="26161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1867320" y="204480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481120" y="30862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1487520" y="1400040"/>
              <a:ext cx="814320" cy="354240"/>
            </a:xfrm>
            <a:prstGeom prst="diamond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vid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486080" y="2249640"/>
              <a:ext cx="817560" cy="36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74640" y="13604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83" name=""/>
            <p:cNvCxnSpPr>
              <a:stCxn id="976" idx="3"/>
              <a:endCxn id="971" idx="1"/>
            </p:cNvCxnSpPr>
            <p:nvPr/>
          </p:nvCxnSpPr>
          <p:spPr>
            <a:xfrm>
              <a:off x="2320560" y="3290400"/>
              <a:ext cx="36756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984" name=""/>
            <p:cNvCxnSpPr>
              <a:stCxn id="976" idx="0"/>
              <a:endCxn id="981" idx="2"/>
            </p:cNvCxnSpPr>
            <p:nvPr/>
          </p:nvCxnSpPr>
          <p:spPr>
            <a:xfrm flipV="1">
              <a:off x="1895040" y="2638080"/>
              <a:ext cx="1080" cy="456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985" name=""/>
            <p:cNvCxnSpPr>
              <a:stCxn id="981" idx="0"/>
              <a:endCxn id="980" idx="2"/>
            </p:cNvCxnSpPr>
            <p:nvPr/>
          </p:nvCxnSpPr>
          <p:spPr>
            <a:xfrm flipV="1">
              <a:off x="1895040" y="1773000"/>
              <a:ext cx="1080" cy="4579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986" name=""/>
            <p:cNvCxnSpPr>
              <a:stCxn id="980" idx="3"/>
              <a:endCxn id="970" idx="1"/>
            </p:cNvCxnSpPr>
            <p:nvPr/>
          </p:nvCxnSpPr>
          <p:spPr>
            <a:xfrm>
              <a:off x="2320560" y="1577520"/>
              <a:ext cx="36900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987" name=""/>
            <p:cNvSpPr/>
            <p:nvPr/>
          </p:nvSpPr>
          <p:spPr>
            <a:xfrm>
              <a:off x="1643040" y="3932280"/>
              <a:ext cx="814320" cy="353880"/>
            </a:xfrm>
            <a:prstGeom prst="diamond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ri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785960" y="448164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730680" y="3932280"/>
              <a:ext cx="814320" cy="353880"/>
            </a:xfrm>
            <a:prstGeom prst="diamond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as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ey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1641600" y="4684680"/>
              <a:ext cx="817560" cy="3700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h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685960" y="3932280"/>
              <a:ext cx="814320" cy="353880"/>
            </a:xfrm>
            <a:prstGeom prst="diamond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6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as-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teg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684520" y="4683240"/>
              <a:ext cx="817560" cy="3697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R-categ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728880" y="4683240"/>
              <a:ext cx="817560" cy="3697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eywo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4" name=""/>
            <p:cNvCxnSpPr>
              <a:stCxn id="990" idx="0"/>
              <a:endCxn id="987" idx="2"/>
            </p:cNvCxnSpPr>
            <p:nvPr/>
          </p:nvCxnSpPr>
          <p:spPr>
            <a:xfrm flipV="1">
              <a:off x="2050560" y="4285440"/>
              <a:ext cx="1080" cy="399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995" name=""/>
            <p:cNvCxnSpPr>
              <a:stCxn id="992" idx="0"/>
              <a:endCxn id="991" idx="2"/>
            </p:cNvCxnSpPr>
            <p:nvPr/>
          </p:nvCxnSpPr>
          <p:spPr>
            <a:xfrm flipV="1">
              <a:off x="3093840" y="4285440"/>
              <a:ext cx="1080" cy="3978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996" name=""/>
            <p:cNvCxnSpPr>
              <a:stCxn id="993" idx="0"/>
              <a:endCxn id="989" idx="2"/>
            </p:cNvCxnSpPr>
            <p:nvPr/>
          </p:nvCxnSpPr>
          <p:spPr>
            <a:xfrm flipV="1">
              <a:off x="4138200" y="4285440"/>
              <a:ext cx="1080" cy="3978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997" name=""/>
            <p:cNvSpPr/>
            <p:nvPr/>
          </p:nvSpPr>
          <p:spPr>
            <a:xfrm>
              <a:off x="3062520" y="448164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111560" y="448164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99" name=""/>
            <p:cNvCxnSpPr>
              <a:stCxn id="971" idx="2"/>
              <a:endCxn id="991" idx="0"/>
            </p:cNvCxnSpPr>
            <p:nvPr/>
          </p:nvCxnSpPr>
          <p:spPr>
            <a:xfrm flipH="1">
              <a:off x="3093840" y="3475080"/>
              <a:ext cx="3600" cy="4579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000" name=""/>
            <p:cNvSpPr/>
            <p:nvPr/>
          </p:nvSpPr>
          <p:spPr>
            <a:xfrm>
              <a:off x="2048040" y="3475080"/>
              <a:ext cx="801360" cy="468360"/>
            </a:xfrm>
            <a:custGeom>
              <a:avLst/>
              <a:gdLst/>
              <a:ahLst/>
              <a:rect l="l" t="t" r="r" b="b"/>
              <a:pathLst>
                <a:path w="768" h="310">
                  <a:moveTo>
                    <a:pt x="768" y="0"/>
                  </a:moveTo>
                  <a:lnTo>
                    <a:pt x="768" y="150"/>
                  </a:lnTo>
                  <a:lnTo>
                    <a:pt x="0" y="150"/>
                  </a:lnTo>
                  <a:lnTo>
                    <a:pt x="0" y="31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>
              <a:off x="3339360" y="3475080"/>
              <a:ext cx="801720" cy="468360"/>
            </a:xfrm>
            <a:custGeom>
              <a:avLst/>
              <a:gdLst/>
              <a:ahLst/>
              <a:rect l="l" t="t" r="r" b="b"/>
              <a:pathLst>
                <a:path w="768" h="310">
                  <a:moveTo>
                    <a:pt x="768" y="0"/>
                  </a:moveTo>
                  <a:lnTo>
                    <a:pt x="768" y="150"/>
                  </a:lnTo>
                  <a:lnTo>
                    <a:pt x="0" y="150"/>
                  </a:lnTo>
                  <a:lnTo>
                    <a:pt x="0" y="31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97400" y="34732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3081600" y="34732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3319920" y="34732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3050280" y="1962000"/>
              <a:ext cx="93960" cy="93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495520" y="150192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1847880" y="1954080"/>
              <a:ext cx="93600" cy="93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1847880" y="2819520"/>
              <a:ext cx="93600" cy="93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3049560" y="2811600"/>
              <a:ext cx="93600" cy="93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 flipH="1">
              <a:off x="3036960" y="3656160"/>
              <a:ext cx="93600" cy="93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>
              <a:off x="3046320" y="4437000"/>
              <a:ext cx="93600" cy="93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 flipH="1">
              <a:off x="4091040" y="4437000"/>
              <a:ext cx="93600" cy="93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94080" y="321624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620800" y="362412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3548160" y="362412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 flipH="1">
              <a:off x="1974600" y="4484520"/>
              <a:ext cx="150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Strong Ent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ast-name, initi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ation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ib#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title, publication, volume, pages, year, date-ente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hor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ast-name, initial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-category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catego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word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keywor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1:N Weak Relations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ides between User and Review; Has-review between Publication and Revie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 arrive at the correct key for Review and the correct constraints, we need to transform these two relationship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gether as the key of Review will be the combination of the keys of User and Publication, since every user can onl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vide one review for a given publication. Hence the combination of (lib#, last-name, initial) will be uniqu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ib#, last-name, initi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date, usefulness, practicality, com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User) and exists(Publ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Revie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Revie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N:M Relationshi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rrowed-by between User and Pub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rrowed-by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ib#, last-name, initi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date-borrowed, date-return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rrowed-b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User) and exists(Publ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Borrowed-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Borrowed-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s between Author and Pub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s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ib#, last-name, initial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Author) and exists(Publ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Wri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Wri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Author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delete(Publication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hor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Wri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Wri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category between CRcategory and Pub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category 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ib#, catego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catego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CRcategory) and exists(Publ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catego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Has-categor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Has-categor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spcAft>
                <a:spcPts val="601"/>
              </a:spcAft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keyword between Keyword and Publ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keyword 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ib#, keywor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keywor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Keyword ) and exists(Publ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Has-keywo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keywor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Keyword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wor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Has-keywor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571680"/>
                <a:tab algn="l" pos="795240"/>
                <a:tab algn="l" pos="1608120"/>
                <a:tab algn="l" pos="2692440"/>
                <a:tab algn="l" pos="2971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Has-keywor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0">
              <a:spcAft>
                <a:spcPts val="601"/>
              </a:spcAft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inal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r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ast-name, initi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Review) and delete(Borrowed-b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blication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ib#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title, publication, volume, pages, year, date-enter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Wri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Review) and delete(Borrowed-by) and delete(Writes) and delete(Has-category)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Has-keywor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hor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ast-name, initial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Wri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Writ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-category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catego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Has-category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word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keywor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Has-keywo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Has-keyword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ib#, last-name, initi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date, usefulness, practicality, commen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User) and exists(Publ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rrowed-by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ib#, last-name, initia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date-borrowed, date-return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User) and exists(Publ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s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ib#, last-name, initial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Author) and exists(Publication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Author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delete(Publication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category 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ib#, categor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CRcategory) and exists(Publ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s-keyword 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lib#, keyword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xists(Keyword ) and exists(Public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buNone/>
              <a:tabLst>
                <a:tab algn="l" pos="0"/>
                <a:tab algn="l" pos="571680"/>
                <a:tab algn="l" pos="795240"/>
                <a:tab algn="l" pos="1371600"/>
                <a:tab algn="l" pos="2455920"/>
                <a:tab algn="l" pos="4978440"/>
                <a:tab algn="l" pos="5148360"/>
                <a:tab algn="l" pos="59436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ete(Keyword)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1800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the Shop-by-phone Office Supplies schema shown in Figure 3 on th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pplementary Sheet for the Final Ex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translate each of the following database operations into navigation schema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 the name of all items stocked in Singapore whose quantity-on-hand is less than 2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380880" y="307332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 an order containing a list of items for the customer with customer-id 876236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2" name=""/>
          <p:cNvGrpSpPr/>
          <p:nvPr/>
        </p:nvGrpSpPr>
        <p:grpSpPr>
          <a:xfrm>
            <a:off x="825480" y="1339920"/>
            <a:ext cx="8623440" cy="869760"/>
            <a:chOff x="825480" y="1339920"/>
            <a:chExt cx="8623440" cy="869760"/>
          </a:xfrm>
        </p:grpSpPr>
        <p:cxnSp>
          <p:nvCxnSpPr>
            <p:cNvPr id="1023" name=""/>
            <p:cNvCxnSpPr>
              <a:stCxn id="1024" idx="3"/>
              <a:endCxn id="1025" idx="1"/>
            </p:cNvCxnSpPr>
            <p:nvPr/>
          </p:nvCxnSpPr>
          <p:spPr>
            <a:xfrm>
              <a:off x="2112480" y="1993680"/>
              <a:ext cx="92484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026" name=""/>
            <p:cNvCxnSpPr>
              <a:stCxn id="1025" idx="3"/>
              <a:endCxn id="1027" idx="1"/>
            </p:cNvCxnSpPr>
            <p:nvPr/>
          </p:nvCxnSpPr>
          <p:spPr>
            <a:xfrm>
              <a:off x="4026960" y="1993680"/>
              <a:ext cx="9262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028" name=""/>
            <p:cNvSpPr/>
            <p:nvPr/>
          </p:nvSpPr>
          <p:spPr>
            <a:xfrm>
              <a:off x="1252440" y="1339920"/>
              <a:ext cx="541440" cy="209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29" name=""/>
            <p:cNvCxnSpPr>
              <a:stCxn id="1028" idx="4"/>
              <a:endCxn id="1024" idx="0"/>
            </p:cNvCxnSpPr>
            <p:nvPr/>
          </p:nvCxnSpPr>
          <p:spPr>
            <a:xfrm flipH="1" rot="16200000">
              <a:off x="1483200" y="1588680"/>
              <a:ext cx="261000" cy="1818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030" name=""/>
            <p:cNvSpPr/>
            <p:nvPr/>
          </p:nvSpPr>
          <p:spPr>
            <a:xfrm>
              <a:off x="7086600" y="1339920"/>
              <a:ext cx="1219320" cy="22860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uantity-on-h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31" name=""/>
            <p:cNvCxnSpPr>
              <a:stCxn id="1032" idx="0"/>
              <a:endCxn id="1030" idx="4"/>
            </p:cNvCxnSpPr>
            <p:nvPr/>
          </p:nvCxnSpPr>
          <p:spPr>
            <a:xfrm flipH="1" flipV="1" rot="5400000">
              <a:off x="7337880" y="1419840"/>
              <a:ext cx="210240" cy="506880"/>
            </a:xfrm>
            <a:prstGeom prst="curvedConnector5">
              <a:avLst>
                <a:gd name="adj1" fmla="val 49914"/>
                <a:gd name="adj2" fmla="val 49964"/>
                <a:gd name="adj3" fmla="val 49914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033" name=""/>
            <p:cNvSpPr/>
            <p:nvPr/>
          </p:nvSpPr>
          <p:spPr>
            <a:xfrm>
              <a:off x="2390760" y="187308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305240" y="187308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5" name=""/>
            <p:cNvGrpSpPr/>
            <p:nvPr/>
          </p:nvGrpSpPr>
          <p:grpSpPr>
            <a:xfrm>
              <a:off x="3036960" y="1778040"/>
              <a:ext cx="990360" cy="431640"/>
              <a:chOff x="3036960" y="1778040"/>
              <a:chExt cx="990360" cy="431640"/>
            </a:xfrm>
          </p:grpSpPr>
          <p:sp>
            <p:nvSpPr>
              <p:cNvPr id="1025" name=""/>
              <p:cNvSpPr/>
              <p:nvPr/>
            </p:nvSpPr>
            <p:spPr>
              <a:xfrm>
                <a:off x="3036960" y="1778040"/>
                <a:ext cx="990360" cy="4316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cated-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V="1">
                <a:off x="3341520" y="2043000"/>
                <a:ext cx="380520" cy="166320"/>
              </a:xfrm>
              <a:prstGeom prst="diamond">
                <a:avLst/>
              </a:prstGeom>
              <a:noFill/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800" rIns="90000" tIns="-7920" bIns="83520" anchor="ctr" rot="10800000">
                <a:noAutofit/>
              </a:bodyPr>
              <a:p>
                <a:pPr algn="ctr">
                  <a:lnSpc>
                    <a:spcPct val="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7" name=""/>
            <p:cNvGrpSpPr/>
            <p:nvPr/>
          </p:nvGrpSpPr>
          <p:grpSpPr>
            <a:xfrm>
              <a:off x="1295280" y="1809720"/>
              <a:ext cx="817560" cy="368280"/>
              <a:chOff x="1295280" y="1809720"/>
              <a:chExt cx="817560" cy="368280"/>
            </a:xfrm>
          </p:grpSpPr>
          <p:sp>
            <p:nvSpPr>
              <p:cNvPr id="1024" name=""/>
              <p:cNvSpPr/>
              <p:nvPr/>
            </p:nvSpPr>
            <p:spPr>
              <a:xfrm>
                <a:off x="1295280" y="1809720"/>
                <a:ext cx="81756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unt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1960560" y="20257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9" name=""/>
            <p:cNvGrpSpPr/>
            <p:nvPr/>
          </p:nvGrpSpPr>
          <p:grpSpPr>
            <a:xfrm>
              <a:off x="4952880" y="1808280"/>
              <a:ext cx="817560" cy="369720"/>
              <a:chOff x="4952880" y="1808280"/>
              <a:chExt cx="817560" cy="369720"/>
            </a:xfrm>
          </p:grpSpPr>
          <p:sp>
            <p:nvSpPr>
              <p:cNvPr id="1027" name=""/>
              <p:cNvSpPr/>
              <p:nvPr/>
            </p:nvSpPr>
            <p:spPr>
              <a:xfrm>
                <a:off x="4952880" y="1808280"/>
                <a:ext cx="817560" cy="3697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arehous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18160" y="2025720"/>
                <a:ext cx="152280" cy="1519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1" name=""/>
            <p:cNvSpPr/>
            <p:nvPr/>
          </p:nvSpPr>
          <p:spPr>
            <a:xfrm>
              <a:off x="825480" y="144792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"/>
            <p:cNvGrpSpPr/>
            <p:nvPr/>
          </p:nvGrpSpPr>
          <p:grpSpPr>
            <a:xfrm>
              <a:off x="6694560" y="1778040"/>
              <a:ext cx="990360" cy="431640"/>
              <a:chOff x="6694560" y="1778040"/>
              <a:chExt cx="990360" cy="431640"/>
            </a:xfrm>
          </p:grpSpPr>
          <p:sp>
            <p:nvSpPr>
              <p:cNvPr id="1032" name=""/>
              <p:cNvSpPr/>
              <p:nvPr/>
            </p:nvSpPr>
            <p:spPr>
              <a:xfrm>
                <a:off x="6694560" y="1778040"/>
                <a:ext cx="990360" cy="4316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ocked-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V="1">
                <a:off x="6999120" y="2043000"/>
                <a:ext cx="380520" cy="166320"/>
              </a:xfrm>
              <a:prstGeom prst="diamond">
                <a:avLst/>
              </a:prstGeom>
              <a:noFill/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800" rIns="90000" tIns="-7920" bIns="83520" anchor="ctr" rot="10800000">
                <a:noAutofit/>
              </a:bodyPr>
              <a:p>
                <a:pPr algn="ctr">
                  <a:lnSpc>
                    <a:spcPct val="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44" name=""/>
            <p:cNvCxnSpPr>
              <a:stCxn id="1027" idx="3"/>
              <a:endCxn id="1032" idx="1"/>
            </p:cNvCxnSpPr>
            <p:nvPr/>
          </p:nvCxnSpPr>
          <p:spPr>
            <a:xfrm>
              <a:off x="5770080" y="1993680"/>
              <a:ext cx="9248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grpSp>
          <p:nvGrpSpPr>
            <p:cNvPr id="1045" name=""/>
            <p:cNvGrpSpPr/>
            <p:nvPr/>
          </p:nvGrpSpPr>
          <p:grpSpPr>
            <a:xfrm>
              <a:off x="8610480" y="1809720"/>
              <a:ext cx="817560" cy="368280"/>
              <a:chOff x="8610480" y="1809720"/>
              <a:chExt cx="817560" cy="368280"/>
            </a:xfrm>
          </p:grpSpPr>
          <p:sp>
            <p:nvSpPr>
              <p:cNvPr id="1046" name=""/>
              <p:cNvSpPr/>
              <p:nvPr/>
            </p:nvSpPr>
            <p:spPr>
              <a:xfrm>
                <a:off x="8610480" y="1809720"/>
                <a:ext cx="81756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t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9275760" y="20257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48" name=""/>
            <p:cNvCxnSpPr>
              <a:stCxn id="1032" idx="3"/>
              <a:endCxn id="1046" idx="1"/>
            </p:cNvCxnSpPr>
            <p:nvPr/>
          </p:nvCxnSpPr>
          <p:spPr>
            <a:xfrm>
              <a:off x="7684560" y="1993680"/>
              <a:ext cx="9262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49" name=""/>
            <p:cNvSpPr/>
            <p:nvPr/>
          </p:nvSpPr>
          <p:spPr>
            <a:xfrm>
              <a:off x="8907480" y="1339920"/>
              <a:ext cx="541440" cy="209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654960" y="144792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51" name=""/>
            <p:cNvCxnSpPr>
              <a:stCxn id="1046" idx="0"/>
              <a:endCxn id="1049" idx="4"/>
            </p:cNvCxnSpPr>
            <p:nvPr/>
          </p:nvCxnSpPr>
          <p:spPr>
            <a:xfrm flipH="1" flipV="1" rot="5400000">
              <a:off x="8969040" y="1599480"/>
              <a:ext cx="261000" cy="1594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52" name=""/>
            <p:cNvSpPr/>
            <p:nvPr/>
          </p:nvSpPr>
          <p:spPr>
            <a:xfrm>
              <a:off x="6048360" y="187308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7962840" y="187308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4" name=""/>
          <p:cNvGrpSpPr/>
          <p:nvPr/>
        </p:nvGrpSpPr>
        <p:grpSpPr>
          <a:xfrm>
            <a:off x="825480" y="3733920"/>
            <a:ext cx="8712000" cy="2666880"/>
            <a:chOff x="825480" y="3733920"/>
            <a:chExt cx="8712000" cy="2666880"/>
          </a:xfrm>
        </p:grpSpPr>
        <p:cxnSp>
          <p:nvCxnSpPr>
            <p:cNvPr id="1055" name=""/>
            <p:cNvCxnSpPr>
              <a:stCxn id="1056" idx="3"/>
              <a:endCxn id="1057" idx="1"/>
            </p:cNvCxnSpPr>
            <p:nvPr/>
          </p:nvCxnSpPr>
          <p:spPr>
            <a:xfrm>
              <a:off x="2112480" y="4387320"/>
              <a:ext cx="92484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058" name=""/>
            <p:cNvCxnSpPr>
              <a:stCxn id="1057" idx="3"/>
              <a:endCxn id="1059" idx="1"/>
            </p:cNvCxnSpPr>
            <p:nvPr/>
          </p:nvCxnSpPr>
          <p:spPr>
            <a:xfrm flipV="1">
              <a:off x="4026960" y="4382280"/>
              <a:ext cx="926280" cy="5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060" name=""/>
            <p:cNvSpPr/>
            <p:nvPr/>
          </p:nvSpPr>
          <p:spPr>
            <a:xfrm>
              <a:off x="1252440" y="3733920"/>
              <a:ext cx="881280" cy="209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stomer-i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61" name=""/>
            <p:cNvCxnSpPr>
              <a:stCxn id="1060" idx="4"/>
              <a:endCxn id="1056" idx="0"/>
            </p:cNvCxnSpPr>
            <p:nvPr/>
          </p:nvCxnSpPr>
          <p:spPr>
            <a:xfrm flipH="1" rot="16200000">
              <a:off x="1568160" y="4067640"/>
              <a:ext cx="261000" cy="1188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062" name=""/>
            <p:cNvSpPr/>
            <p:nvPr/>
          </p:nvSpPr>
          <p:spPr>
            <a:xfrm>
              <a:off x="2390760" y="426708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4305240" y="426708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3036960" y="4172040"/>
              <a:ext cx="990360" cy="431640"/>
              <a:chOff x="3036960" y="4172040"/>
              <a:chExt cx="990360" cy="431640"/>
            </a:xfrm>
          </p:grpSpPr>
          <p:sp>
            <p:nvSpPr>
              <p:cNvPr id="1057" name=""/>
              <p:cNvSpPr/>
              <p:nvPr/>
            </p:nvSpPr>
            <p:spPr>
              <a:xfrm>
                <a:off x="3036960" y="4172040"/>
                <a:ext cx="990360" cy="4316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lac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3341520" y="4436280"/>
                <a:ext cx="381240" cy="166680"/>
              </a:xfrm>
              <a:prstGeom prst="diamond">
                <a:avLst/>
              </a:prstGeom>
              <a:noFill/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800" rIns="90000" tIns="-7560" bIns="838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6" name=""/>
            <p:cNvGrpSpPr/>
            <p:nvPr/>
          </p:nvGrpSpPr>
          <p:grpSpPr>
            <a:xfrm>
              <a:off x="1295280" y="4203720"/>
              <a:ext cx="817560" cy="368280"/>
              <a:chOff x="1295280" y="4203720"/>
              <a:chExt cx="817560" cy="368280"/>
            </a:xfrm>
          </p:grpSpPr>
          <p:sp>
            <p:nvSpPr>
              <p:cNvPr id="1056" name=""/>
              <p:cNvSpPr/>
              <p:nvPr/>
            </p:nvSpPr>
            <p:spPr>
              <a:xfrm>
                <a:off x="1295280" y="4203720"/>
                <a:ext cx="81756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1960560" y="44197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8" name=""/>
            <p:cNvGrpSpPr/>
            <p:nvPr/>
          </p:nvGrpSpPr>
          <p:grpSpPr>
            <a:xfrm>
              <a:off x="4952880" y="4197240"/>
              <a:ext cx="817560" cy="370080"/>
              <a:chOff x="4952880" y="4197240"/>
              <a:chExt cx="817560" cy="370080"/>
            </a:xfrm>
          </p:grpSpPr>
          <p:sp>
            <p:nvSpPr>
              <p:cNvPr id="1059" name=""/>
              <p:cNvSpPr/>
              <p:nvPr/>
            </p:nvSpPr>
            <p:spPr>
              <a:xfrm>
                <a:off x="4952880" y="4197240"/>
                <a:ext cx="817560" cy="370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618160" y="441504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0" name=""/>
            <p:cNvSpPr/>
            <p:nvPr/>
          </p:nvSpPr>
          <p:spPr>
            <a:xfrm>
              <a:off x="825480" y="384192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1" name=""/>
            <p:cNvGrpSpPr/>
            <p:nvPr/>
          </p:nvGrpSpPr>
          <p:grpSpPr>
            <a:xfrm>
              <a:off x="8547120" y="5086440"/>
              <a:ext cx="990360" cy="431640"/>
              <a:chOff x="8547120" y="5086440"/>
              <a:chExt cx="990360" cy="431640"/>
            </a:xfrm>
          </p:grpSpPr>
          <p:sp>
            <p:nvSpPr>
              <p:cNvPr id="1072" name=""/>
              <p:cNvSpPr/>
              <p:nvPr/>
            </p:nvSpPr>
            <p:spPr>
              <a:xfrm>
                <a:off x="8547120" y="5086440"/>
                <a:ext cx="990360" cy="431640"/>
              </a:xfrm>
              <a:prstGeom prst="diamond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s-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8851680" y="5350680"/>
                <a:ext cx="381240" cy="166680"/>
              </a:xfrm>
              <a:prstGeom prst="diamond">
                <a:avLst/>
              </a:prstGeom>
              <a:noFill/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800" rIns="90000" tIns="-7560" bIns="838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4" name=""/>
            <p:cNvGrpSpPr/>
            <p:nvPr/>
          </p:nvGrpSpPr>
          <p:grpSpPr>
            <a:xfrm>
              <a:off x="8634240" y="6032520"/>
              <a:ext cx="817560" cy="368280"/>
              <a:chOff x="8634240" y="6032520"/>
              <a:chExt cx="817560" cy="368280"/>
            </a:xfrm>
          </p:grpSpPr>
          <p:sp>
            <p:nvSpPr>
              <p:cNvPr id="1075" name=""/>
              <p:cNvSpPr/>
              <p:nvPr/>
            </p:nvSpPr>
            <p:spPr>
              <a:xfrm>
                <a:off x="8634240" y="6032520"/>
                <a:ext cx="81756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t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9299520" y="624852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7848720" y="5956200"/>
              <a:ext cx="541080" cy="209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em#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7416720" y="605160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79" name=""/>
            <p:cNvCxnSpPr>
              <a:stCxn id="1075" idx="1"/>
              <a:endCxn id="1077" idx="6"/>
            </p:cNvCxnSpPr>
            <p:nvPr/>
          </p:nvCxnSpPr>
          <p:spPr>
            <a:xfrm rot="10800000">
              <a:off x="8389080" y="6060960"/>
              <a:ext cx="244800" cy="155880"/>
            </a:xfrm>
            <a:prstGeom prst="curvedConnector5">
              <a:avLst>
                <a:gd name="adj1" fmla="val 49926"/>
                <a:gd name="adj2" fmla="val 50000"/>
                <a:gd name="adj3" fmla="val 49926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80" name=""/>
            <p:cNvSpPr/>
            <p:nvPr/>
          </p:nvSpPr>
          <p:spPr>
            <a:xfrm>
              <a:off x="6048360" y="426708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7962840" y="426708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"/>
            <p:cNvGrpSpPr/>
            <p:nvPr/>
          </p:nvGrpSpPr>
          <p:grpSpPr>
            <a:xfrm>
              <a:off x="8634240" y="4197240"/>
              <a:ext cx="817560" cy="369720"/>
              <a:chOff x="8634240" y="4197240"/>
              <a:chExt cx="817560" cy="369720"/>
            </a:xfrm>
          </p:grpSpPr>
          <p:sp>
            <p:nvSpPr>
              <p:cNvPr id="1083" name=""/>
              <p:cNvSpPr/>
              <p:nvPr/>
            </p:nvSpPr>
            <p:spPr>
              <a:xfrm>
                <a:off x="8634240" y="4197240"/>
                <a:ext cx="817560" cy="369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rder-it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9299160" y="4414680"/>
                <a:ext cx="152640" cy="152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085" name=""/>
            <p:cNvCxnSpPr>
              <a:stCxn id="1072" idx="2"/>
              <a:endCxn id="1075" idx="0"/>
            </p:cNvCxnSpPr>
            <p:nvPr/>
          </p:nvCxnSpPr>
          <p:spPr>
            <a:xfrm>
              <a:off x="9042480" y="5537160"/>
              <a:ext cx="2160" cy="496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6" name=""/>
            <p:cNvCxnSpPr>
              <a:stCxn id="1072" idx="0"/>
              <a:endCxn id="1083" idx="2"/>
            </p:cNvCxnSpPr>
            <p:nvPr/>
          </p:nvCxnSpPr>
          <p:spPr>
            <a:xfrm flipV="1">
              <a:off x="9042480" y="4586040"/>
              <a:ext cx="2160" cy="481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7" name=""/>
            <p:cNvCxnSpPr>
              <a:stCxn id="1059" idx="3"/>
              <a:endCxn id="1088" idx="2"/>
            </p:cNvCxnSpPr>
            <p:nvPr/>
          </p:nvCxnSpPr>
          <p:spPr>
            <a:xfrm flipV="1">
              <a:off x="5770080" y="4381200"/>
              <a:ext cx="12805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089" name=""/>
            <p:cNvCxnSpPr>
              <a:stCxn id="1088" idx="6"/>
              <a:endCxn id="1083" idx="1"/>
            </p:cNvCxnSpPr>
            <p:nvPr/>
          </p:nvCxnSpPr>
          <p:spPr>
            <a:xfrm>
              <a:off x="7354800" y="4381560"/>
              <a:ext cx="12614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090" name=""/>
            <p:cNvSpPr/>
            <p:nvPr/>
          </p:nvSpPr>
          <p:spPr>
            <a:xfrm flipV="1">
              <a:off x="8915400" y="5590800"/>
              <a:ext cx="0" cy="3682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 flipV="1">
              <a:off x="8915400" y="4641480"/>
              <a:ext cx="0" cy="3682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7050240" y="4229280"/>
              <a:ext cx="304560" cy="304560"/>
              <a:chOff x="7050240" y="4229280"/>
              <a:chExt cx="304560" cy="304560"/>
            </a:xfrm>
          </p:grpSpPr>
          <p:sp>
            <p:nvSpPr>
              <p:cNvPr id="1088" name=""/>
              <p:cNvSpPr/>
              <p:nvPr/>
            </p:nvSpPr>
            <p:spPr>
              <a:xfrm>
                <a:off x="7050240" y="4229280"/>
                <a:ext cx="304560" cy="304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 flipV="1">
                <a:off x="7088040" y="4380840"/>
                <a:ext cx="228600" cy="152280"/>
              </a:xfrm>
              <a:prstGeom prst="diamond">
                <a:avLst/>
              </a:prstGeom>
              <a:noFill/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800" rIns="90000" tIns="-15120" bIns="763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I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6000"/>
          </a:bodyPr>
          <a:p>
            <a:pPr marL="29484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 the date, time and clerk-name of all orders where the quantity of the item ordered is more than the quantity-on-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and of the ite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1122480" y="990720"/>
            <a:ext cx="7208280" cy="3200400"/>
            <a:chOff x="1122480" y="990720"/>
            <a:chExt cx="7208280" cy="3200400"/>
          </a:xfrm>
        </p:grpSpPr>
        <p:sp>
          <p:nvSpPr>
            <p:cNvPr id="1096" name=""/>
            <p:cNvSpPr/>
            <p:nvPr/>
          </p:nvSpPr>
          <p:spPr>
            <a:xfrm flipV="1">
              <a:off x="4254480" y="1523520"/>
              <a:ext cx="0" cy="3682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7" name=""/>
            <p:cNvGrpSpPr/>
            <p:nvPr/>
          </p:nvGrpSpPr>
          <p:grpSpPr>
            <a:xfrm>
              <a:off x="3720960" y="1962000"/>
              <a:ext cx="817560" cy="370080"/>
              <a:chOff x="3720960" y="1962000"/>
              <a:chExt cx="817560" cy="370080"/>
            </a:xfrm>
          </p:grpSpPr>
          <p:sp>
            <p:nvSpPr>
              <p:cNvPr id="1098" name=""/>
              <p:cNvSpPr/>
              <p:nvPr/>
            </p:nvSpPr>
            <p:spPr>
              <a:xfrm>
                <a:off x="3720960" y="1962000"/>
                <a:ext cx="817560" cy="3700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r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4386240" y="217980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0" name=""/>
            <p:cNvGrpSpPr/>
            <p:nvPr/>
          </p:nvGrpSpPr>
          <p:grpSpPr>
            <a:xfrm>
              <a:off x="7315200" y="2851200"/>
              <a:ext cx="990360" cy="431640"/>
              <a:chOff x="7315200" y="2851200"/>
              <a:chExt cx="990360" cy="431640"/>
            </a:xfrm>
          </p:grpSpPr>
          <p:sp>
            <p:nvSpPr>
              <p:cNvPr id="1101" name=""/>
              <p:cNvSpPr/>
              <p:nvPr/>
            </p:nvSpPr>
            <p:spPr>
              <a:xfrm>
                <a:off x="7315200" y="2851200"/>
                <a:ext cx="990360" cy="431640"/>
              </a:xfrm>
              <a:prstGeom prst="diamond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s-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 flipV="1">
                <a:off x="7619760" y="3115440"/>
                <a:ext cx="381240" cy="166680"/>
              </a:xfrm>
              <a:prstGeom prst="diamond">
                <a:avLst/>
              </a:prstGeom>
              <a:noFill/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800" rIns="90000" tIns="-7560" bIns="838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7402680" y="3797280"/>
              <a:ext cx="817560" cy="368280"/>
              <a:chOff x="7402680" y="3797280"/>
              <a:chExt cx="817560" cy="368280"/>
            </a:xfrm>
          </p:grpSpPr>
          <p:sp>
            <p:nvSpPr>
              <p:cNvPr id="1104" name=""/>
              <p:cNvSpPr/>
              <p:nvPr/>
            </p:nvSpPr>
            <p:spPr>
              <a:xfrm>
                <a:off x="7402680" y="3797280"/>
                <a:ext cx="81756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t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8067960" y="401328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6" name=""/>
            <p:cNvSpPr/>
            <p:nvPr/>
          </p:nvSpPr>
          <p:spPr>
            <a:xfrm>
              <a:off x="4816440" y="203184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730920" y="203184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8" name=""/>
            <p:cNvGrpSpPr/>
            <p:nvPr/>
          </p:nvGrpSpPr>
          <p:grpSpPr>
            <a:xfrm>
              <a:off x="7402680" y="1962000"/>
              <a:ext cx="817560" cy="369720"/>
              <a:chOff x="7402680" y="1962000"/>
              <a:chExt cx="817560" cy="369720"/>
            </a:xfrm>
          </p:grpSpPr>
          <p:sp>
            <p:nvSpPr>
              <p:cNvPr id="1109" name=""/>
              <p:cNvSpPr/>
              <p:nvPr/>
            </p:nvSpPr>
            <p:spPr>
              <a:xfrm>
                <a:off x="7402680" y="1962000"/>
                <a:ext cx="817560" cy="36972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rder-it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8067600" y="2179440"/>
                <a:ext cx="152640" cy="152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11" name=""/>
            <p:cNvCxnSpPr>
              <a:stCxn id="1101" idx="2"/>
              <a:endCxn id="1104" idx="0"/>
            </p:cNvCxnSpPr>
            <p:nvPr/>
          </p:nvCxnSpPr>
          <p:spPr>
            <a:xfrm>
              <a:off x="7810560" y="3301920"/>
              <a:ext cx="2160" cy="496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12" name=""/>
            <p:cNvCxnSpPr>
              <a:stCxn id="1101" idx="0"/>
              <a:endCxn id="1109" idx="2"/>
            </p:cNvCxnSpPr>
            <p:nvPr/>
          </p:nvCxnSpPr>
          <p:spPr>
            <a:xfrm flipV="1">
              <a:off x="7810560" y="2350800"/>
              <a:ext cx="2160" cy="4816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13" name=""/>
            <p:cNvCxnSpPr>
              <a:stCxn id="1098" idx="3"/>
              <a:endCxn id="1114" idx="2"/>
            </p:cNvCxnSpPr>
            <p:nvPr/>
          </p:nvCxnSpPr>
          <p:spPr>
            <a:xfrm flipV="1">
              <a:off x="4538160" y="2145960"/>
              <a:ext cx="128052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15" name=""/>
            <p:cNvCxnSpPr>
              <a:stCxn id="1114" idx="6"/>
              <a:endCxn id="1109" idx="1"/>
            </p:cNvCxnSpPr>
            <p:nvPr/>
          </p:nvCxnSpPr>
          <p:spPr>
            <a:xfrm>
              <a:off x="6122880" y="2146320"/>
              <a:ext cx="1261440" cy="21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16" name=""/>
            <p:cNvSpPr/>
            <p:nvPr/>
          </p:nvSpPr>
          <p:spPr>
            <a:xfrm>
              <a:off x="7683480" y="3355200"/>
              <a:ext cx="0" cy="3682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7683480" y="2405880"/>
              <a:ext cx="0" cy="3682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8" name=""/>
            <p:cNvGrpSpPr/>
            <p:nvPr/>
          </p:nvGrpSpPr>
          <p:grpSpPr>
            <a:xfrm>
              <a:off x="5818320" y="1994040"/>
              <a:ext cx="304560" cy="304560"/>
              <a:chOff x="5818320" y="1994040"/>
              <a:chExt cx="304560" cy="304560"/>
            </a:xfrm>
          </p:grpSpPr>
          <p:sp>
            <p:nvSpPr>
              <p:cNvPr id="1114" name=""/>
              <p:cNvSpPr/>
              <p:nvPr/>
            </p:nvSpPr>
            <p:spPr>
              <a:xfrm>
                <a:off x="5818320" y="1994040"/>
                <a:ext cx="304560" cy="3045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V="1">
                <a:off x="5856120" y="2145600"/>
                <a:ext cx="228600" cy="152280"/>
              </a:xfrm>
              <a:prstGeom prst="diamond">
                <a:avLst/>
              </a:prstGeom>
              <a:noFill/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800" rIns="90000" tIns="-15120" bIns="7632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0" name=""/>
            <p:cNvSpPr/>
            <p:nvPr/>
          </p:nvSpPr>
          <p:spPr>
            <a:xfrm>
              <a:off x="5867280" y="3321000"/>
              <a:ext cx="1219320" cy="22860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uantity-on-h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1" name=""/>
            <p:cNvCxnSpPr>
              <a:stCxn id="1122" idx="0"/>
              <a:endCxn id="1120" idx="4"/>
            </p:cNvCxnSpPr>
            <p:nvPr/>
          </p:nvCxnSpPr>
          <p:spPr>
            <a:xfrm flipH="1" flipV="1" rot="5400000">
              <a:off x="6118200" y="3400920"/>
              <a:ext cx="210240" cy="506880"/>
            </a:xfrm>
            <a:prstGeom prst="curvedConnector5">
              <a:avLst>
                <a:gd name="adj1" fmla="val 49914"/>
                <a:gd name="adj2" fmla="val 49964"/>
                <a:gd name="adj3" fmla="val 49914"/>
              </a:avLst>
            </a:prstGeom>
            <a:ln w="6480">
              <a:solidFill>
                <a:srgbClr val="000000"/>
              </a:solidFill>
              <a:miter/>
            </a:ln>
          </p:spPr>
        </p:cxnSp>
        <p:grpSp>
          <p:nvGrpSpPr>
            <p:cNvPr id="1123" name=""/>
            <p:cNvGrpSpPr/>
            <p:nvPr/>
          </p:nvGrpSpPr>
          <p:grpSpPr>
            <a:xfrm>
              <a:off x="5475240" y="3759120"/>
              <a:ext cx="990720" cy="432000"/>
              <a:chOff x="5475240" y="3759120"/>
              <a:chExt cx="990720" cy="432000"/>
            </a:xfrm>
          </p:grpSpPr>
          <p:sp>
            <p:nvSpPr>
              <p:cNvPr id="1122" name=""/>
              <p:cNvSpPr/>
              <p:nvPr/>
            </p:nvSpPr>
            <p:spPr>
              <a:xfrm>
                <a:off x="5475240" y="3759120"/>
                <a:ext cx="990720" cy="43200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ocked-i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V="1">
                <a:off x="5780160" y="4023720"/>
                <a:ext cx="380880" cy="166680"/>
              </a:xfrm>
              <a:prstGeom prst="diamond">
                <a:avLst/>
              </a:prstGeom>
              <a:noFill/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800" rIns="90000" tIns="-7560" bIns="83880" anchor="ctr" rot="10800000">
                <a:noAutofit/>
              </a:bodyPr>
              <a:p>
                <a:pPr algn="ctr">
                  <a:lnSpc>
                    <a:spcPct val="2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25" name=""/>
            <p:cNvCxnSpPr>
              <a:stCxn id="1122" idx="3"/>
              <a:endCxn id="1104" idx="1"/>
            </p:cNvCxnSpPr>
            <p:nvPr/>
          </p:nvCxnSpPr>
          <p:spPr>
            <a:xfrm>
              <a:off x="6465960" y="3975120"/>
              <a:ext cx="937440" cy="72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26" name=""/>
            <p:cNvSpPr/>
            <p:nvPr/>
          </p:nvSpPr>
          <p:spPr>
            <a:xfrm>
              <a:off x="7302600" y="1542960"/>
              <a:ext cx="609480" cy="209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uant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743520" y="385452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8" name=""/>
            <p:cNvCxnSpPr>
              <a:stCxn id="1129" idx="3"/>
              <a:endCxn id="1130" idx="1"/>
            </p:cNvCxnSpPr>
            <p:nvPr/>
          </p:nvCxnSpPr>
          <p:spPr>
            <a:xfrm>
              <a:off x="2708280" y="1206000"/>
              <a:ext cx="9244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131" name=""/>
            <p:cNvSpPr/>
            <p:nvPr/>
          </p:nvSpPr>
          <p:spPr>
            <a:xfrm flipH="1">
              <a:off x="2985840" y="108576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2" name=""/>
            <p:cNvGrpSpPr/>
            <p:nvPr/>
          </p:nvGrpSpPr>
          <p:grpSpPr>
            <a:xfrm>
              <a:off x="3632040" y="990720"/>
              <a:ext cx="990360" cy="431640"/>
              <a:chOff x="3632040" y="990720"/>
              <a:chExt cx="990360" cy="431640"/>
            </a:xfrm>
          </p:grpSpPr>
          <p:sp>
            <p:nvSpPr>
              <p:cNvPr id="1130" name=""/>
              <p:cNvSpPr/>
              <p:nvPr/>
            </p:nvSpPr>
            <p:spPr>
              <a:xfrm>
                <a:off x="3632040" y="990720"/>
                <a:ext cx="990360" cy="4316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ak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V="1">
                <a:off x="3936600" y="1254960"/>
                <a:ext cx="381240" cy="166680"/>
              </a:xfrm>
              <a:prstGeom prst="diamond">
                <a:avLst/>
              </a:prstGeom>
              <a:noFill/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9800" rIns="90000" tIns="-7560" bIns="8388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4" name=""/>
            <p:cNvGrpSpPr/>
            <p:nvPr/>
          </p:nvGrpSpPr>
          <p:grpSpPr>
            <a:xfrm>
              <a:off x="1890720" y="1022400"/>
              <a:ext cx="817560" cy="368280"/>
              <a:chOff x="1890720" y="1022400"/>
              <a:chExt cx="817560" cy="368280"/>
            </a:xfrm>
          </p:grpSpPr>
          <p:sp>
            <p:nvSpPr>
              <p:cNvPr id="1129" name=""/>
              <p:cNvSpPr/>
              <p:nvPr/>
            </p:nvSpPr>
            <p:spPr>
              <a:xfrm>
                <a:off x="1890720" y="1022400"/>
                <a:ext cx="81756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ales-cler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2556000" y="1238400"/>
                <a:ext cx="152280" cy="15228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c0128"/>
                    </a:solidFill>
                    <a:latin typeface="Times New Roman"/>
                  </a:rPr>
                  <a:t>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1136" name=""/>
            <p:cNvCxnSpPr>
              <a:stCxn id="1130" idx="2"/>
              <a:endCxn id="1098" idx="0"/>
            </p:cNvCxnSpPr>
            <p:nvPr/>
          </p:nvCxnSpPr>
          <p:spPr>
            <a:xfrm>
              <a:off x="4127040" y="1422000"/>
              <a:ext cx="3960" cy="5403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37" name=""/>
            <p:cNvSpPr/>
            <p:nvPr/>
          </p:nvSpPr>
          <p:spPr>
            <a:xfrm>
              <a:off x="1122480" y="990720"/>
              <a:ext cx="541080" cy="209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959200" y="1905120"/>
              <a:ext cx="541080" cy="209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2959200" y="2209680"/>
              <a:ext cx="541080" cy="2095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40" name=""/>
            <p:cNvCxnSpPr>
              <a:stCxn id="1137" idx="6"/>
              <a:endCxn id="1129" idx="1"/>
            </p:cNvCxnSpPr>
            <p:nvPr/>
          </p:nvCxnSpPr>
          <p:spPr>
            <a:xfrm>
              <a:off x="1663200" y="1095480"/>
              <a:ext cx="227880" cy="111600"/>
            </a:xfrm>
            <a:prstGeom prst="curvedConnector5">
              <a:avLst>
                <a:gd name="adj1" fmla="val 49525"/>
                <a:gd name="adj2" fmla="val 49838"/>
                <a:gd name="adj3" fmla="val 4952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41" name=""/>
            <p:cNvCxnSpPr>
              <a:stCxn id="1138" idx="6"/>
              <a:endCxn id="1098" idx="1"/>
            </p:cNvCxnSpPr>
            <p:nvPr/>
          </p:nvCxnSpPr>
          <p:spPr>
            <a:xfrm>
              <a:off x="3499920" y="2009520"/>
              <a:ext cx="221400" cy="138600"/>
            </a:xfrm>
            <a:prstGeom prst="curvedConnector5">
              <a:avLst>
                <a:gd name="adj1" fmla="val 49511"/>
                <a:gd name="adj2" fmla="val 50000"/>
                <a:gd name="adj3" fmla="val 49511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42" name=""/>
            <p:cNvCxnSpPr>
              <a:stCxn id="1139" idx="6"/>
              <a:endCxn id="1098" idx="1"/>
            </p:cNvCxnSpPr>
            <p:nvPr/>
          </p:nvCxnSpPr>
          <p:spPr>
            <a:xfrm flipV="1">
              <a:off x="3499920" y="2147400"/>
              <a:ext cx="221400" cy="167040"/>
            </a:xfrm>
            <a:prstGeom prst="curvedConnector5">
              <a:avLst>
                <a:gd name="adj1" fmla="val 49511"/>
                <a:gd name="adj2" fmla="val 49892"/>
                <a:gd name="adj3" fmla="val 49511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43" name=""/>
            <p:cNvCxnSpPr>
              <a:stCxn id="1126" idx="4"/>
              <a:endCxn id="1109" idx="0"/>
            </p:cNvCxnSpPr>
            <p:nvPr/>
          </p:nvCxnSpPr>
          <p:spPr>
            <a:xfrm flipH="1" rot="16200000">
              <a:off x="7613280" y="1745280"/>
              <a:ext cx="191520" cy="205560"/>
            </a:xfrm>
            <a:prstGeom prst="curvedConnector5">
              <a:avLst>
                <a:gd name="adj1" fmla="val 54990"/>
                <a:gd name="adj2" fmla="val 50000"/>
                <a:gd name="adj3" fmla="val 54990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44" name=""/>
            <p:cNvSpPr/>
            <p:nvPr/>
          </p:nvSpPr>
          <p:spPr>
            <a:xfrm flipH="1">
              <a:off x="7962480" y="163188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434920" y="3429000"/>
              <a:ext cx="368280" cy="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/>
          </p:nvPr>
        </p:nvSpPr>
        <p:spPr>
          <a:xfrm>
            <a:off x="380880" y="228240"/>
            <a:ext cx="9144000" cy="198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der the Shop-by-phone Office Supplies schema shown in Figure 3 on th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pplementary Sheet for the Final Ex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Modify the schema so that the same order can have a different delivery address for each item or group of items, if necessary. You should minimize data redundancy in the resulting database as much as possib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best way to allow each item or group of items to have a separate delivery address is to introduce an additional entity type, Delivery-address, related to both Order and Order-item as follow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1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7" name=""/>
          <p:cNvGrpSpPr/>
          <p:nvPr/>
        </p:nvGrpSpPr>
        <p:grpSpPr>
          <a:xfrm>
            <a:off x="914400" y="2057400"/>
            <a:ext cx="8241840" cy="3989520"/>
            <a:chOff x="914400" y="2057400"/>
            <a:chExt cx="8241840" cy="3989520"/>
          </a:xfrm>
        </p:grpSpPr>
        <p:cxnSp>
          <p:nvCxnSpPr>
            <p:cNvPr id="1148" name=""/>
            <p:cNvCxnSpPr>
              <a:stCxn id="1149" idx="3"/>
              <a:endCxn id="1150" idx="1"/>
            </p:cNvCxnSpPr>
            <p:nvPr/>
          </p:nvCxnSpPr>
          <p:spPr>
            <a:xfrm>
              <a:off x="1731600" y="3990600"/>
              <a:ext cx="9244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151" name=""/>
            <p:cNvCxnSpPr>
              <a:stCxn id="1150" idx="3"/>
              <a:endCxn id="1152" idx="1"/>
            </p:cNvCxnSpPr>
            <p:nvPr/>
          </p:nvCxnSpPr>
          <p:spPr>
            <a:xfrm>
              <a:off x="3646080" y="3990600"/>
              <a:ext cx="9244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150" name=""/>
            <p:cNvSpPr/>
            <p:nvPr/>
          </p:nvSpPr>
          <p:spPr>
            <a:xfrm>
              <a:off x="2655720" y="3774960"/>
              <a:ext cx="990000" cy="432000"/>
            </a:xfrm>
            <a:prstGeom prst="diamond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la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914400" y="3806640"/>
              <a:ext cx="81720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70200" y="3805200"/>
              <a:ext cx="817200" cy="3697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8165880" y="4682880"/>
              <a:ext cx="990360" cy="432000"/>
            </a:xfrm>
            <a:prstGeom prst="diamond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s-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8253000" y="5629320"/>
              <a:ext cx="81720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8253000" y="3800520"/>
              <a:ext cx="817200" cy="36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der-ite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6" name=""/>
            <p:cNvCxnSpPr>
              <a:stCxn id="1153" idx="2"/>
              <a:endCxn id="1154" idx="0"/>
            </p:cNvCxnSpPr>
            <p:nvPr/>
          </p:nvCxnSpPr>
          <p:spPr>
            <a:xfrm>
              <a:off x="8660880" y="5133960"/>
              <a:ext cx="1800" cy="496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57" name=""/>
            <p:cNvCxnSpPr>
              <a:stCxn id="1153" idx="0"/>
              <a:endCxn id="1155" idx="2"/>
            </p:cNvCxnSpPr>
            <p:nvPr/>
          </p:nvCxnSpPr>
          <p:spPr>
            <a:xfrm flipV="1">
              <a:off x="8660880" y="4188600"/>
              <a:ext cx="1800" cy="475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58" name=""/>
            <p:cNvCxnSpPr>
              <a:stCxn id="1152" idx="3"/>
              <a:endCxn id="1159" idx="2"/>
            </p:cNvCxnSpPr>
            <p:nvPr/>
          </p:nvCxnSpPr>
          <p:spPr>
            <a:xfrm flipV="1">
              <a:off x="5387760" y="3985560"/>
              <a:ext cx="128160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60" name=""/>
            <p:cNvCxnSpPr>
              <a:stCxn id="1159" idx="6"/>
              <a:endCxn id="1155" idx="1"/>
            </p:cNvCxnSpPr>
            <p:nvPr/>
          </p:nvCxnSpPr>
          <p:spPr>
            <a:xfrm>
              <a:off x="6973200" y="3985920"/>
              <a:ext cx="1261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59" name=""/>
            <p:cNvSpPr/>
            <p:nvPr/>
          </p:nvSpPr>
          <p:spPr>
            <a:xfrm>
              <a:off x="6669000" y="3833640"/>
              <a:ext cx="30420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1" name=""/>
            <p:cNvCxnSpPr>
              <a:stCxn id="1162" idx="3"/>
              <a:endCxn id="1163" idx="1"/>
            </p:cNvCxnSpPr>
            <p:nvPr/>
          </p:nvCxnSpPr>
          <p:spPr>
            <a:xfrm>
              <a:off x="1744200" y="5812920"/>
              <a:ext cx="92412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164" name=""/>
            <p:cNvCxnSpPr>
              <a:stCxn id="1163" idx="3"/>
              <a:endCxn id="1165" idx="1"/>
            </p:cNvCxnSpPr>
            <p:nvPr/>
          </p:nvCxnSpPr>
          <p:spPr>
            <a:xfrm>
              <a:off x="3659040" y="5812920"/>
              <a:ext cx="92592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163" name=""/>
            <p:cNvSpPr/>
            <p:nvPr/>
          </p:nvSpPr>
          <p:spPr>
            <a:xfrm>
              <a:off x="2668320" y="5597280"/>
              <a:ext cx="990360" cy="432000"/>
            </a:xfrm>
            <a:prstGeom prst="diamond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cated-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927000" y="5629320"/>
              <a:ext cx="81720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584600" y="5627520"/>
              <a:ext cx="817200" cy="3700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re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325920" y="5597280"/>
              <a:ext cx="990360" cy="432000"/>
            </a:xfrm>
            <a:prstGeom prst="diamond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cked-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67" name=""/>
            <p:cNvCxnSpPr>
              <a:stCxn id="1165" idx="3"/>
              <a:endCxn id="1166" idx="1"/>
            </p:cNvCxnSpPr>
            <p:nvPr/>
          </p:nvCxnSpPr>
          <p:spPr>
            <a:xfrm>
              <a:off x="5401800" y="5812920"/>
              <a:ext cx="9241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68" name=""/>
            <p:cNvCxnSpPr>
              <a:stCxn id="1166" idx="3"/>
              <a:endCxn id="1154" idx="1"/>
            </p:cNvCxnSpPr>
            <p:nvPr/>
          </p:nvCxnSpPr>
          <p:spPr>
            <a:xfrm>
              <a:off x="7316640" y="5812920"/>
              <a:ext cx="93672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169" name=""/>
            <p:cNvCxnSpPr>
              <a:stCxn id="1170" idx="3"/>
              <a:endCxn id="1171" idx="1"/>
            </p:cNvCxnSpPr>
            <p:nvPr/>
          </p:nvCxnSpPr>
          <p:spPr>
            <a:xfrm>
              <a:off x="3558600" y="3044520"/>
              <a:ext cx="92412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171" name=""/>
            <p:cNvSpPr/>
            <p:nvPr/>
          </p:nvSpPr>
          <p:spPr>
            <a:xfrm>
              <a:off x="4482720" y="2828880"/>
              <a:ext cx="990360" cy="431640"/>
            </a:xfrm>
            <a:prstGeom prst="diamond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k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2741400" y="2860560"/>
              <a:ext cx="81720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ales-cle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72" name=""/>
            <p:cNvCxnSpPr>
              <a:stCxn id="1171" idx="2"/>
              <a:endCxn id="1152" idx="0"/>
            </p:cNvCxnSpPr>
            <p:nvPr/>
          </p:nvCxnSpPr>
          <p:spPr>
            <a:xfrm>
              <a:off x="4978080" y="3260160"/>
              <a:ext cx="2160" cy="54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173" name=""/>
            <p:cNvSpPr/>
            <p:nvPr/>
          </p:nvSpPr>
          <p:spPr>
            <a:xfrm>
              <a:off x="4294080" y="3744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739160" y="3744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2193840" y="3916440"/>
              <a:ext cx="0" cy="150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4061520" y="3944880"/>
              <a:ext cx="93240" cy="93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571200" y="28033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979880" y="35654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7964640" y="37447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5400000" y="374472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663040" y="417492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8690760" y="53942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967160" y="580068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5398920" y="5800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307040" y="5800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1755000" y="58006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020840" y="296856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01400" y="3531960"/>
              <a:ext cx="150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943240" y="391464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696080" y="390996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8586000" y="5371920"/>
              <a:ext cx="150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785000" y="573876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5864040" y="573876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20920" y="573876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206440" y="573876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 flipH="1">
              <a:off x="8614440" y="4379760"/>
              <a:ext cx="93240" cy="93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253000" y="2087640"/>
              <a:ext cx="817200" cy="36972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Delivery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addre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165880" y="2909880"/>
              <a:ext cx="990360" cy="431640"/>
            </a:xfrm>
            <a:prstGeom prst="diamond">
              <a:avLst/>
            </a:prstGeom>
            <a:noFill/>
            <a:ln w="64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Deliver-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6324480" y="2057400"/>
              <a:ext cx="990000" cy="431640"/>
            </a:xfrm>
            <a:prstGeom prst="diamond">
              <a:avLst/>
            </a:prstGeom>
            <a:noFill/>
            <a:ln w="64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Has-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00" name=""/>
            <p:cNvCxnSpPr>
              <a:stCxn id="1155" idx="0"/>
              <a:endCxn id="1198" idx="2"/>
            </p:cNvCxnSpPr>
            <p:nvPr/>
          </p:nvCxnSpPr>
          <p:spPr>
            <a:xfrm flipH="1" flipV="1">
              <a:off x="8660520" y="3341160"/>
              <a:ext cx="1800" cy="44064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cxnSp>
          <p:nvCxnSpPr>
            <p:cNvPr id="1201" name=""/>
            <p:cNvCxnSpPr>
              <a:stCxn id="1198" idx="0"/>
              <a:endCxn id="1197" idx="2"/>
            </p:cNvCxnSpPr>
            <p:nvPr/>
          </p:nvCxnSpPr>
          <p:spPr>
            <a:xfrm flipV="1">
              <a:off x="8660880" y="2476080"/>
              <a:ext cx="1800" cy="43416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cxnSp>
          <p:nvCxnSpPr>
            <p:cNvPr id="1202" name=""/>
            <p:cNvCxnSpPr>
              <a:stCxn id="1199" idx="3"/>
              <a:endCxn id="1197" idx="1"/>
            </p:cNvCxnSpPr>
            <p:nvPr/>
          </p:nvCxnSpPr>
          <p:spPr>
            <a:xfrm>
              <a:off x="7314480" y="2273040"/>
              <a:ext cx="919800" cy="10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1203" name=""/>
            <p:cNvSpPr/>
            <p:nvPr/>
          </p:nvSpPr>
          <p:spPr>
            <a:xfrm>
              <a:off x="5257440" y="2273400"/>
              <a:ext cx="1053720" cy="1536480"/>
            </a:xfrm>
            <a:custGeom>
              <a:avLst/>
              <a:gdLst/>
              <a:ahLst/>
              <a:rect l="l" t="t" r="r" b="b"/>
              <a:pathLst>
                <a:path w="664" h="968">
                  <a:moveTo>
                    <a:pt x="0" y="968"/>
                  </a:moveTo>
                  <a:lnTo>
                    <a:pt x="0" y="736"/>
                  </a:lnTo>
                  <a:lnTo>
                    <a:pt x="376" y="736"/>
                  </a:lnTo>
                  <a:lnTo>
                    <a:pt x="376" y="0"/>
                  </a:lnTo>
                  <a:lnTo>
                    <a:pt x="664" y="0"/>
                  </a:lnTo>
                </a:path>
              </a:pathLst>
            </a:custGeom>
            <a:noFill/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5260320" y="35542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977240" y="227016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8663760" y="24494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8663040" y="35528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8586000" y="3570120"/>
              <a:ext cx="150120" cy="0"/>
            </a:xfrm>
            <a:prstGeom prst="line">
              <a:avLst/>
            </a:prstGeom>
            <a:ln w="64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>
              <a:off x="8613360" y="2633760"/>
              <a:ext cx="93600" cy="93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783200" y="2198520"/>
              <a:ext cx="0" cy="150840"/>
            </a:xfrm>
            <a:prstGeom prst="line">
              <a:avLst/>
            </a:prstGeom>
            <a:ln w="64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 flipH="1">
              <a:off x="5181480" y="3531960"/>
              <a:ext cx="150480" cy="0"/>
            </a:xfrm>
            <a:prstGeom prst="line">
              <a:avLst/>
            </a:prstGeom>
            <a:ln w="64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0" algn="just">
              <a:spcBef>
                <a:spcPts val="2401"/>
              </a:spcBef>
              <a:spcAft>
                <a:spcPts val="300"/>
              </a:spcAft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der two entities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lated by a 1:N relationship R, where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on the 1 side and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on the N sid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f R. The relevant attributes of R for normalization in this case ar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ly the key of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ly the key of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th the key of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of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any attributes of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y of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any attributes of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key of E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any attributes of 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G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mapping a generalization hierarchy in logical design, the option to retain the sub-entities only should not b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d for overlapping generalizations becaus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herwise it is too hard to understand the resulting sche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puts too much load on the 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results in too much duplication of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makes operations harder to impl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t cannot be translated easily to the relational 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2401"/>
              </a:spcBef>
              <a:spcAft>
                <a:spcPts val="300"/>
              </a:spcAft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H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figure shown below, the correct integrity constraint for the Works-on relation resulting from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formation of the Works-on relationship i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6001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 no a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 no a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null(proj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 delete Projec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 exists(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 delete: delete Employe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 exists(Employee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ll(emp#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delete: delete Project</a:t>
            </a:r>
            <a:r>
              <a:rPr b="0" lang="en-US" sz="14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 exists(Employee) and exists(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3543480"/>
                <a:tab algn="l" pos="5829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 delete: no ac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n insert: exists(Employee) and exists(Projec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177920" y="3200400"/>
            <a:ext cx="279360" cy="2793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77920" y="6197760"/>
            <a:ext cx="279360" cy="2793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77920" y="1739880"/>
            <a:ext cx="279360" cy="2793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913120" y="4749840"/>
            <a:ext cx="4096800" cy="622080"/>
            <a:chOff x="2913120" y="4749840"/>
            <a:chExt cx="4096800" cy="622080"/>
          </a:xfrm>
        </p:grpSpPr>
        <p:sp>
          <p:nvSpPr>
            <p:cNvPr id="52" name=""/>
            <p:cNvSpPr/>
            <p:nvPr/>
          </p:nvSpPr>
          <p:spPr>
            <a:xfrm>
              <a:off x="5920920" y="4749840"/>
              <a:ext cx="442800" cy="193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ep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95680" y="5097600"/>
              <a:ext cx="889920" cy="268200"/>
            </a:xfrm>
            <a:prstGeom prst="diamond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s-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803560" y="5092560"/>
              <a:ext cx="893520" cy="279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j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2760" y="5092560"/>
              <a:ext cx="894960" cy="2793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mploye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" name=""/>
            <p:cNvCxnSpPr>
              <a:stCxn id="55" idx="3"/>
              <a:endCxn id="53" idx="1"/>
            </p:cNvCxnSpPr>
            <p:nvPr/>
          </p:nvCxnSpPr>
          <p:spPr>
            <a:xfrm>
              <a:off x="4077720" y="5231880"/>
              <a:ext cx="4179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57" name=""/>
            <p:cNvCxnSpPr>
              <a:stCxn id="53" idx="3"/>
              <a:endCxn id="54" idx="1"/>
            </p:cNvCxnSpPr>
            <p:nvPr/>
          </p:nvCxnSpPr>
          <p:spPr>
            <a:xfrm>
              <a:off x="5385600" y="5231880"/>
              <a:ext cx="41796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58" name=""/>
            <p:cNvSpPr/>
            <p:nvPr/>
          </p:nvSpPr>
          <p:spPr>
            <a:xfrm>
              <a:off x="3417480" y="4767120"/>
              <a:ext cx="441000" cy="18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412960" y="4765680"/>
              <a:ext cx="439560" cy="18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fc0128"/>
                  </a:solidFill>
                  <a:uFillTx/>
                  <a:latin typeface="Arial"/>
                </a:rPr>
                <a:t>proj#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" name=""/>
            <p:cNvCxnSpPr>
              <a:stCxn id="58" idx="4"/>
              <a:endCxn id="55" idx="0"/>
            </p:cNvCxnSpPr>
            <p:nvPr/>
          </p:nvCxnSpPr>
          <p:spPr>
            <a:xfrm rot="5400000">
              <a:off x="3561120" y="5016240"/>
              <a:ext cx="144720" cy="7920"/>
            </a:xfrm>
            <a:prstGeom prst="curvedConnector5">
              <a:avLst>
                <a:gd name="adj1" fmla="val 49875"/>
                <a:gd name="adj2" fmla="val 47619"/>
                <a:gd name="adj3" fmla="val 49875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1" name=""/>
            <p:cNvCxnSpPr>
              <a:stCxn id="59" idx="4"/>
              <a:endCxn id="54" idx="0"/>
            </p:cNvCxnSpPr>
            <p:nvPr/>
          </p:nvCxnSpPr>
          <p:spPr>
            <a:xfrm flipH="1" rot="16200000">
              <a:off x="5868360" y="4710600"/>
              <a:ext cx="146520" cy="618120"/>
            </a:xfrm>
            <a:prstGeom prst="curvedConnector5">
              <a:avLst>
                <a:gd name="adj1" fmla="val 49507"/>
                <a:gd name="adj2" fmla="val 50000"/>
                <a:gd name="adj3" fmla="val 49507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62" name=""/>
            <p:cNvCxnSpPr>
              <a:stCxn id="54" idx="0"/>
              <a:endCxn id="52" idx="4"/>
            </p:cNvCxnSpPr>
            <p:nvPr/>
          </p:nvCxnSpPr>
          <p:spPr>
            <a:xfrm flipV="1" rot="16200000">
              <a:off x="6121440" y="4962600"/>
              <a:ext cx="149760" cy="110160"/>
            </a:xfrm>
            <a:prstGeom prst="curvedConnector5">
              <a:avLst>
                <a:gd name="adj1" fmla="val 49879"/>
                <a:gd name="adj2" fmla="val 49836"/>
                <a:gd name="adj3" fmla="val 49879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3" name=""/>
            <p:cNvSpPr/>
            <p:nvPr/>
          </p:nvSpPr>
          <p:spPr>
            <a:xfrm>
              <a:off x="6432120" y="4755960"/>
              <a:ext cx="577800" cy="182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o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" name=""/>
            <p:cNvCxnSpPr>
              <a:stCxn id="54" idx="0"/>
              <a:endCxn id="63" idx="4"/>
            </p:cNvCxnSpPr>
            <p:nvPr/>
          </p:nvCxnSpPr>
          <p:spPr>
            <a:xfrm flipH="1" flipV="1" rot="5400000">
              <a:off x="6409800" y="4779720"/>
              <a:ext cx="154440" cy="471600"/>
            </a:xfrm>
            <a:prstGeom prst="curvedConnector5">
              <a:avLst>
                <a:gd name="adj1" fmla="val 49532"/>
                <a:gd name="adj2" fmla="val 49961"/>
                <a:gd name="adj3" fmla="val 49532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65" name=""/>
            <p:cNvSpPr/>
            <p:nvPr/>
          </p:nvSpPr>
          <p:spPr>
            <a:xfrm>
              <a:off x="5565240" y="503568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032000" y="5035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522760" y="5184720"/>
              <a:ext cx="94680" cy="9540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309920" y="5168880"/>
              <a:ext cx="0" cy="128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913120" y="4765680"/>
              <a:ext cx="439560" cy="18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 u="sng">
                  <a:solidFill>
                    <a:srgbClr val="fc0128"/>
                  </a:solidFill>
                  <a:uFillTx/>
                  <a:latin typeface="Arial"/>
                </a:rPr>
                <a:t>emp#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24000" y="4765680"/>
              <a:ext cx="441000" cy="18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sala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1" name=""/>
            <p:cNvCxnSpPr>
              <a:stCxn id="69" idx="4"/>
              <a:endCxn id="55" idx="0"/>
            </p:cNvCxnSpPr>
            <p:nvPr/>
          </p:nvCxnSpPr>
          <p:spPr>
            <a:xfrm flipH="1" rot="16200000">
              <a:off x="3307680" y="4771080"/>
              <a:ext cx="146520" cy="497160"/>
            </a:xfrm>
            <a:prstGeom prst="curvedConnector5">
              <a:avLst>
                <a:gd name="adj1" fmla="val 49507"/>
                <a:gd name="adj2" fmla="val 50000"/>
                <a:gd name="adj3" fmla="val 49507"/>
              </a:avLst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72" name=""/>
            <p:cNvCxnSpPr>
              <a:stCxn id="55" idx="0"/>
              <a:endCxn id="70" idx="4"/>
            </p:cNvCxnSpPr>
            <p:nvPr/>
          </p:nvCxnSpPr>
          <p:spPr>
            <a:xfrm flipH="1" flipV="1" rot="5400000">
              <a:off x="3814200" y="4762080"/>
              <a:ext cx="146520" cy="514440"/>
            </a:xfrm>
            <a:prstGeom prst="curvedConnector5">
              <a:avLst>
                <a:gd name="adj1" fmla="val 49507"/>
                <a:gd name="adj2" fmla="val 50000"/>
                <a:gd name="adj3" fmla="val 49507"/>
              </a:avLst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73" name=""/>
            <p:cNvSpPr/>
            <p:nvPr/>
          </p:nvSpPr>
          <p:spPr>
            <a:xfrm>
              <a:off x="4668480" y="4765680"/>
              <a:ext cx="439560" cy="181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hou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3" idx="0"/>
              <a:endCxn id="73" idx="4"/>
            </p:cNvCxnSpPr>
            <p:nvPr/>
          </p:nvCxnSpPr>
          <p:spPr>
            <a:xfrm flipV="1" rot="16200000">
              <a:off x="4839120" y="4995360"/>
              <a:ext cx="151560" cy="5292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/>
          </p:nvPr>
        </p:nvSpPr>
        <p:spPr>
          <a:xfrm>
            <a:off x="380520" y="22824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ption 2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3" name=""/>
          <p:cNvGrpSpPr/>
          <p:nvPr/>
        </p:nvGrpSpPr>
        <p:grpSpPr>
          <a:xfrm>
            <a:off x="914400" y="533520"/>
            <a:ext cx="8242200" cy="4141800"/>
            <a:chOff x="914400" y="533520"/>
            <a:chExt cx="8242200" cy="4141800"/>
          </a:xfrm>
        </p:grpSpPr>
        <p:cxnSp>
          <p:nvCxnSpPr>
            <p:cNvPr id="1214" name=""/>
            <p:cNvCxnSpPr>
              <a:stCxn id="1215" idx="3"/>
              <a:endCxn id="1216" idx="1"/>
            </p:cNvCxnSpPr>
            <p:nvPr/>
          </p:nvCxnSpPr>
          <p:spPr>
            <a:xfrm>
              <a:off x="1731960" y="2619000"/>
              <a:ext cx="9244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217" name=""/>
            <p:cNvCxnSpPr>
              <a:stCxn id="1216" idx="3"/>
              <a:endCxn id="1218" idx="1"/>
            </p:cNvCxnSpPr>
            <p:nvPr/>
          </p:nvCxnSpPr>
          <p:spPr>
            <a:xfrm>
              <a:off x="3646080" y="2619000"/>
              <a:ext cx="92484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216" name=""/>
            <p:cNvSpPr/>
            <p:nvPr/>
          </p:nvSpPr>
          <p:spPr>
            <a:xfrm>
              <a:off x="2655720" y="2403360"/>
              <a:ext cx="990720" cy="432000"/>
            </a:xfrm>
            <a:prstGeom prst="diamond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lac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914400" y="2435400"/>
              <a:ext cx="81756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sto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570560" y="2433600"/>
              <a:ext cx="817560" cy="3700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8166240" y="3311640"/>
              <a:ext cx="990360" cy="431640"/>
            </a:xfrm>
            <a:prstGeom prst="diamond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s-f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8253360" y="4257720"/>
              <a:ext cx="81756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8253360" y="2428920"/>
              <a:ext cx="817560" cy="36972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der-ite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2" name=""/>
            <p:cNvCxnSpPr>
              <a:stCxn id="1219" idx="2"/>
              <a:endCxn id="1220" idx="0"/>
            </p:cNvCxnSpPr>
            <p:nvPr/>
          </p:nvCxnSpPr>
          <p:spPr>
            <a:xfrm>
              <a:off x="8660880" y="3762360"/>
              <a:ext cx="2520" cy="496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23" name=""/>
            <p:cNvCxnSpPr>
              <a:stCxn id="1219" idx="0"/>
              <a:endCxn id="1221" idx="2"/>
            </p:cNvCxnSpPr>
            <p:nvPr/>
          </p:nvCxnSpPr>
          <p:spPr>
            <a:xfrm flipV="1">
              <a:off x="8660880" y="2817000"/>
              <a:ext cx="2520" cy="47556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24" name=""/>
            <p:cNvCxnSpPr>
              <a:stCxn id="1218" idx="3"/>
              <a:endCxn id="1225" idx="2"/>
            </p:cNvCxnSpPr>
            <p:nvPr/>
          </p:nvCxnSpPr>
          <p:spPr>
            <a:xfrm flipV="1">
              <a:off x="5388120" y="2613960"/>
              <a:ext cx="1281600" cy="540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26" name=""/>
            <p:cNvCxnSpPr>
              <a:stCxn id="1225" idx="6"/>
              <a:endCxn id="1221" idx="1"/>
            </p:cNvCxnSpPr>
            <p:nvPr/>
          </p:nvCxnSpPr>
          <p:spPr>
            <a:xfrm>
              <a:off x="6973560" y="2614320"/>
              <a:ext cx="126108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225" name=""/>
            <p:cNvSpPr/>
            <p:nvPr/>
          </p:nvSpPr>
          <p:spPr>
            <a:xfrm>
              <a:off x="6669000" y="246204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27" name=""/>
            <p:cNvCxnSpPr>
              <a:stCxn id="1228" idx="3"/>
              <a:endCxn id="1229" idx="1"/>
            </p:cNvCxnSpPr>
            <p:nvPr/>
          </p:nvCxnSpPr>
          <p:spPr>
            <a:xfrm>
              <a:off x="1744200" y="4441320"/>
              <a:ext cx="92484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cxnSp>
          <p:nvCxnSpPr>
            <p:cNvPr id="1230" name=""/>
            <p:cNvCxnSpPr>
              <a:stCxn id="1229" idx="3"/>
              <a:endCxn id="1231" idx="1"/>
            </p:cNvCxnSpPr>
            <p:nvPr/>
          </p:nvCxnSpPr>
          <p:spPr>
            <a:xfrm>
              <a:off x="3658680" y="4441320"/>
              <a:ext cx="9262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229" name=""/>
            <p:cNvSpPr/>
            <p:nvPr/>
          </p:nvSpPr>
          <p:spPr>
            <a:xfrm>
              <a:off x="2668680" y="4226040"/>
              <a:ext cx="990360" cy="431640"/>
            </a:xfrm>
            <a:prstGeom prst="diamond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cated-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927000" y="4257720"/>
              <a:ext cx="81756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u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84600" y="4255920"/>
              <a:ext cx="817560" cy="3700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reho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6326280" y="4226040"/>
              <a:ext cx="990360" cy="431640"/>
            </a:xfrm>
            <a:prstGeom prst="diamond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cked-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3" name=""/>
            <p:cNvCxnSpPr>
              <a:stCxn id="1231" idx="3"/>
              <a:endCxn id="1232" idx="1"/>
            </p:cNvCxnSpPr>
            <p:nvPr/>
          </p:nvCxnSpPr>
          <p:spPr>
            <a:xfrm>
              <a:off x="5401800" y="4441320"/>
              <a:ext cx="9248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34" name=""/>
            <p:cNvCxnSpPr>
              <a:stCxn id="1232" idx="3"/>
              <a:endCxn id="1220" idx="1"/>
            </p:cNvCxnSpPr>
            <p:nvPr/>
          </p:nvCxnSpPr>
          <p:spPr>
            <a:xfrm>
              <a:off x="7316640" y="4441320"/>
              <a:ext cx="937440" cy="108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cxnSp>
          <p:nvCxnSpPr>
            <p:cNvPr id="1235" name=""/>
            <p:cNvCxnSpPr>
              <a:stCxn id="1236" idx="3"/>
              <a:endCxn id="1237" idx="1"/>
            </p:cNvCxnSpPr>
            <p:nvPr/>
          </p:nvCxnSpPr>
          <p:spPr>
            <a:xfrm>
              <a:off x="3559320" y="1672920"/>
              <a:ext cx="924480" cy="1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</a:ln>
          </p:spPr>
        </p:cxnSp>
        <p:sp>
          <p:nvSpPr>
            <p:cNvPr id="1237" name=""/>
            <p:cNvSpPr/>
            <p:nvPr/>
          </p:nvSpPr>
          <p:spPr>
            <a:xfrm>
              <a:off x="4483080" y="1457280"/>
              <a:ext cx="990720" cy="432000"/>
            </a:xfrm>
            <a:prstGeom prst="diamond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k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2741760" y="1488960"/>
              <a:ext cx="817560" cy="368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ales-cler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38" name=""/>
            <p:cNvCxnSpPr>
              <a:stCxn id="1237" idx="2"/>
              <a:endCxn id="1218" idx="0"/>
            </p:cNvCxnSpPr>
            <p:nvPr/>
          </p:nvCxnSpPr>
          <p:spPr>
            <a:xfrm>
              <a:off x="4978440" y="1889280"/>
              <a:ext cx="2160" cy="54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</a:ln>
          </p:spPr>
        </p:cxnSp>
        <p:sp>
          <p:nvSpPr>
            <p:cNvPr id="1239" name=""/>
            <p:cNvSpPr/>
            <p:nvPr/>
          </p:nvSpPr>
          <p:spPr>
            <a:xfrm>
              <a:off x="4294440" y="23734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1739880" y="23734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2193840" y="254484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 flipH="1">
              <a:off x="4061520" y="2573280"/>
              <a:ext cx="93960" cy="93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3571560" y="14320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980240" y="21938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964640" y="23734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5400360" y="23734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8663400" y="28036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8691480" y="40226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967880" y="4429080"/>
              <a:ext cx="293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399280" y="44290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307040" y="442908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1755720" y="44290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021200" y="159696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01400" y="2160720"/>
              <a:ext cx="150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5943600" y="254304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696080" y="253836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8586000" y="4000680"/>
              <a:ext cx="150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785000" y="436716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864400" y="436716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121280" y="436716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206800" y="4367160"/>
              <a:ext cx="0" cy="1508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 flipH="1">
              <a:off x="8615520" y="3008160"/>
              <a:ext cx="93600" cy="9396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411960" y="533520"/>
              <a:ext cx="817560" cy="369720"/>
            </a:xfrm>
            <a:prstGeom prst="rect">
              <a:avLst/>
            </a:prstGeom>
            <a:noFill/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2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Delivery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addres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6324480" y="1457280"/>
              <a:ext cx="990720" cy="432000"/>
            </a:xfrm>
            <a:prstGeom prst="diamond">
              <a:avLst/>
            </a:prstGeom>
            <a:noFill/>
            <a:ln w="64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c0128"/>
                  </a:solidFill>
                  <a:latin typeface="Times New Roman"/>
                </a:rPr>
                <a:t>Deliver-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257800" y="1676520"/>
              <a:ext cx="1054080" cy="761760"/>
            </a:xfrm>
            <a:custGeom>
              <a:avLst/>
              <a:gdLst/>
              <a:ahLst/>
              <a:rect l="l" t="t" r="r" b="b"/>
              <a:pathLst>
                <a:path w="664" h="480">
                  <a:moveTo>
                    <a:pt x="0" y="480"/>
                  </a:moveTo>
                  <a:lnTo>
                    <a:pt x="0" y="240"/>
                  </a:lnTo>
                  <a:lnTo>
                    <a:pt x="376" y="240"/>
                  </a:lnTo>
                  <a:lnTo>
                    <a:pt x="376" y="0"/>
                  </a:lnTo>
                  <a:lnTo>
                    <a:pt x="664" y="0"/>
                  </a:lnTo>
                </a:path>
              </a:pathLst>
            </a:custGeom>
            <a:noFill/>
            <a:ln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260680" y="218268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835680" y="91296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8663400" y="2181240"/>
              <a:ext cx="272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c0128"/>
                  </a:solidFill>
                  <a:latin typeface="Times New Roman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9" name=""/>
            <p:cNvCxnSpPr>
              <a:stCxn id="1264" idx="3"/>
              <a:endCxn id="1221" idx="0"/>
            </p:cNvCxnSpPr>
            <p:nvPr/>
          </p:nvCxnSpPr>
          <p:spPr>
            <a:xfrm>
              <a:off x="7315200" y="1673280"/>
              <a:ext cx="1348560" cy="737280"/>
            </a:xfrm>
            <a:prstGeom prst="bentConnector2">
              <a:avLst/>
            </a:prstGeom>
            <a:ln w="12600">
              <a:solidFill>
                <a:srgbClr val="fc0128"/>
              </a:solidFill>
              <a:miter/>
            </a:ln>
          </p:spPr>
        </p:cxnSp>
        <p:cxnSp>
          <p:nvCxnSpPr>
            <p:cNvPr id="1270" name=""/>
            <p:cNvCxnSpPr>
              <a:stCxn id="1264" idx="0"/>
              <a:endCxn id="1263" idx="2"/>
            </p:cNvCxnSpPr>
            <p:nvPr/>
          </p:nvCxnSpPr>
          <p:spPr>
            <a:xfrm flipV="1">
              <a:off x="6819480" y="921960"/>
              <a:ext cx="2520" cy="535680"/>
            </a:xfrm>
            <a:prstGeom prst="straightConnector1">
              <a:avLst/>
            </a:prstGeom>
            <a:ln w="12600">
              <a:solidFill>
                <a:srgbClr val="fc0128"/>
              </a:solidFill>
              <a:miter/>
            </a:ln>
          </p:spPr>
        </p:cxnSp>
        <p:sp>
          <p:nvSpPr>
            <p:cNvPr id="1271" name=""/>
            <p:cNvSpPr/>
            <p:nvPr/>
          </p:nvSpPr>
          <p:spPr>
            <a:xfrm flipH="1">
              <a:off x="6773760" y="1133640"/>
              <a:ext cx="93600" cy="93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H="1">
              <a:off x="8615520" y="2117880"/>
              <a:ext cx="93600" cy="93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 flipH="1">
              <a:off x="5211720" y="2117880"/>
              <a:ext cx="93600" cy="936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2401"/>
              </a:spcBef>
              <a:spcAft>
                <a:spcPts val="300"/>
              </a:spcAft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heterogeneity of a distributed DBMS refers t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ther the DBMSs are independent of the database design method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w distributed the database 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ther queries can be processed automatical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ther all the DBMSs are all the same or differ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degree to which each DBMS can operate independent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401"/>
              </a:spcBef>
              <a:spcAft>
                <a:spcPts val="300"/>
              </a:spcAft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J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ich of the following is true about data warehouse databases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contain current, detailed information about the organiz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are optimized for complex queri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have many complex index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relations are all normaliz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300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y typically have thousands of user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80028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77920" y="2577960"/>
            <a:ext cx="279360" cy="27972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77920" y="1270080"/>
            <a:ext cx="279360" cy="279360"/>
          </a:xfrm>
          <a:prstGeom prst="ellipse">
            <a:avLst/>
          </a:prstGeom>
          <a:noFill/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0" algn="just">
              <a:spcBef>
                <a:spcPts val="18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rt answer questions. Each correct answer is worth 2 marks. (Key ideas that should be in the answer are shown in red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are the three key components of a data mode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three key components of a data model are: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data structure typ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operation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integrity constrain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is the difference between an internal key and an external key in the ER mode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 internal key of an entity is a key that is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omposed of the attributes of the entity onl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e.g., as for a stron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tity). An external key of an entity is a key that is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omposed of the internal key of some other entity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at is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related to this entity together with some attributes of the entit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e.g., as for a weak entity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is the purpose of a skeleton schema in the mixed design strategy for conceptual schema design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purpose of a skeleton schema in the mixed design strategy is to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provide an overall view of the conceptual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schema desig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llowing us to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divide the design and to work on it in piec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to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guide the integration of the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various schema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that are being developed in paralle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y is it desirable to enforce referential integrity constraints in the relational mode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we do not enforce referential integrity constraints, then we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annot enforce the connectivity constraint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ceptual schema. Thus, it is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possible to have “dangling” tupl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a relation. These are tuples that have a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foreign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key value that does not exist in the referenced rel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This is obviously not desirable as it means that we ar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referencing an entity that does not exis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the star schema used in data warehouse design, what types of relations are present in the schema and wha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formation do the relations represen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relation at the “centre” of the star is called the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fact 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it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represents the facts that we are interested in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aggregating (i.e., the transaction entities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 The relations at the “points” of the star are called the dimension table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they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represent the subject categories according to which we may want to do aggregations (i.e., the 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fc0128"/>
                </a:solidFill>
                <a:latin typeface="Times New Roman"/>
              </a:rPr>
              <a:t>classification entities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1800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each statement, state whether you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is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ith it. Also briefly explain, in a few sentenc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with justification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why you agree or disagree. Each correct answer is worth 3 mark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800"/>
              </a:spcBef>
              <a:spcAft>
                <a:spcPts val="300"/>
              </a:spcAft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designing a database, it is always necessary to follow a formal database design methodolog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r designing a large database, it is necessary to follow a formal method so that we can structure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blem and make sure that we do not overlook any important step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DIS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For designing a small database, such as a database for storing personal contact information, it i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 necessary to follow a formal design methodology (though it may help to do so)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800"/>
              </a:spcBef>
              <a:spcAft>
                <a:spcPts val="300"/>
              </a:spcAft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en checking the completeness of the conceptual schema design, it is sufficient to only check that all dat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irements are represented somewhere in the sch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DIS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t is certainly necessary to check that all data requirements are represented somewhere in the conceptua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a. However, it is not sufficient. The schema may represent all of the data requirements, but still be incomplete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is because the processing of the database may impose additional requirements that are not stated in the dat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irements. Hence, we cannot be sure that the conceptual schema design is complete until we also check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ing requirements against i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1800"/>
              </a:spcBef>
              <a:spcAft>
                <a:spcPts val="300"/>
              </a:spcAft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 the Nonredundant Best Fit Method for determining at which site to allocate a fragment, if the highest tota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nce count for a fragment is the same at two or more sites, then we simply allocate that fragment to all thes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t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fc0128"/>
                </a:solidFill>
                <a:latin typeface="Times New Roman"/>
              </a:rPr>
              <a:t>DISAGRE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We are doing nonredundant allocation of fragments, which means that we do not duplicate the data.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refore, we do not allocate the fragment to all the sites. Instead, we need to choose at most one site to which to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ocate the fragm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571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6400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just">
              <a:spcBef>
                <a:spcPts val="1800"/>
              </a:spcBef>
              <a:buNone/>
              <a:tabLst>
                <a:tab algn="l" pos="0"/>
                <a:tab algn="l" pos="63504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der the natural language description of the database requirements for the International Federation for Information Processing given on the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pplementary Sheet for the Final Ex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63504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dentify all the entities represented by the database requirements and show their attributes. For each entity, indicat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ich attributes, if any, are key. Assign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ason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ames to the entities and attributes identified. The goal of your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gn should be to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inimize data redundancy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n the databas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(Only entities and attributes that are explicitly given in the problem description should be included.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[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Note: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Marks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l be deducted both for missing entities/attributes as well as for including extra entities/attributes not given on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m.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63504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63504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emai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name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63504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ganization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63504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uthor(postal-addres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63504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fere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63504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chnical-area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area-nam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63504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per(</a:t>
            </a:r>
            <a:r>
              <a:rPr b="0" lang="en-US" sz="1400" spc="-1" strike="noStrike" u="sng">
                <a:solidFill>
                  <a:srgbClr val="fc0128"/>
                </a:solidFill>
                <a:uFillTx/>
                <a:latin typeface="Times New Roman"/>
              </a:rPr>
              <a:t>reference-cod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title, date-receiv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63504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views(originality, clarity, significance, overall-quality, comments, due-d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837720" y="228600"/>
            <a:ext cx="6058440" cy="3228480"/>
            <a:chOff x="837720" y="228600"/>
            <a:chExt cx="6058440" cy="3228480"/>
          </a:xfrm>
        </p:grpSpPr>
        <p:sp>
          <p:nvSpPr>
            <p:cNvPr id="82" name=""/>
            <p:cNvSpPr/>
            <p:nvPr/>
          </p:nvSpPr>
          <p:spPr>
            <a:xfrm>
              <a:off x="838080" y="22860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ption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" name=""/>
            <p:cNvGrpSpPr/>
            <p:nvPr/>
          </p:nvGrpSpPr>
          <p:grpSpPr>
            <a:xfrm>
              <a:off x="837720" y="609480"/>
              <a:ext cx="6058440" cy="2847600"/>
              <a:chOff x="837720" y="609480"/>
              <a:chExt cx="6058440" cy="2847600"/>
            </a:xfrm>
          </p:grpSpPr>
          <p:sp>
            <p:nvSpPr>
              <p:cNvPr id="84" name=""/>
              <p:cNvSpPr/>
              <p:nvPr/>
            </p:nvSpPr>
            <p:spPr>
              <a:xfrm flipH="1">
                <a:off x="4350600" y="660240"/>
                <a:ext cx="808200" cy="3686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ers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4897440" y="1536840"/>
                <a:ext cx="80820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fer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848040" y="1536840"/>
                <a:ext cx="80820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h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H="1">
                <a:off x="4678200" y="1122480"/>
                <a:ext cx="152640" cy="15228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88" name=""/>
              <p:cNvCxnSpPr>
                <a:stCxn id="87" idx="0"/>
                <a:endCxn id="84" idx="2"/>
              </p:cNvCxnSpPr>
              <p:nvPr/>
            </p:nvCxnSpPr>
            <p:spPr>
              <a:xfrm flipV="1">
                <a:off x="4754160" y="1026360"/>
                <a:ext cx="2520" cy="9612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89" name=""/>
              <p:cNvCxnSpPr>
                <a:stCxn id="85" idx="0"/>
                <a:endCxn id="87" idx="3"/>
              </p:cNvCxnSpPr>
              <p:nvPr/>
            </p:nvCxnSpPr>
            <p:spPr>
              <a:xfrm flipH="1" flipV="1">
                <a:off x="4806360" y="1250640"/>
                <a:ext cx="495720" cy="2865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90" name=""/>
              <p:cNvCxnSpPr>
                <a:stCxn id="87" idx="5"/>
                <a:endCxn id="86" idx="0"/>
              </p:cNvCxnSpPr>
              <p:nvPr/>
            </p:nvCxnSpPr>
            <p:spPr>
              <a:xfrm flipH="1">
                <a:off x="4252320" y="1251000"/>
                <a:ext cx="448200" cy="2865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sp>
            <p:nvSpPr>
              <p:cNvPr id="91" name=""/>
              <p:cNvSpPr/>
              <p:nvPr/>
            </p:nvSpPr>
            <p:spPr>
              <a:xfrm flipH="1" rot="3549600">
                <a:off x="4299840" y="12769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8096000">
                <a:off x="4946760" y="127764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2441520" y="1511280"/>
                <a:ext cx="876240" cy="4190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ri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flipH="1">
                <a:off x="2475720" y="2489040"/>
                <a:ext cx="808200" cy="36864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5" name=""/>
              <p:cNvCxnSpPr>
                <a:stCxn id="94" idx="0"/>
                <a:endCxn id="93" idx="2"/>
              </p:cNvCxnSpPr>
              <p:nvPr/>
            </p:nvCxnSpPr>
            <p:spPr>
              <a:xfrm flipH="1" flipV="1">
                <a:off x="2878920" y="1928520"/>
                <a:ext cx="2520" cy="5608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96" name=""/>
              <p:cNvCxnSpPr>
                <a:stCxn id="93" idx="1"/>
                <a:endCxn id="86" idx="1"/>
              </p:cNvCxnSpPr>
              <p:nvPr/>
            </p:nvCxnSpPr>
            <p:spPr>
              <a:xfrm>
                <a:off x="3317400" y="1719360"/>
                <a:ext cx="53100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97" name=""/>
              <p:cNvSpPr/>
              <p:nvPr/>
            </p:nvSpPr>
            <p:spPr>
              <a:xfrm flipH="1">
                <a:off x="871560" y="1536840"/>
                <a:ext cx="807840" cy="368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echnica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837360" y="2463840"/>
                <a:ext cx="876600" cy="4190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bmitted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99" name=""/>
              <p:cNvCxnSpPr>
                <a:stCxn id="98" idx="1"/>
                <a:endCxn id="94" idx="1"/>
              </p:cNvCxnSpPr>
              <p:nvPr/>
            </p:nvCxnSpPr>
            <p:spPr>
              <a:xfrm>
                <a:off x="1714320" y="2671560"/>
                <a:ext cx="7642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0" name=""/>
              <p:cNvCxnSpPr>
                <a:stCxn id="98" idx="0"/>
                <a:endCxn id="97" idx="2"/>
              </p:cNvCxnSpPr>
              <p:nvPr/>
            </p:nvCxnSpPr>
            <p:spPr>
              <a:xfrm flipV="1">
                <a:off x="1275840" y="1902600"/>
                <a:ext cx="1080" cy="5612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01" name=""/>
              <p:cNvSpPr/>
              <p:nvPr/>
            </p:nvSpPr>
            <p:spPr>
              <a:xfrm flipH="1">
                <a:off x="837360" y="635040"/>
                <a:ext cx="876600" cy="4190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hai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2" name=""/>
              <p:cNvCxnSpPr>
                <a:stCxn id="101" idx="1"/>
                <a:endCxn id="84" idx="1"/>
              </p:cNvCxnSpPr>
              <p:nvPr/>
            </p:nvCxnSpPr>
            <p:spPr>
              <a:xfrm>
                <a:off x="1714680" y="842760"/>
                <a:ext cx="26388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3" name=""/>
              <p:cNvCxnSpPr>
                <a:stCxn id="101" idx="2"/>
                <a:endCxn id="97" idx="0"/>
              </p:cNvCxnSpPr>
              <p:nvPr/>
            </p:nvCxnSpPr>
            <p:spPr>
              <a:xfrm>
                <a:off x="1275840" y="1052280"/>
                <a:ext cx="1080" cy="484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04" name=""/>
              <p:cNvSpPr/>
              <p:nvPr/>
            </p:nvSpPr>
            <p:spPr>
              <a:xfrm flipH="1">
                <a:off x="3809160" y="2463840"/>
                <a:ext cx="876600" cy="4190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act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05" name=""/>
              <p:cNvCxnSpPr>
                <a:stCxn id="94" idx="3"/>
                <a:endCxn id="104" idx="3"/>
              </p:cNvCxnSpPr>
              <p:nvPr/>
            </p:nvCxnSpPr>
            <p:spPr>
              <a:xfrm>
                <a:off x="3285720" y="2671560"/>
                <a:ext cx="52416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06" name=""/>
              <p:cNvCxnSpPr>
                <a:stCxn id="104" idx="0"/>
                <a:endCxn id="86" idx="2"/>
              </p:cNvCxnSpPr>
              <p:nvPr/>
            </p:nvCxnSpPr>
            <p:spPr>
              <a:xfrm flipV="1">
                <a:off x="4248000" y="1905120"/>
                <a:ext cx="5760" cy="559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07" name=""/>
              <p:cNvSpPr/>
              <p:nvPr/>
            </p:nvSpPr>
            <p:spPr>
              <a:xfrm flipH="1">
                <a:off x="3429000" y="3022560"/>
                <a:ext cx="876240" cy="419040"/>
              </a:xfrm>
              <a:prstGeom prst="diamond">
                <a:avLst/>
              </a:prstGeom>
              <a:noFill/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Ha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re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>
                <a:off x="1091520" y="130824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H="1">
                <a:off x="4164840" y="60948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152960" y="7682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804760" y="220968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H="1">
                <a:off x="1230480" y="124776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>
                <a:off x="1201320" y="21081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281960" y="190512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2285280" y="243828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2028960" y="262404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691720" y="224784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3656880" y="148608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3619440" y="164448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4063320" y="190512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4176360" y="217800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H="1">
                <a:off x="3499560" y="2625840"/>
                <a:ext cx="93960" cy="93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3288600" y="243828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5295240" y="190512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c0128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2691720" y="285768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c0128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019920" y="635040"/>
                <a:ext cx="876240" cy="4190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ffiliated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7" name=""/>
              <p:cNvCxnSpPr>
                <a:stCxn id="84" idx="3"/>
                <a:endCxn id="126" idx="3"/>
              </p:cNvCxnSpPr>
              <p:nvPr/>
            </p:nvCxnSpPr>
            <p:spPr>
              <a:xfrm>
                <a:off x="5160960" y="842760"/>
                <a:ext cx="859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28" name=""/>
              <p:cNvSpPr/>
              <p:nvPr/>
            </p:nvSpPr>
            <p:spPr>
              <a:xfrm flipH="1">
                <a:off x="6054840" y="1536840"/>
                <a:ext cx="80784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29" name=""/>
              <p:cNvCxnSpPr>
                <a:stCxn id="126" idx="2"/>
                <a:endCxn id="128" idx="0"/>
              </p:cNvCxnSpPr>
              <p:nvPr/>
            </p:nvCxnSpPr>
            <p:spPr>
              <a:xfrm>
                <a:off x="6458040" y="1052280"/>
                <a:ext cx="2160" cy="484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30" name=""/>
              <p:cNvSpPr/>
              <p:nvPr/>
            </p:nvSpPr>
            <p:spPr>
              <a:xfrm flipH="1">
                <a:off x="6464160" y="1308240"/>
                <a:ext cx="19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>
                <a:off x="5155560" y="60948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372280" y="7682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>
                <a:off x="6382800" y="129528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898880" y="3048120"/>
                <a:ext cx="808200" cy="368280"/>
              </a:xfrm>
              <a:prstGeom prst="rect">
                <a:avLst/>
              </a:prstGeom>
              <a:noFill/>
              <a:ln w="3816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Re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flipH="1">
                <a:off x="4863240" y="2266920"/>
                <a:ext cx="876600" cy="419040"/>
              </a:xfrm>
              <a:prstGeom prst="diamond">
                <a:avLst/>
              </a:prstGeom>
              <a:noFill/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Submits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revie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36" name=""/>
              <p:cNvCxnSpPr>
                <a:stCxn id="85" idx="2"/>
                <a:endCxn id="135" idx="0"/>
              </p:cNvCxnSpPr>
              <p:nvPr/>
            </p:nvCxnSpPr>
            <p:spPr>
              <a:xfrm>
                <a:off x="5301720" y="1904760"/>
                <a:ext cx="1080" cy="36252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cxnSp>
            <p:nvCxnSpPr>
              <p:cNvPr id="137" name=""/>
              <p:cNvCxnSpPr>
                <a:stCxn id="135" idx="2"/>
                <a:endCxn id="134" idx="0"/>
              </p:cNvCxnSpPr>
              <p:nvPr/>
            </p:nvCxnSpPr>
            <p:spPr>
              <a:xfrm>
                <a:off x="5301720" y="2684160"/>
                <a:ext cx="2520" cy="34524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cxnSp>
            <p:nvCxnSpPr>
              <p:cNvPr id="138" name=""/>
              <p:cNvCxnSpPr>
                <a:stCxn id="134" idx="1"/>
                <a:endCxn id="107" idx="1"/>
              </p:cNvCxnSpPr>
              <p:nvPr/>
            </p:nvCxnSpPr>
            <p:spPr>
              <a:xfrm flipH="1" flipV="1">
                <a:off x="4304880" y="3230280"/>
                <a:ext cx="575280" cy="216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cxnSp>
            <p:nvCxnSpPr>
              <p:cNvPr id="139" name=""/>
              <p:cNvCxnSpPr>
                <a:stCxn id="94" idx="2"/>
                <a:endCxn id="107" idx="3"/>
              </p:cNvCxnSpPr>
              <p:nvPr/>
            </p:nvCxnSpPr>
            <p:spPr>
              <a:xfrm flipH="1" rot="16200000">
                <a:off x="2966760" y="2769120"/>
                <a:ext cx="375480" cy="548280"/>
              </a:xfrm>
              <a:prstGeom prst="bentConnector2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140" name=""/>
              <p:cNvSpPr/>
              <p:nvPr/>
            </p:nvSpPr>
            <p:spPr>
              <a:xfrm flipH="1">
                <a:off x="5307840" y="281952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c0128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H="1">
                <a:off x="4698360" y="322596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c0128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H="1">
                <a:off x="4556160" y="318600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flipH="1">
                <a:off x="5257800" y="277668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H="1">
                <a:off x="5225760" y="2133720"/>
                <a:ext cx="1508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flipH="1">
                <a:off x="2804760" y="3060720"/>
                <a:ext cx="150840" cy="0"/>
              </a:xfrm>
              <a:prstGeom prst="line">
                <a:avLst/>
              </a:prstGeom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6" name=""/>
          <p:cNvGrpSpPr/>
          <p:nvPr/>
        </p:nvGrpSpPr>
        <p:grpSpPr>
          <a:xfrm>
            <a:off x="837720" y="3581280"/>
            <a:ext cx="6058440" cy="3048120"/>
            <a:chOff x="837720" y="3581280"/>
            <a:chExt cx="6058440" cy="3048120"/>
          </a:xfrm>
        </p:grpSpPr>
        <p:grpSp>
          <p:nvGrpSpPr>
            <p:cNvPr id="147" name=""/>
            <p:cNvGrpSpPr/>
            <p:nvPr/>
          </p:nvGrpSpPr>
          <p:grpSpPr>
            <a:xfrm>
              <a:off x="837720" y="3949560"/>
              <a:ext cx="6058440" cy="2679840"/>
              <a:chOff x="837720" y="3949560"/>
              <a:chExt cx="6058440" cy="2679840"/>
            </a:xfrm>
          </p:grpSpPr>
          <p:sp>
            <p:nvSpPr>
              <p:cNvPr id="148" name=""/>
              <p:cNvSpPr/>
              <p:nvPr/>
            </p:nvSpPr>
            <p:spPr>
              <a:xfrm flipH="1">
                <a:off x="4350600" y="4000320"/>
                <a:ext cx="80820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ers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889520" y="4876560"/>
                <a:ext cx="80784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fere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3848040" y="4876560"/>
                <a:ext cx="80820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uth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>
                <a:off x="4678200" y="4462200"/>
                <a:ext cx="152640" cy="15264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2" name=""/>
              <p:cNvCxnSpPr>
                <a:stCxn id="151" idx="0"/>
                <a:endCxn id="148" idx="2"/>
              </p:cNvCxnSpPr>
              <p:nvPr/>
            </p:nvCxnSpPr>
            <p:spPr>
              <a:xfrm flipV="1">
                <a:off x="4754160" y="4366800"/>
                <a:ext cx="2520" cy="9576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53" name=""/>
              <p:cNvCxnSpPr>
                <a:stCxn id="149" idx="0"/>
                <a:endCxn id="151" idx="3"/>
              </p:cNvCxnSpPr>
              <p:nvPr/>
            </p:nvCxnSpPr>
            <p:spPr>
              <a:xfrm flipH="1" flipV="1">
                <a:off x="4806360" y="4590360"/>
                <a:ext cx="487800" cy="28620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cxnSp>
            <p:nvCxnSpPr>
              <p:cNvPr id="154" name=""/>
              <p:cNvCxnSpPr>
                <a:stCxn id="151" idx="5"/>
                <a:endCxn id="150" idx="0"/>
              </p:cNvCxnSpPr>
              <p:nvPr/>
            </p:nvCxnSpPr>
            <p:spPr>
              <a:xfrm flipH="1">
                <a:off x="4252320" y="4590720"/>
                <a:ext cx="448200" cy="28620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</a:ln>
            </p:spPr>
          </p:cxnSp>
          <p:sp>
            <p:nvSpPr>
              <p:cNvPr id="155" name=""/>
              <p:cNvSpPr/>
              <p:nvPr/>
            </p:nvSpPr>
            <p:spPr>
              <a:xfrm flipH="1" rot="3549600">
                <a:off x="4299840" y="461700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rot="18096000">
                <a:off x="4946760" y="4617720"/>
                <a:ext cx="2905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2441520" y="4851360"/>
                <a:ext cx="876240" cy="4190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rit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2475720" y="5829120"/>
                <a:ext cx="808200" cy="368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p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59" name=""/>
              <p:cNvCxnSpPr>
                <a:stCxn id="158" idx="0"/>
                <a:endCxn id="157" idx="2"/>
              </p:cNvCxnSpPr>
              <p:nvPr/>
            </p:nvCxnSpPr>
            <p:spPr>
              <a:xfrm flipH="1" flipV="1">
                <a:off x="2878920" y="5268600"/>
                <a:ext cx="2520" cy="5608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0" name=""/>
              <p:cNvCxnSpPr>
                <a:stCxn id="157" idx="1"/>
                <a:endCxn id="150" idx="1"/>
              </p:cNvCxnSpPr>
              <p:nvPr/>
            </p:nvCxnSpPr>
            <p:spPr>
              <a:xfrm>
                <a:off x="3317400" y="5058720"/>
                <a:ext cx="531000" cy="25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61" name=""/>
              <p:cNvSpPr/>
              <p:nvPr/>
            </p:nvSpPr>
            <p:spPr>
              <a:xfrm flipH="1">
                <a:off x="871560" y="4876560"/>
                <a:ext cx="807840" cy="368280"/>
              </a:xfrm>
              <a:prstGeom prst="rect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echnical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re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>
                <a:off x="837360" y="5803920"/>
                <a:ext cx="876600" cy="4190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bmitted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3" name=""/>
              <p:cNvCxnSpPr>
                <a:stCxn id="162" idx="1"/>
                <a:endCxn id="158" idx="1"/>
              </p:cNvCxnSpPr>
              <p:nvPr/>
            </p:nvCxnSpPr>
            <p:spPr>
              <a:xfrm>
                <a:off x="1714320" y="6011280"/>
                <a:ext cx="7642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4" name=""/>
              <p:cNvCxnSpPr>
                <a:stCxn id="162" idx="0"/>
                <a:endCxn id="161" idx="2"/>
              </p:cNvCxnSpPr>
              <p:nvPr/>
            </p:nvCxnSpPr>
            <p:spPr>
              <a:xfrm flipV="1">
                <a:off x="1275840" y="5242680"/>
                <a:ext cx="1080" cy="5612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65" name=""/>
              <p:cNvSpPr/>
              <p:nvPr/>
            </p:nvSpPr>
            <p:spPr>
              <a:xfrm flipH="1">
                <a:off x="837360" y="3975120"/>
                <a:ext cx="876600" cy="4190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hair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6" name=""/>
              <p:cNvCxnSpPr>
                <a:stCxn id="165" idx="1"/>
                <a:endCxn id="148" idx="1"/>
              </p:cNvCxnSpPr>
              <p:nvPr/>
            </p:nvCxnSpPr>
            <p:spPr>
              <a:xfrm>
                <a:off x="1714680" y="4182480"/>
                <a:ext cx="26388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67" name=""/>
              <p:cNvCxnSpPr>
                <a:stCxn id="165" idx="2"/>
                <a:endCxn id="161" idx="0"/>
              </p:cNvCxnSpPr>
              <p:nvPr/>
            </p:nvCxnSpPr>
            <p:spPr>
              <a:xfrm>
                <a:off x="1275840" y="4392000"/>
                <a:ext cx="1080" cy="484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68" name=""/>
              <p:cNvSpPr/>
              <p:nvPr/>
            </p:nvSpPr>
            <p:spPr>
              <a:xfrm flipH="1">
                <a:off x="3809160" y="5803920"/>
                <a:ext cx="876600" cy="4190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tact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fo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69" name=""/>
              <p:cNvCxnSpPr>
                <a:stCxn id="158" idx="3"/>
                <a:endCxn id="168" idx="3"/>
              </p:cNvCxnSpPr>
              <p:nvPr/>
            </p:nvCxnSpPr>
            <p:spPr>
              <a:xfrm>
                <a:off x="3285720" y="6011280"/>
                <a:ext cx="52416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170" name=""/>
              <p:cNvCxnSpPr>
                <a:stCxn id="168" idx="0"/>
                <a:endCxn id="150" idx="2"/>
              </p:cNvCxnSpPr>
              <p:nvPr/>
            </p:nvCxnSpPr>
            <p:spPr>
              <a:xfrm flipV="1">
                <a:off x="4248000" y="5244120"/>
                <a:ext cx="5760" cy="55980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71" name=""/>
              <p:cNvSpPr/>
              <p:nvPr/>
            </p:nvSpPr>
            <p:spPr>
              <a:xfrm flipH="1">
                <a:off x="4863240" y="6210360"/>
                <a:ext cx="876600" cy="419040"/>
              </a:xfrm>
              <a:prstGeom prst="diamond">
                <a:avLst/>
              </a:prstGeom>
              <a:noFill/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c0128"/>
                    </a:solidFill>
                    <a:latin typeface="Times New Roman"/>
                  </a:rPr>
                  <a:t>Review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72" name=""/>
              <p:cNvCxnSpPr>
                <a:stCxn id="149" idx="2"/>
                <a:endCxn id="171" idx="0"/>
              </p:cNvCxnSpPr>
              <p:nvPr/>
            </p:nvCxnSpPr>
            <p:spPr>
              <a:xfrm>
                <a:off x="5294160" y="5244840"/>
                <a:ext cx="8640" cy="966240"/>
              </a:xfrm>
              <a:prstGeom prst="straightConnector1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cxnSp>
            <p:nvCxnSpPr>
              <p:cNvPr id="173" name=""/>
              <p:cNvCxnSpPr>
                <a:stCxn id="158" idx="2"/>
                <a:endCxn id="171" idx="3"/>
              </p:cNvCxnSpPr>
              <p:nvPr/>
            </p:nvCxnSpPr>
            <p:spPr>
              <a:xfrm flipH="1" rot="16200000">
                <a:off x="3760560" y="5315400"/>
                <a:ext cx="222840" cy="1983240"/>
              </a:xfrm>
              <a:prstGeom prst="bentConnector2">
                <a:avLst/>
              </a:prstGeom>
              <a:ln w="12600">
                <a:solidFill>
                  <a:srgbClr val="fc0128"/>
                </a:solidFill>
                <a:miter/>
              </a:ln>
            </p:spPr>
          </p:cxnSp>
          <p:sp>
            <p:nvSpPr>
              <p:cNvPr id="174" name=""/>
              <p:cNvSpPr/>
              <p:nvPr/>
            </p:nvSpPr>
            <p:spPr>
              <a:xfrm flipH="1">
                <a:off x="1091520" y="464796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>
                <a:off x="4164840" y="394956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4152960" y="410832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H="1">
                <a:off x="2804760" y="55497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230480" y="458784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H="1">
                <a:off x="1201320" y="544824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>
                <a:off x="1281960" y="524484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H="1">
                <a:off x="2285280" y="577836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H="1">
                <a:off x="2028960" y="596412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H="1">
                <a:off x="2691720" y="558792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H="1">
                <a:off x="3656880" y="482580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619440" y="498456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H="1">
                <a:off x="4063320" y="524484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H="1">
                <a:off x="4176360" y="551808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H="1">
                <a:off x="3499560" y="5965560"/>
                <a:ext cx="93960" cy="9396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H="1">
                <a:off x="3288600" y="577836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>
                <a:off x="5295240" y="524484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c0128"/>
                    </a:solidFill>
                    <a:latin typeface="Times New Roman"/>
                  </a:rPr>
                  <a:t>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H="1">
                <a:off x="5246640" y="547200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H="1">
                <a:off x="2691720" y="619740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c0128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H="1">
                <a:off x="3009960" y="637200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648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H="1">
                <a:off x="6019920" y="3975120"/>
                <a:ext cx="876240" cy="419040"/>
              </a:xfrm>
              <a:prstGeom prst="diamond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ffiliated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ith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5" name=""/>
              <p:cNvCxnSpPr>
                <a:stCxn id="148" idx="3"/>
                <a:endCxn id="194" idx="3"/>
              </p:cNvCxnSpPr>
              <p:nvPr/>
            </p:nvCxnSpPr>
            <p:spPr>
              <a:xfrm>
                <a:off x="5160960" y="4182480"/>
                <a:ext cx="859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96" name=""/>
              <p:cNvSpPr/>
              <p:nvPr/>
            </p:nvSpPr>
            <p:spPr>
              <a:xfrm flipH="1">
                <a:off x="6054840" y="4876560"/>
                <a:ext cx="807840" cy="3682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197" name=""/>
              <p:cNvCxnSpPr>
                <a:stCxn id="194" idx="2"/>
                <a:endCxn id="196" idx="0"/>
              </p:cNvCxnSpPr>
              <p:nvPr/>
            </p:nvCxnSpPr>
            <p:spPr>
              <a:xfrm>
                <a:off x="6458040" y="4392000"/>
                <a:ext cx="2160" cy="4849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198" name=""/>
              <p:cNvSpPr/>
              <p:nvPr/>
            </p:nvSpPr>
            <p:spPr>
              <a:xfrm flipH="1">
                <a:off x="6464160" y="4647960"/>
                <a:ext cx="19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H="1">
                <a:off x="5155560" y="3949560"/>
                <a:ext cx="19044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372280" y="410832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H="1">
                <a:off x="6382800" y="4635360"/>
                <a:ext cx="150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" name=""/>
            <p:cNvSpPr/>
            <p:nvPr/>
          </p:nvSpPr>
          <p:spPr>
            <a:xfrm>
              <a:off x="838080" y="3581280"/>
              <a:ext cx="9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ption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0" algn="just">
              <a:spcBef>
                <a:spcPts val="349"/>
              </a:spcBef>
              <a:buNone/>
              <a:tabLst>
                <a:tab algn="l" pos="0"/>
                <a:tab algn="l" pos="627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ider the three schemas shown below. These schemas represent three views of a car repair shop and are to be integrated.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824120" y="685800"/>
            <a:ext cx="6267960" cy="2623320"/>
            <a:chOff x="1824120" y="685800"/>
            <a:chExt cx="6267960" cy="2623320"/>
          </a:xfrm>
        </p:grpSpPr>
        <p:sp>
          <p:nvSpPr>
            <p:cNvPr id="205" name=""/>
            <p:cNvSpPr/>
            <p:nvPr/>
          </p:nvSpPr>
          <p:spPr>
            <a:xfrm>
              <a:off x="3340800" y="3002040"/>
              <a:ext cx="3071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1. Administration Office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017040" y="695160"/>
              <a:ext cx="2075040" cy="90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ny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name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ehicle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odel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warran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rt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art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description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pplie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upplier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, city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1824120" y="685800"/>
              <a:ext cx="3601440" cy="2184480"/>
              <a:chOff x="1824120" y="685800"/>
              <a:chExt cx="3601440" cy="2184480"/>
            </a:xfrm>
          </p:grpSpPr>
          <p:sp>
            <p:nvSpPr>
              <p:cNvPr id="208" name=""/>
              <p:cNvSpPr/>
              <p:nvPr/>
            </p:nvSpPr>
            <p:spPr>
              <a:xfrm>
                <a:off x="3186000" y="685800"/>
                <a:ext cx="87588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Us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228760" y="1060200"/>
                <a:ext cx="18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582800" y="71100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ar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858680" y="711000"/>
                <a:ext cx="807840" cy="3682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ehic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824120" y="1619280"/>
                <a:ext cx="87588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nufactur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13" name=""/>
              <p:cNvCxnSpPr>
                <a:stCxn id="211" idx="3"/>
                <a:endCxn id="208" idx="1"/>
              </p:cNvCxnSpPr>
              <p:nvPr/>
            </p:nvCxnSpPr>
            <p:spPr>
              <a:xfrm>
                <a:off x="2666520" y="894960"/>
                <a:ext cx="5194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14" name=""/>
              <p:cNvCxnSpPr>
                <a:stCxn id="208" idx="3"/>
                <a:endCxn id="210" idx="1"/>
              </p:cNvCxnSpPr>
              <p:nvPr/>
            </p:nvCxnSpPr>
            <p:spPr>
              <a:xfrm>
                <a:off x="4061880" y="894960"/>
                <a:ext cx="520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215" name=""/>
              <p:cNvSpPr/>
              <p:nvPr/>
            </p:nvSpPr>
            <p:spPr>
              <a:xfrm>
                <a:off x="2228760" y="2290680"/>
                <a:ext cx="183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2626920" y="68724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427280" y="68724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1858680" y="2501640"/>
                <a:ext cx="80784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mpan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912920" y="2270160"/>
                <a:ext cx="15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84600" y="2501640"/>
                <a:ext cx="80748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549680" y="1619280"/>
                <a:ext cx="87588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upplied-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43160" y="229068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3" name=""/>
              <p:cNvCxnSpPr>
                <a:stCxn id="221" idx="2"/>
                <a:endCxn id="220" idx="0"/>
              </p:cNvCxnSpPr>
              <p:nvPr/>
            </p:nvCxnSpPr>
            <p:spPr>
              <a:xfrm>
                <a:off x="4987440" y="2037960"/>
                <a:ext cx="1800" cy="46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24" name=""/>
              <p:cNvCxnSpPr>
                <a:stCxn id="221" idx="0"/>
                <a:endCxn id="210" idx="2"/>
              </p:cNvCxnSpPr>
              <p:nvPr/>
            </p:nvCxnSpPr>
            <p:spPr>
              <a:xfrm flipV="1">
                <a:off x="4987440" y="1078920"/>
                <a:ext cx="1080" cy="540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225" name=""/>
              <p:cNvSpPr/>
              <p:nvPr/>
            </p:nvSpPr>
            <p:spPr>
              <a:xfrm>
                <a:off x="4943160" y="106020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322520" y="81900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25360" y="82080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28" name=""/>
              <p:cNvCxnSpPr>
                <a:stCxn id="212" idx="0"/>
                <a:endCxn id="211" idx="2"/>
              </p:cNvCxnSpPr>
              <p:nvPr/>
            </p:nvCxnSpPr>
            <p:spPr>
              <a:xfrm flipV="1">
                <a:off x="2261880" y="1078920"/>
                <a:ext cx="2160" cy="54072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29" name=""/>
              <p:cNvCxnSpPr>
                <a:stCxn id="212" idx="2"/>
                <a:endCxn id="218" idx="0"/>
              </p:cNvCxnSpPr>
              <p:nvPr/>
            </p:nvCxnSpPr>
            <p:spPr>
              <a:xfrm>
                <a:off x="2261880" y="2037960"/>
                <a:ext cx="2160" cy="46404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230" name=""/>
              <p:cNvSpPr/>
              <p:nvPr/>
            </p:nvSpPr>
            <p:spPr>
              <a:xfrm flipH="1">
                <a:off x="4912920" y="1349280"/>
                <a:ext cx="15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H="1">
                <a:off x="2187360" y="1349280"/>
                <a:ext cx="15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2187360" y="2270160"/>
                <a:ext cx="150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33" name=""/>
          <p:cNvGrpSpPr/>
          <p:nvPr/>
        </p:nvGrpSpPr>
        <p:grpSpPr>
          <a:xfrm>
            <a:off x="1751040" y="3683160"/>
            <a:ext cx="6413400" cy="1315080"/>
            <a:chOff x="1751040" y="3683160"/>
            <a:chExt cx="6413400" cy="1315080"/>
          </a:xfrm>
        </p:grpSpPr>
        <p:sp>
          <p:nvSpPr>
            <p:cNvPr id="234" name=""/>
            <p:cNvSpPr/>
            <p:nvPr/>
          </p:nvSpPr>
          <p:spPr>
            <a:xfrm>
              <a:off x="3108240" y="4691160"/>
              <a:ext cx="370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2. Customer Service Department vie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909800" y="4195800"/>
              <a:ext cx="609588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gistration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model, manufacturer-name, year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ustomer(name, address, phone#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ice(date, service-typ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51040" y="3683160"/>
              <a:ext cx="6413400" cy="455400"/>
              <a:chOff x="1751040" y="3683160"/>
              <a:chExt cx="6413400" cy="455400"/>
            </a:xfrm>
          </p:grpSpPr>
          <p:sp>
            <p:nvSpPr>
              <p:cNvPr id="237" name=""/>
              <p:cNvSpPr/>
              <p:nvPr/>
            </p:nvSpPr>
            <p:spPr>
              <a:xfrm flipH="1">
                <a:off x="3117960" y="371952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Has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hedule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751040" y="3745080"/>
                <a:ext cx="80784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ervic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7356600" y="3745080"/>
                <a:ext cx="807840" cy="368280"/>
              </a:xfrm>
              <a:prstGeom prst="rect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ustom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7149960" y="36831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075440" y="385272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5919840" y="371952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wned-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43" name=""/>
              <p:cNvCxnSpPr>
                <a:stCxn id="239" idx="1"/>
                <a:endCxn id="242" idx="1"/>
              </p:cNvCxnSpPr>
              <p:nvPr/>
            </p:nvCxnSpPr>
            <p:spPr>
              <a:xfrm flipH="1">
                <a:off x="6795720" y="3927240"/>
                <a:ext cx="5436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44" name=""/>
              <p:cNvCxnSpPr>
                <a:stCxn id="242" idx="3"/>
                <a:endCxn id="245" idx="3"/>
              </p:cNvCxnSpPr>
              <p:nvPr/>
            </p:nvCxnSpPr>
            <p:spPr>
              <a:xfrm flipH="1">
                <a:off x="5362200" y="3927240"/>
                <a:ext cx="5580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246" name=""/>
              <p:cNvSpPr/>
              <p:nvPr/>
            </p:nvSpPr>
            <p:spPr>
              <a:xfrm flipH="1">
                <a:off x="5359320" y="36831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4356000" y="36831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2565360" y="368316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73560" y="385272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640480" y="385272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4552200" y="3745080"/>
                <a:ext cx="808200" cy="36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51" name=""/>
              <p:cNvCxnSpPr>
                <a:stCxn id="238" idx="3"/>
                <a:endCxn id="237" idx="3"/>
              </p:cNvCxnSpPr>
              <p:nvPr/>
            </p:nvCxnSpPr>
            <p:spPr>
              <a:xfrm>
                <a:off x="2579400" y="3927240"/>
                <a:ext cx="53892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52" name=""/>
              <p:cNvCxnSpPr>
                <a:stCxn id="245" idx="1"/>
                <a:endCxn id="237" idx="1"/>
              </p:cNvCxnSpPr>
              <p:nvPr/>
            </p:nvCxnSpPr>
            <p:spPr>
              <a:xfrm flipH="1">
                <a:off x="3993840" y="3927240"/>
                <a:ext cx="5608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253" name=""/>
              <p:cNvSpPr/>
              <p:nvPr/>
            </p:nvSpPr>
            <p:spPr>
              <a:xfrm flipH="1">
                <a:off x="2790720" y="388296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1751040" y="5397480"/>
            <a:ext cx="6413400" cy="1310400"/>
            <a:chOff x="1751040" y="5397480"/>
            <a:chExt cx="6413400" cy="1310400"/>
          </a:xfrm>
        </p:grpSpPr>
        <p:sp>
          <p:nvSpPr>
            <p:cNvPr id="255" name=""/>
            <p:cNvSpPr/>
            <p:nvPr/>
          </p:nvSpPr>
          <p:spPr>
            <a:xfrm>
              <a:off x="3495240" y="6400800"/>
              <a:ext cx="2923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chema 3. Repair Department view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28840" y="5905440"/>
              <a:ext cx="5257800" cy="48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chanic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mp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name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em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tem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cost, supplier-nam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1"/>
                </a:spcBef>
                <a:tabLst>
                  <a:tab algn="l" pos="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(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license#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owner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orks-on(date, service-neede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7" name=""/>
            <p:cNvGrpSpPr/>
            <p:nvPr/>
          </p:nvGrpSpPr>
          <p:grpSpPr>
            <a:xfrm>
              <a:off x="1751040" y="5397480"/>
              <a:ext cx="6413400" cy="457200"/>
              <a:chOff x="1751040" y="5397480"/>
              <a:chExt cx="6413400" cy="457200"/>
            </a:xfrm>
          </p:grpSpPr>
          <p:sp>
            <p:nvSpPr>
              <p:cNvPr id="258" name=""/>
              <p:cNvSpPr/>
              <p:nvPr/>
            </p:nvSpPr>
            <p:spPr>
              <a:xfrm flipH="1">
                <a:off x="5919840" y="54356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quir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H="1">
                <a:off x="7356600" y="5460840"/>
                <a:ext cx="80784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te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5359320" y="53974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H="1">
                <a:off x="7162200" y="541008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117960" y="5435640"/>
                <a:ext cx="876240" cy="419040"/>
              </a:xfrm>
              <a:prstGeom prst="diamond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orks-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552920" y="5460840"/>
                <a:ext cx="80820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1751040" y="5460840"/>
                <a:ext cx="807840" cy="368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echani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65" name=""/>
              <p:cNvCxnSpPr>
                <a:stCxn id="264" idx="3"/>
                <a:endCxn id="262" idx="1"/>
              </p:cNvCxnSpPr>
              <p:nvPr/>
            </p:nvCxnSpPr>
            <p:spPr>
              <a:xfrm>
                <a:off x="2558520" y="5644800"/>
                <a:ext cx="55980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66" name=""/>
              <p:cNvCxnSpPr>
                <a:stCxn id="262" idx="3"/>
                <a:endCxn id="263" idx="1"/>
              </p:cNvCxnSpPr>
              <p:nvPr/>
            </p:nvCxnSpPr>
            <p:spPr>
              <a:xfrm>
                <a:off x="3994200" y="5644800"/>
                <a:ext cx="5590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267" name=""/>
              <p:cNvSpPr/>
              <p:nvPr/>
            </p:nvSpPr>
            <p:spPr>
              <a:xfrm>
                <a:off x="2565360" y="5410080"/>
                <a:ext cx="1843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361040" y="5410080"/>
                <a:ext cx="183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838600" y="5570640"/>
                <a:ext cx="0" cy="150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4226040" y="559764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cxnSp>
            <p:nvCxnSpPr>
              <p:cNvPr id="271" name=""/>
              <p:cNvCxnSpPr>
                <a:stCxn id="263" idx="3"/>
                <a:endCxn id="258" idx="3"/>
              </p:cNvCxnSpPr>
              <p:nvPr/>
            </p:nvCxnSpPr>
            <p:spPr>
              <a:xfrm flipV="1">
                <a:off x="5361120" y="5643360"/>
                <a:ext cx="559080" cy="216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cxnSp>
            <p:nvCxnSpPr>
              <p:cNvPr id="272" name=""/>
              <p:cNvCxnSpPr>
                <a:stCxn id="258" idx="1"/>
                <a:endCxn id="259" idx="1"/>
              </p:cNvCxnSpPr>
              <p:nvPr/>
            </p:nvCxnSpPr>
            <p:spPr>
              <a:xfrm>
                <a:off x="6795720" y="5643360"/>
                <a:ext cx="562680" cy="1080"/>
              </a:xfrm>
              <a:prstGeom prst="straightConnector1">
                <a:avLst/>
              </a:prstGeom>
              <a:ln w="12600">
                <a:solidFill>
                  <a:srgbClr val="000000"/>
                </a:solidFill>
                <a:miter/>
              </a:ln>
            </p:spPr>
          </p:cxnSp>
          <p:sp>
            <p:nvSpPr>
              <p:cNvPr id="273" name=""/>
              <p:cNvSpPr/>
              <p:nvPr/>
            </p:nvSpPr>
            <p:spPr>
              <a:xfrm flipH="1">
                <a:off x="5591880" y="5597640"/>
                <a:ext cx="9396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7029360" y="5597640"/>
                <a:ext cx="93600" cy="9360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29T21:47:45Z</dcterms:created>
  <dc:creator>Fred Lochovsky</dc:creator>
  <dc:description/>
  <dc:language>en-US</dc:language>
  <cp:lastModifiedBy>CCST</cp:lastModifiedBy>
  <cp:lastPrinted>2002-08-07T08:00:46Z</cp:lastPrinted>
  <dcterms:modified xsi:type="dcterms:W3CDTF">2002-08-07T08:16:43Z</dcterms:modified>
  <cp:revision>485</cp:revision>
  <dc:subject/>
  <dc:title>Tutorial</dc:title>
</cp:coreProperties>
</file>